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8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31B03-1665-46B7-B0A3-66B51C9B82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7286-FCC1-4750-96CB-0ABAF7EF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2271-3980-4BFC-99A4-F799F891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BA26-D44B-4027-B1D4-2A1B3140AA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E2E9-6C0B-40D0-BBD7-62E47853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B669-B46D-4812-B844-2B0F23E8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709E-410F-478D-9973-B96E922B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948B-3C89-474A-B8DE-72352B89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5580-F96C-40AC-84BC-4465AD17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6763-8E31-4AA5-A956-E4E2561B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B26D-42F6-42DC-8FA6-23F08D69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A93D-0D56-408F-961B-98974D26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19867-C59D-495C-A802-E62D6757B39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иродоведение 5 клас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92720" y="1599840"/>
            <a:ext cx="3851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Calibri"/>
              </a:rPr>
              <a:t>Презентация учителя экологии, биологии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Calibri"/>
              </a:rPr>
              <a:t>МКОУ СОШ №1 р.п. Дергач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Calibri"/>
              </a:rPr>
              <a:t>Печеновой Ларисы Васильевн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1376280"/>
            <a:ext cx="511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87560" y="4319640"/>
            <a:ext cx="1796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260-1050 в сек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- сопрано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519280" y="3776400"/>
            <a:ext cx="180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879640" y="4500720"/>
            <a:ext cx="540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8099280" y="3240000"/>
            <a:ext cx="1203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80-350 в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сек.- бас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640720" y="2876040"/>
            <a:ext cx="180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543640" y="41400"/>
            <a:ext cx="3600360" cy="2479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751200" y="2851200"/>
            <a:ext cx="3989520" cy="3989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60360" y="1440000"/>
            <a:ext cx="37483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Человек воспринимает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от 17- 20 тысяч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колебаний в секунду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1440000" y="3193920"/>
            <a:ext cx="413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Calibri"/>
              </a:rPr>
              <a:t>Инфразвук- ниже 17 колебани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Calibri"/>
              </a:rPr>
              <a:t>Ультразвук- выше 20тыс. колебаний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360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7120" y="3959280"/>
            <a:ext cx="5402160" cy="287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67440" y="3240000"/>
            <a:ext cx="3076560" cy="3527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602280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3366"/>
                </a:solidFill>
                <a:latin typeface="Calibri"/>
              </a:rPr>
              <a:t>                              </a:t>
            </a:r>
            <a:r>
              <a:rPr b="0" i="1" lang="ru-RU" sz="4400" spc="-1" strike="noStrike">
                <a:solidFill>
                  <a:srgbClr val="ff3366"/>
                </a:solidFill>
                <a:latin typeface="Calibri"/>
              </a:rPr>
              <a:t>Звуковые   явления наблюдаются как в живой, так и неживой природ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7600" y="3600360"/>
            <a:ext cx="4533840" cy="325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400720" y="3060720"/>
            <a:ext cx="3743280" cy="360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624720" y="179280"/>
            <a:ext cx="251928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            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095560" y="409680"/>
            <a:ext cx="4952880" cy="60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51480" y="3068640"/>
            <a:ext cx="11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</a:rPr>
              <a:t>§</a:t>
            </a:r>
            <a:r>
              <a:rPr b="0" lang="ru-RU" sz="4400" spc="-1" strike="noStrike">
                <a:solidFill>
                  <a:srgbClr val="3333cc"/>
                </a:solidFill>
                <a:latin typeface="Calibri"/>
              </a:rPr>
              <a:t>1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002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Материалы для презентации взяты из следующих источников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1.Учебник:Т.С.Сухова,В.И.Строганов. Природоведение 5 класс, М.:Вентана-Граф,201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2.Поисковая система Яндекс.</a:t>
            </a: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ru 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раздел картинк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067280" y="3933720"/>
            <a:ext cx="45687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20720" y="720720"/>
            <a:ext cx="7772400" cy="14698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Calibri"/>
              </a:rPr>
              <a:t>Звуковые явления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700360"/>
            <a:ext cx="5759640" cy="34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Что за звуки! Неподвижен внемлю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Сладким звукам я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Забываю вечность, небо, землю,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Самого себ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Всемогущий ! Что за звуки! Жадно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Сердце ловит их,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Как в пустыне путник безотрадный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Каплю вод живых!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М.Ю.Лермонтов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40360" y="3060720"/>
            <a:ext cx="2700360" cy="2949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444600"/>
            <a:ext cx="7405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Calibri"/>
              </a:rPr>
              <a:t>Мы живем в мире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света</a:t>
            </a:r>
            <a:r>
              <a:rPr b="0" lang="ru-RU" sz="2800" spc="-1" strike="noStrike">
                <a:solidFill>
                  <a:srgbClr val="00ff00"/>
                </a:solidFill>
                <a:latin typeface="Calibri"/>
              </a:rPr>
              <a:t> , красок и </a:t>
            </a:r>
            <a:r>
              <a:rPr b="0" lang="ru-RU" sz="2800" spc="-1" strike="noStrike">
                <a:solidFill>
                  <a:srgbClr val="dc2300"/>
                </a:solidFill>
                <a:latin typeface="Calibri"/>
              </a:rPr>
              <a:t>ЗВУКОВ</a:t>
            </a:r>
            <a:r>
              <a:rPr b="0" lang="ru-RU" sz="2400" spc="-1" strike="noStrike">
                <a:solidFill>
                  <a:srgbClr val="00ff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80000" y="5327640"/>
            <a:ext cx="3492720" cy="133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450120" y="3060720"/>
            <a:ext cx="2549520" cy="197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340000" y="4500720"/>
            <a:ext cx="3060720" cy="216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020000" y="1168560"/>
            <a:ext cx="1938240" cy="117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406760" y="1079640"/>
            <a:ext cx="2252880" cy="33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4000" y="2879640"/>
            <a:ext cx="2286000" cy="3810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800360" y="1260360"/>
            <a:ext cx="251928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6400" y="900000"/>
            <a:ext cx="43246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33"/>
                </a:solidFill>
                <a:latin typeface="Calibri"/>
              </a:rPr>
              <a:t>Какие явления называют звуковыми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5040360" y="4859280"/>
            <a:ext cx="31575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Какие насекомые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издают звук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2200320"/>
            <a:ext cx="4438800" cy="4278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80000" y="108000"/>
            <a:ext cx="34578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71720" y="900000"/>
            <a:ext cx="3108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олеблющиеся тел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чник зву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5360" y="1979640"/>
            <a:ext cx="3915000" cy="4619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19640" y="1508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76720" y="4140360"/>
            <a:ext cx="4824360" cy="270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Лабораторный опыт</a:t>
            </a:r>
            <a:br>
              <a:rPr sz="4400"/>
            </a:b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Может ли звук распространяться в твердых телах 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1079640" y="1619280"/>
            <a:ext cx="79945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 Проведем по зубцам расчески пальцем -колеблющиеся зубцы .........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Ударим пальцем по сильно натянутой нитке- колеблющаяся нитка .....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Приложим к уху один конец линейки и постучим о другой конец , то .....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0360" y="2879640"/>
            <a:ext cx="15415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alibri"/>
              </a:rPr>
              <a:t>Колебан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ff420e"/>
                </a:solidFill>
                <a:latin typeface="Calibri"/>
              </a:rPr>
              <a:t>те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324000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2076480" y="2854440"/>
            <a:ext cx="14716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alibri"/>
              </a:rPr>
              <a:t>Колебан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alibri"/>
              </a:rPr>
              <a:t>частиц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alibri"/>
              </a:rPr>
              <a:t>воздух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324000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959280" y="2879640"/>
            <a:ext cx="126360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Звукова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олн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5040360" y="3240000"/>
            <a:ext cx="539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5759280" y="3056040"/>
            <a:ext cx="729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deb3d"/>
                </a:solidFill>
                <a:latin typeface="Calibri"/>
              </a:rPr>
              <a:t>Ухо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6300720" y="3240000"/>
            <a:ext cx="539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6854760" y="2782800"/>
            <a:ext cx="16034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ff00"/>
                </a:solidFill>
                <a:latin typeface="Calibri"/>
              </a:rPr>
              <a:t>Колебан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ff00"/>
                </a:solidFill>
                <a:latin typeface="Calibri"/>
              </a:rPr>
              <a:t>барабанно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ff00"/>
                </a:solidFill>
                <a:latin typeface="Calibri"/>
              </a:rPr>
              <a:t>перепонк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116760" y="3780000"/>
            <a:ext cx="10857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5040360" y="4500720"/>
            <a:ext cx="1003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alibri"/>
              </a:rPr>
              <a:t>ЗВУК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5280" y="3924360"/>
            <a:ext cx="3780000" cy="2933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53272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952200"/>
            <a:ext cx="5219640" cy="29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Звуки распространяются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в твердых ,жидких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и газообразных телах,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служат источником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информации об окружающем мир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девушка" descr=""/>
          <p:cNvPicPr/>
          <p:nvPr/>
        </p:nvPicPr>
        <p:blipFill>
          <a:blip r:embed=""/>
          <a:stretch/>
        </p:blipFill>
        <p:spPr>
          <a:xfrm>
            <a:off x="5759280" y="291960"/>
            <a:ext cx="3237120" cy="4567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0360" y="3959280"/>
            <a:ext cx="5040360" cy="2681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759280" y="190440"/>
            <a:ext cx="3384720" cy="4670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20720" y="720720"/>
            <a:ext cx="47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ffff"/>
                </a:solidFill>
                <a:latin typeface="Calibri"/>
              </a:rPr>
              <a:t>Колебания характеризуются частотой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Редкие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</a:rPr>
              <a:t>колебания порождают </a:t>
            </a:r>
            <a:r>
              <a:rPr b="0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низкий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</a:rPr>
              <a:t>звук,  </a:t>
            </a:r>
            <a:r>
              <a:rPr b="0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частые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</a:rPr>
              <a:t> - </a:t>
            </a:r>
            <a:r>
              <a:rPr b="0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высокий</a:t>
            </a:r>
            <a:r>
              <a:rPr b="0" i="1" lang="ru-RU" sz="2200" spc="-1" strike="noStrike" u="sng">
                <a:solidFill>
                  <a:srgbClr val="ffff00"/>
                </a:solidFill>
                <a:uFillTx/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119640" y="3780000"/>
            <a:ext cx="282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600 колебаний в секунду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80360" y="3416400"/>
            <a:ext cx="1440" cy="36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5400720"/>
            <a:ext cx="282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240 колебаний в секунду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97480" y="5580000"/>
            <a:ext cx="185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2179800"/>
            <a:ext cx="5219640" cy="4479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8-21T11:30:48Z</dcterms:modified>
  <cp:revision>24</cp:revision>
  <dc:subject/>
  <dc:title>Рельеф Земли</dc:title>
</cp:coreProperties>
</file>