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1C353-88AB-4C60-8FE0-012741295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F4F8B-015E-407F-B231-93A065FC2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DF01D-CD90-4630-8ACD-CF345ADBF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8073C-5219-475E-B6D1-D35DD66A8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674A9-451A-464A-9FA8-35BC62DE8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FE98E-2BF5-4BD7-9FAA-633A6F0FD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F3EBE-F6A2-446C-8C70-020754332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6EFE2-9235-4587-AE29-AD0E3FEC2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7F290-3423-4D8F-A488-D1727B71D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F2C0B-CB84-46B1-A278-BAEE2DF7C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5D1AA-633D-4C15-80E0-3DA90617A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B9467-EBD7-45DF-BBB4-D78538C1E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1ff"/>
            </a:gs>
            <a:gs pos="100000">
              <a:srgbClr val="9494d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996A-C3A7-4CBB-A5D0-86C7FEC2D7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restoraka.ru/kofe-chto-eto-i-s-chem-ego-edyat.php" TargetMode="External"/><Relationship Id="rId2" Type="http://schemas.openxmlformats.org/officeDocument/2006/relationships/hyperlink" Target="http://restoraka.ru/kofe-chto-eto-i-s-chem-ego-edyat.php"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494dc"/>
            </a:gs>
            <a:gs pos="50000">
              <a:srgbClr val="e1e1ff"/>
            </a:gs>
            <a:gs pos="100000">
              <a:srgbClr val="9494dc"/>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Десять мифов о русском языке</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78920" y="6451200"/>
            <a:ext cx="4753080" cy="40644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0066"/>
                </a:solidFill>
                <a:latin typeface="Times New Roman"/>
              </a:rPr>
              <a:t>Автор: Байбакова Ю. В., МБОУ СОШ №190</a:t>
            </a:r>
            <a:endParaRPr b="0" lang="en-US" sz="1600" spc="-1" strike="noStrike">
              <a:solidFill>
                <a:srgbClr val="000000"/>
              </a:solidFill>
              <a:latin typeface="Arial"/>
            </a:endParaRPr>
          </a:p>
        </p:txBody>
      </p:sp>
      <p:pic>
        <p:nvPicPr>
          <p:cNvPr id="43" name="" descr=""/>
          <p:cNvPicPr/>
          <p:nvPr/>
        </p:nvPicPr>
        <p:blipFill>
          <a:blip r:embed="rId1"/>
          <a:stretch/>
        </p:blipFill>
        <p:spPr>
          <a:xfrm>
            <a:off x="2916360" y="1484280"/>
            <a:ext cx="3195360" cy="469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716360" y="3648240"/>
            <a:ext cx="4176720" cy="3209760"/>
          </a:xfrm>
          <a:prstGeom prst="rect">
            <a:avLst/>
          </a:prstGeom>
          <a:ln w="0">
            <a:noFill/>
          </a:ln>
        </p:spPr>
      </p:pic>
      <p:sp>
        <p:nvSpPr>
          <p:cNvPr id="65"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Слово «кушать» говорят только невоспитанные люди</a:t>
            </a: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178920" y="1413000"/>
            <a:ext cx="8518680" cy="4525920"/>
          </a:xfrm>
          <a:prstGeom prst="rect">
            <a:avLst/>
          </a:prstGeom>
          <a:noFill/>
          <a:ln w="0">
            <a:noFill/>
          </a:ln>
        </p:spPr>
        <p:txBody>
          <a:bodyPr lIns="90000" rIns="90000" tIns="46800" bIns="46800"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66"/>
                </a:solidFill>
                <a:latin typeface="Arial"/>
                <a:ea typeface="Times New Roman"/>
              </a:rPr>
              <a:t>Была такая рекомендация в словаре речевого этикета, согласно которой можно употреблять этот глагол по отношению к детям, так могут говорить о себе женщины, но не должны говорить мужчины.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ea typeface="Times New Roman"/>
              </a:rPr>
              <a:t>Не знаю, насколько она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ea typeface="Times New Roman"/>
              </a:rPr>
              <a:t>справедлива, но она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ea typeface="Times New Roman"/>
              </a:rPr>
              <a:t>есть — в качестве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ea typeface="Times New Roman"/>
              </a:rPr>
              <a:t>простой рекомендац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66"/>
                                        </p:tgtEl>
                                        <p:attrNameLst>
                                          <p:attrName>style.visibility</p:attrName>
                                        </p:attrNameLst>
                                      </p:cBhvr>
                                      <p:to>
                                        <p:strVal val="visible"/>
                                      </p:to>
                                    </p:set>
                                    <p:animEffect filter="checkerboard(across)" transition="in">
                                      <p:cBhvr additive="repl">
                                        <p:cTn id="59"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1ff"/>
            </a:gs>
            <a:gs pos="100000">
              <a:srgbClr val="9494dc"/>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Arial"/>
              </a:rPr>
              <a:t>Местоимение «вы» всегда пишется с большой буквы</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108000" y="1341360"/>
            <a:ext cx="9036000" cy="5183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66"/>
                </a:solidFill>
                <a:latin typeface="Arial"/>
                <a:ea typeface="Times New Roman"/>
              </a:rPr>
              <a:t>На самом деле «вы» пишется с заглавной буквы только при обращении к одному лицу и только в текстах определенных жанров: личные письма, служебные записки, листовки. Это, кстати, и для филологов не всегда очевидно. На Грамоте.ру есть раздел «Календарь конференций», куда приходят заявки от пользователей портала, и почти в каждом объяснении приходится править, потому что обращение к уважаемым коллегам включает местоимение «вы» с прописной букв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8" presetSubtype="6">
                                  <p:stCondLst>
                                    <p:cond delay="0"/>
                                  </p:stCondLst>
                                  <p:childTnLst>
                                    <p:set>
                                      <p:cBhvr>
                                        <p:cTn id="65" dur="1" fill="hold">
                                          <p:stCondLst>
                                            <p:cond delay="0"/>
                                          </p:stCondLst>
                                        </p:cTn>
                                        <p:tgtEl>
                                          <p:spTgt spid="68"/>
                                        </p:tgtEl>
                                        <p:attrNameLst>
                                          <p:attrName>style.visibility</p:attrName>
                                        </p:attrNameLst>
                                      </p:cBhvr>
                                      <p:to>
                                        <p:strVal val="visible"/>
                                      </p:to>
                                    </p:set>
                                    <p:animEffect filter="strips(downRight)" transition="in">
                                      <p:cBhvr additive="repl">
                                        <p:cTn id="6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020000" y="0"/>
            <a:ext cx="2305080" cy="1728720"/>
          </a:xfrm>
          <a:prstGeom prst="rect">
            <a:avLst/>
          </a:prstGeom>
          <a:ln w="0">
            <a:noFill/>
          </a:ln>
        </p:spPr>
      </p:pic>
      <p:sp>
        <p:nvSpPr>
          <p:cNvPr id="70" name="PlaceHolder 1"/>
          <p:cNvSpPr>
            <a:spLocks noGrp="1"/>
          </p:cNvSpPr>
          <p:nvPr>
            <p:ph type="title"/>
          </p:nvPr>
        </p:nvSpPr>
        <p:spPr>
          <a:xfrm>
            <a:off x="-360" y="260280"/>
            <a:ext cx="82184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Электронные словари менее надежны, чем печатные</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6000"/>
          </a:bodyPr>
          <a:p>
            <a:pPr marL="329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66"/>
                </a:solidFill>
                <a:latin typeface="Arial"/>
                <a:ea typeface="Times New Roman"/>
              </a:rPr>
              <a:t>На сайте Грамота.ру выкладываются электронные версии печатных словарей — это один и тот же материал. У нас по объективным причинам есть случаи расхождения в рекомендациях. Допустим, часто спрашивают, как ставить ударение в слове «тирамису». Раньше мы отвечали, что норма словарно не определена, и так как это слово не устоявшееся, вы имеете право выбрать тот вариант, который вам больше нравится. Вышло академическое издание орфографического словаря 2012 года, и там зафиксировано «тирамису» с ударением на последнем слоге. То есть теперь, когда это слово получило прописку в языке и словарную фиксацию, мы станем отвечать по-другому. Но, допустим, для слова «руккола» такой фиксации еще нет. Колебания в написании недавно заимствованных слов — это вполне естественно для языка. То же касается слов twitter, facebook и прочих. До сих пор не определено, как их писать. Я бы писал по-разному: в статье написал бы «Фейсбук», используя кавычки и прописную букву, а в чате — со строчной и без кавычек.</a:t>
            </a:r>
            <a:r>
              <a:rPr b="0" lang="ru-RU" sz="2000" spc="-1" strike="noStrike">
                <a:solidFill>
                  <a:srgbClr val="000066"/>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71">
                                            <p:txEl>
                                              <p:pRg st="0" end="0"/>
                                            </p:txEl>
                                          </p:spTgt>
                                        </p:tgtEl>
                                        <p:attrNameLst>
                                          <p:attrName>style.visibility</p:attrName>
                                        </p:attrNameLst>
                                      </p:cBhvr>
                                      <p:to>
                                        <p:strVal val="visible"/>
                                      </p:to>
                                    </p:set>
                                    <p:animEffect filter="checkerboard(across)" transition="in">
                                      <p:cBhvr additive="repl">
                                        <p:cTn id="73"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1ff"/>
            </a:gs>
            <a:gs pos="100000">
              <a:srgbClr val="9494dc"/>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Источники:</a:t>
            </a:r>
            <a:endParaRPr b="0" lang="en-US" sz="4400" spc="-1" strike="noStrike">
              <a:solidFill>
                <a:srgbClr val="000000"/>
              </a:solidFill>
              <a:latin typeface="Arial"/>
            </a:endParaRPr>
          </a:p>
        </p:txBody>
      </p:sp>
      <p:sp>
        <p:nvSpPr>
          <p:cNvPr id="73"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cc"/>
                </a:solidFill>
                <a:latin typeface="Arial"/>
              </a:rPr>
              <a:t>Стать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http://www.adme.ru/russkij-yazyk/10-mifov-o-russkom-yazyke-46370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cc"/>
                </a:solidFill>
                <a:latin typeface="Arial"/>
              </a:rPr>
              <a:t>Рисунк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1"/>
              </a:rPr>
              <a:t>http</a:t>
            </a:r>
            <a:r>
              <a:rPr b="0" lang="ru-RU" sz="2400" spc="-1" strike="noStrike" u="sng">
                <a:solidFill>
                  <a:srgbClr val="009999"/>
                </a:solidFill>
                <a:uFillTx/>
                <a:latin typeface="Arial"/>
                <a:hlinkClick r:id="rId2"/>
              </a:rPr>
              <a:t>://restoraka.ru/kofe-chto-eto-i-s-chem-ego-edyat.ph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http://www.iitb.ac.in/campus/telephone.htm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http://varrezz.blogspot.ru/2012/11/cgmap-cgmap.htm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http://ru.cutcaster.com/vector/100926765-People-in-que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http://read.rostovmama.ru/articles/568/</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http://marmore-text.ru/slovar-kopirajtera-ot-a-do-ya.ht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494dc"/>
            </a:gs>
            <a:gs pos="50000">
              <a:srgbClr val="e1e1ff"/>
            </a:gs>
            <a:gs pos="100000">
              <a:srgbClr val="9494dc"/>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24000" y="549000"/>
            <a:ext cx="8362800" cy="5576760"/>
          </a:xfrm>
          <a:prstGeom prst="rect">
            <a:avLst/>
          </a:prstGeom>
          <a:noFill/>
          <a:ln w="0">
            <a:noFill/>
          </a:ln>
        </p:spPr>
        <p:txBody>
          <a:bodyPr lIns="90000" rIns="90000" tIns="46800" bIns="46800" anchor="t">
            <a:normAutofit/>
          </a:bodyPr>
          <a:p>
            <a:pPr marL="3430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	</a:t>
            </a:r>
            <a:r>
              <a:rPr b="1" lang="en-US" sz="5400" spc="-1" strike="noStrike">
                <a:solidFill>
                  <a:srgbClr val="6600cc"/>
                </a:solidFill>
                <a:latin typeface="Arial"/>
              </a:rPr>
              <a:t>Какого рода «кофе», следует ли писать «президент» с большой буквы и прилично ли говорить «кушать» вместо «есть»…</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ebc9a"/>
            </a:gs>
            <a:gs pos="50000">
              <a:srgbClr val="f1e2d3"/>
            </a:gs>
            <a:gs pos="100000">
              <a:srgbClr val="debc9a"/>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259920"/>
            <a:ext cx="6202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3300"/>
                </a:solidFill>
                <a:latin typeface="Arial"/>
              </a:rPr>
              <a:t>Кофе</a:t>
            </a:r>
            <a:endParaRPr b="0" lang="en-US" sz="4800" spc="-1" strike="noStrike">
              <a:solidFill>
                <a:srgbClr val="000000"/>
              </a:solidFill>
              <a:latin typeface="Arial"/>
            </a:endParaRPr>
          </a:p>
        </p:txBody>
      </p:sp>
      <p:sp>
        <p:nvSpPr>
          <p:cNvPr id="46" name="PlaceHolder 2"/>
          <p:cNvSpPr>
            <a:spLocks noGrp="1"/>
          </p:cNvSpPr>
          <p:nvPr>
            <p:ph/>
          </p:nvPr>
        </p:nvSpPr>
        <p:spPr>
          <a:xfrm>
            <a:off x="250920" y="1628280"/>
            <a:ext cx="8642160" cy="5040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imes New Roman"/>
              </a:rPr>
              <a:t>Кофе — заимствованное слово,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imes New Roman"/>
              </a:rPr>
              <a:t>заканчивающееся на букву «е», но мужского род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imes New Roman"/>
              </a:rPr>
              <a:t>В огромном большинстве такие слова приобретаю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imes New Roman"/>
              </a:rPr>
              <a:t>в нашем языке средний род — так уж он устроен, и эт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imes New Roman"/>
              </a:rPr>
              <a:t>тенденция необыкновенно сильна. Например, «метро»</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imes New Roman"/>
              </a:rPr>
              <a:t>было раньше тоже мужского рода (от «метрополитен»),</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imes New Roman"/>
              </a:rPr>
              <a:t>даже выходила газета «Советский метро». Дл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imes New Roman"/>
              </a:rPr>
              <a:t>иностранцев всегда загадка, почему в русском языке</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imes New Roman"/>
              </a:rPr>
              <a:t>«кафе» среднего рода, а «кофе» — мужского.</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imes New Roman"/>
              </a:rPr>
              <a:t>Но мужской род поддерживается наличием устарелых</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imes New Roman"/>
              </a:rPr>
              <a:t>форм «кофий» и «кофей». Такой своеобразны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imes New Roman"/>
              </a:rPr>
              <a:t>языковый мемориал.</a:t>
            </a:r>
            <a:endParaRPr b="0" lang="en-US" sz="2400" spc="-1" strike="noStrike">
              <a:solidFill>
                <a:srgbClr val="000000"/>
              </a:solidFill>
              <a:latin typeface="Arial"/>
            </a:endParaRPr>
          </a:p>
        </p:txBody>
      </p:sp>
      <p:pic>
        <p:nvPicPr>
          <p:cNvPr id="47" name="" descr=""/>
          <p:cNvPicPr/>
          <p:nvPr/>
        </p:nvPicPr>
        <p:blipFill>
          <a:blip r:embed="rId1"/>
          <a:stretch/>
        </p:blipFill>
        <p:spPr>
          <a:xfrm>
            <a:off x="6443640" y="18900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0" fill="hold"/>
                                        <p:tgtEl>
                                          <p:spTgt spid="46"/>
                                        </p:tgtEl>
                                        <p:attrNameLst>
                                          <p:attrName>ppt_x</p:attrName>
                                        </p:attrNameLst>
                                      </p:cBhvr>
                                      <p:tavLst>
                                        <p:tav tm="0">
                                          <p:val>
                                            <p:strVal val="#ppt_x"/>
                                          </p:val>
                                        </p:tav>
                                        <p:tav tm="100000">
                                          <p:val>
                                            <p:strVal val="#ppt_x"/>
                                          </p:val>
                                        </p:tav>
                                      </p:tavLst>
                                    </p:anim>
                                    <p:anim calcmode="lin" valueType="num">
                                      <p:cBhvr additive="base">
                                        <p:cTn id="8" dur="50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1ff"/>
            </a:gs>
            <a:gs pos="100000">
              <a:srgbClr val="9494dc"/>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360"/>
            <a:ext cx="64198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0066"/>
                </a:solidFill>
                <a:latin typeface="Arial"/>
              </a:rPr>
              <a:t>«в Строгине»</a:t>
            </a:r>
            <a:endParaRPr b="0" lang="en-US" sz="4400" spc="-1" strike="noStrike">
              <a:solidFill>
                <a:srgbClr val="000000"/>
              </a:solidFill>
              <a:latin typeface="Arial"/>
            </a:endParaRPr>
          </a:p>
        </p:txBody>
      </p:sp>
      <p:sp>
        <p:nvSpPr>
          <p:cNvPr id="49" name="PlaceHolder 2"/>
          <p:cNvSpPr>
            <a:spLocks noGrp="1"/>
          </p:cNvSpPr>
          <p:nvPr>
            <p:ph/>
          </p:nvPr>
        </p:nvSpPr>
        <p:spPr>
          <a:xfrm>
            <a:off x="0" y="907560"/>
            <a:ext cx="9144000" cy="5473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66"/>
                </a:solidFill>
                <a:latin typeface="Times New Roman"/>
              </a:rPr>
              <a:t>Анна Ахматова сильно возмущалась, когда при ней говорили «я живу в Кратово» вместо «я живу в Кратове». Другой литератор предлагал всем, кто говорит «из Кемерово», по такому же образцу говорить «из окно». Видимо, за то десятилетие, за которое распространился новый несклоняемый вариант, мы успели забыть о том, что это правило всегда звучало иначе. Несклоняемые названия населенных пунктов возникли из языка военных, которым важно было давать начальные формы в сообщении. Возьмем, допустим, то же Кратово — из склонения «в Кратове» не ясно, Кратов это или Кратово. Один из наиболее авторитетных словарей сегодня, словарь Зализняка, пишет о несклоняемой форме так: «степень распространенности этого явления так велика, что, по-видимому, оно уже приближается к статусу допустимо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15"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3970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cc"/>
                </a:solidFill>
                <a:latin typeface="Arial"/>
              </a:rPr>
              <a:t>«звОнить»</a:t>
            </a:r>
            <a:br>
              <a:rPr sz="4400"/>
            </a:br>
            <a:endParaRPr b="0" lang="en-US" sz="4400" spc="-1" strike="noStrike">
              <a:solidFill>
                <a:srgbClr val="000000"/>
              </a:solidFill>
              <a:latin typeface="Arial"/>
            </a:endParaRPr>
          </a:p>
        </p:txBody>
      </p:sp>
      <p:sp>
        <p:nvSpPr>
          <p:cNvPr id="51" name="PlaceHolder 2"/>
          <p:cNvSpPr>
            <a:spLocks noGrp="1"/>
          </p:cNvSpPr>
          <p:nvPr>
            <p:ph/>
          </p:nvPr>
        </p:nvSpPr>
        <p:spPr>
          <a:xfrm>
            <a:off x="250560" y="1268280"/>
            <a:ext cx="8569080" cy="54007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Times New Roman"/>
              </a:rPr>
              <a:t>«Звонит» — этот жупел возникает в любой</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Times New Roman"/>
              </a:rPr>
              <a:t>тематической дискуссии. Есть логика,</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Times New Roman"/>
              </a:rPr>
              <a:t>по которой в языке смещаются ударения, и,</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Times New Roman"/>
              </a:rPr>
              <a:t>хотим мы того или нет, эти законы работают.</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Times New Roman"/>
              </a:rPr>
              <a:t>Перенос ударения с окончания на корень</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Times New Roman"/>
              </a:rPr>
              <a:t>закономерен — «куришь», «варишь» и «даришь»</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Times New Roman"/>
              </a:rPr>
              <a:t>раньше тоже произносились с ударениями</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Times New Roman"/>
              </a:rPr>
              <a:t>на последний слог, просто они этот путь уже</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Times New Roman"/>
              </a:rPr>
              <a:t>прошли.</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Times New Roman"/>
              </a:rPr>
              <a:t>Несмотря на то, что это злит всех очень сильно,</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Times New Roman"/>
              </a:rPr>
              <a:t>мы действительно в будущем будем говорить</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Times New Roman"/>
              </a:rPr>
              <a:t>«звОним».</a:t>
            </a:r>
            <a:endParaRPr b="0" lang="en-US" sz="2800" spc="-1" strike="noStrike">
              <a:solidFill>
                <a:srgbClr val="000000"/>
              </a:solidFill>
              <a:latin typeface="Arial"/>
            </a:endParaRPr>
          </a:p>
        </p:txBody>
      </p:sp>
      <p:pic>
        <p:nvPicPr>
          <p:cNvPr id="52" name="" descr=""/>
          <p:cNvPicPr/>
          <p:nvPr/>
        </p:nvPicPr>
        <p:blipFill>
          <a:blip r:embed="rId1"/>
          <a:stretch/>
        </p:blipFill>
        <p:spPr>
          <a:xfrm>
            <a:off x="7164360" y="189000"/>
            <a:ext cx="1798560" cy="179856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8" presetSubtype="6">
                                  <p:stCondLst>
                                    <p:cond delay="0"/>
                                  </p:stCondLst>
                                  <p:childTnLst>
                                    <p:set>
                                      <p:cBhvr>
                                        <p:cTn id="21" dur="1" fill="hold">
                                          <p:stCondLst>
                                            <p:cond delay="0"/>
                                          </p:stCondLst>
                                        </p:cTn>
                                        <p:tgtEl>
                                          <p:spTgt spid="51"/>
                                        </p:tgtEl>
                                        <p:attrNameLst>
                                          <p:attrName>style.visibility</p:attrName>
                                        </p:attrNameLst>
                                      </p:cBhvr>
                                      <p:to>
                                        <p:strVal val="visible"/>
                                      </p:to>
                                    </p:set>
                                    <p:animEffect filter="strips(downRight)" transition="in">
                                      <p:cBhvr additive="repl">
                                        <p:cTn id="22"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ebc9a"/>
            </a:gs>
            <a:gs pos="50000">
              <a:srgbClr val="f1e2d3"/>
            </a:gs>
            <a:gs pos="100000">
              <a:srgbClr val="debc9a"/>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65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Arial"/>
              </a:rPr>
              <a:t>Президент и Патриарх</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0" y="1052280"/>
            <a:ext cx="9036000" cy="4321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На самом деле с прописных эти слова пишутся только при официальном титуловании, в текстах официальных документах. Например, в тексте Указа Президента Российской Федерации это слово пишется с большой буквы. А в газетной статье нет никаких оснований для этого, и нужно писать со строчной. Еще очень живуч миф, что «день рождения», поздравляя человека, нужно писать с двух больших букв — нет, оба слова пишутся с маленьких. </a:t>
            </a:r>
            <a:endParaRPr b="0" lang="en-US" sz="2800" spc="-1" strike="noStrike">
              <a:solidFill>
                <a:srgbClr val="000000"/>
              </a:solidFill>
              <a:latin typeface="Arial"/>
            </a:endParaRPr>
          </a:p>
        </p:txBody>
      </p:sp>
      <p:pic>
        <p:nvPicPr>
          <p:cNvPr id="55" name="" descr=""/>
          <p:cNvPicPr/>
          <p:nvPr/>
        </p:nvPicPr>
        <p:blipFill>
          <a:blip r:embed="rId1"/>
          <a:stretch/>
        </p:blipFill>
        <p:spPr>
          <a:xfrm>
            <a:off x="2987640" y="5102280"/>
            <a:ext cx="3097080" cy="17557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7" presetSubtype="4">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 calcmode="lin" valueType="num">
                                      <p:cBhvr additive="base">
                                        <p:cTn id="29" dur="5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30" dur="50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lum bright="70000" contrast="-70000"/>
          </a:blip>
          <a:stretch/>
        </p:blipFill>
        <p:spPr>
          <a:xfrm>
            <a:off x="108000" y="836640"/>
            <a:ext cx="8748720" cy="5929200"/>
          </a:xfrm>
          <a:prstGeom prst="rect">
            <a:avLst/>
          </a:prstGeom>
          <a:ln w="0">
            <a:noFill/>
          </a:ln>
        </p:spPr>
      </p:pic>
      <p:sp>
        <p:nvSpPr>
          <p:cNvPr id="57"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в Украине»</a:t>
            </a:r>
            <a:endParaRPr b="0" lang="en-US" sz="4400" spc="-1" strike="noStrike">
              <a:solidFill>
                <a:srgbClr val="000000"/>
              </a:solidFill>
              <a:latin typeface="Arial"/>
            </a:endParaRPr>
          </a:p>
        </p:txBody>
      </p:sp>
      <p:sp>
        <p:nvSpPr>
          <p:cNvPr id="58" name="PlaceHolder 2"/>
          <p:cNvSpPr>
            <a:spLocks noGrp="1"/>
          </p:cNvSpPr>
          <p:nvPr>
            <p:ph/>
          </p:nvPr>
        </p:nvSpPr>
        <p:spPr>
          <a:xfrm>
            <a:off x="179280" y="1052640"/>
            <a:ext cx="8640720" cy="5805360"/>
          </a:xfrm>
          <a:prstGeom prst="rect">
            <a:avLst/>
          </a:prstGeom>
          <a:noFill/>
          <a:ln w="0">
            <a:noFill/>
          </a:ln>
        </p:spPr>
        <p:txBody>
          <a:bodyPr lIns="90000" rIns="90000" tIns="46800" bIns="46800" anchor="t">
            <a:normAutofit fontScale="99000"/>
          </a:bodyPr>
          <a:p>
            <a:pPr marL="3394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600" spc="-1" strike="noStrike">
                <a:solidFill>
                  <a:srgbClr val="000066"/>
                </a:solidFill>
                <a:latin typeface="Arial"/>
                <a:ea typeface="Times New Roman"/>
              </a:rPr>
              <a:t>Это очень болезненный вопрос, и он постоянно выходит за рамки лингвистики. Мы придерживаемся такой позиции: нормы русского языка складываются столетиями, и они не могут за пять, десять или двадцать лет измениться в угоду каким-то политическим процессам. Поэтому по-русски правильно говорить «на Украину». Вообще, образование предлогов не всегда поддается объяснению. Почему, например «в школе», но «на заводе»? Так сложилось. Это многим не нравится, всем надо докопаться до сути. «Всему должно быть объяснение» — это еще один миф, очень многие вещи в языке нельзя объяснить.</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58">
                                            <p:txEl>
                                              <p:pRg st="0" end="0"/>
                                            </p:txEl>
                                          </p:spTgt>
                                        </p:tgtEl>
                                        <p:attrNameLst>
                                          <p:attrName>style.visibility</p:attrName>
                                        </p:attrNameLst>
                                      </p:cBhvr>
                                      <p:to>
                                        <p:strVal val="visible"/>
                                      </p:to>
                                    </p:set>
                                    <p:animEffect filter="checkerboard(across)" transition="in">
                                      <p:cBhvr additive="repl">
                                        <p:cTn id="37"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1ff"/>
            </a:gs>
            <a:gs pos="100000">
              <a:srgbClr val="9494dc"/>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Arial"/>
              </a:rPr>
              <a:t>Всегда должен быть один правильный вариант</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0" y="1599840"/>
            <a:ext cx="8964720" cy="5257800"/>
          </a:xfrm>
          <a:prstGeom prst="rect">
            <a:avLst/>
          </a:prstGeom>
          <a:noFill/>
          <a:ln w="0">
            <a:noFill/>
          </a:ln>
        </p:spPr>
        <p:txBody>
          <a:bodyPr lIns="90000" rIns="90000" tIns="46800" bIns="46800" anchor="t">
            <a:normAutofit fontScale="93000"/>
          </a:bodyPr>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200" spc="-1" strike="noStrike">
                <a:solidFill>
                  <a:srgbClr val="000066"/>
                </a:solidFill>
                <a:latin typeface="Arial"/>
                <a:ea typeface="Times New Roman"/>
              </a:rPr>
              <a:t>Нехорошо, когда есть две нормы, как в случае со словом «творог». Это</a:t>
            </a:r>
            <a:r>
              <a:rPr b="0" lang="ru-RU" sz="2200" spc="-1" strike="noStrike">
                <a:solidFill>
                  <a:srgbClr val="000066"/>
                </a:solidFill>
                <a:latin typeface="Arial"/>
              </a:rPr>
              <a:t> </a:t>
            </a:r>
            <a:r>
              <a:rPr b="0" lang="ru-RU" sz="2200" spc="-1" strike="noStrike">
                <a:solidFill>
                  <a:srgbClr val="000066"/>
                </a:solidFill>
                <a:latin typeface="Arial"/>
                <a:ea typeface="Times New Roman"/>
              </a:rPr>
              <a:t>очень распространенный миф. Вариантность — это ни в коем случае не изъян для языка, наоборот, это его богатство. И ведь варианты бывают разные. Есть варианты равноправные, как в случае с творогом. Есть варианты категории «предпочтительный/допустимый», «современный/устаревший», и даже для ошибок в словарях есть свои градации. В орфоэпическом словаре, в словаре трудностей есть четкая система помет на этот счет. Допустим, нерекомендуемый вариант — «вандал», например. Есть неправильные варианты, есть грубо неправильные. Подход, при котором считается, что нужен только один вариант, характерен для словарей, адресованных работникам радио и телевидения. Есть словари, которые нацелены именно на то, чтобы показать динамику изменений и богатство норм языка. Словарь — это ведь не учебник, он не должен фиксировать единственно возможные варианты.</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8" presetSubtype="6">
                                  <p:stCondLst>
                                    <p:cond delay="0"/>
                                  </p:stCondLst>
                                  <p:childTnLst>
                                    <p:set>
                                      <p:cBhvr>
                                        <p:cTn id="43" dur="1" fill="hold">
                                          <p:stCondLst>
                                            <p:cond delay="0"/>
                                          </p:stCondLst>
                                        </p:cTn>
                                        <p:tgtEl>
                                          <p:spTgt spid="60"/>
                                        </p:tgtEl>
                                        <p:attrNameLst>
                                          <p:attrName>style.visibility</p:attrName>
                                        </p:attrNameLst>
                                      </p:cBhvr>
                                      <p:to>
                                        <p:strVal val="visible"/>
                                      </p:to>
                                    </p:set>
                                    <p:animEffect filter="strips(downRight)" transition="in">
                                      <p:cBhvr additive="repl">
                                        <p:cTn id="4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Вместо «кто последний» нужно говорить «кто крайний»</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2" name="PlaceHolder 2"/>
          <p:cNvSpPr>
            <a:spLocks noGrp="1"/>
          </p:cNvSpPr>
          <p:nvPr>
            <p:ph/>
          </p:nvPr>
        </p:nvSpPr>
        <p:spPr>
          <a:xfrm>
            <a:off x="-360" y="1599840"/>
            <a:ext cx="8893080" cy="4924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66"/>
                </a:solidFill>
                <a:latin typeface="Arial"/>
                <a:ea typeface="Times New Roman"/>
              </a:rPr>
              <a:t>Об этом мифе еще Успенский писал в пятидесятые годы в книге «Cлово о словах». Успенский в книге объясняет еще, что у каждого предмета — у той же очереди — есть два края, и вопрос, таким образом, несостоятельный. У Колесова есть объяснение, что это использование «крайнего» вместо «последнего» заимствовано из украинского языка. Есть еще суеверие: все повально стали говорить «это был мой крайний спектакль, крайняя лекция, крайняя передача». У слова «последний» есть несколько негативных оттенков. Например, «плохой» — последний негодяй. Понятно, почему употребления этого слова избегают люди, рискующие жизнью: альпинисты, водолазы, цирковые артисты и летчики. Но когда мы в речи обычного человека слышим «когда я крайний раз был там-то», это звучит смешно.</a:t>
            </a:r>
            <a:r>
              <a:rPr b="0" lang="ru-RU" sz="2000" spc="-1" strike="noStrike">
                <a:solidFill>
                  <a:srgbClr val="000066"/>
                </a:solidFill>
                <a:latin typeface="Arial"/>
              </a:rPr>
              <a:t> </a:t>
            </a:r>
            <a:endParaRPr b="0" lang="en-US" sz="2000" spc="-1" strike="noStrike">
              <a:solidFill>
                <a:srgbClr val="000000"/>
              </a:solidFill>
              <a:latin typeface="Arial"/>
            </a:endParaRPr>
          </a:p>
        </p:txBody>
      </p:sp>
      <p:pic>
        <p:nvPicPr>
          <p:cNvPr id="63" name="" descr=""/>
          <p:cNvPicPr/>
          <p:nvPr/>
        </p:nvPicPr>
        <p:blipFill>
          <a:blip r:embed="rId1"/>
          <a:stretch/>
        </p:blipFill>
        <p:spPr>
          <a:xfrm>
            <a:off x="1547640" y="5530680"/>
            <a:ext cx="5904000" cy="13273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7" presetSubtype="4">
                                  <p:stCondLst>
                                    <p:cond delay="0"/>
                                  </p:stCondLst>
                                  <p:childTnLst>
                                    <p:set>
                                      <p:cBhvr>
                                        <p:cTn id="50" dur="1" fill="hold">
                                          <p:stCondLst>
                                            <p:cond delay="0"/>
                                          </p:stCondLst>
                                        </p:cTn>
                                        <p:tgtEl>
                                          <p:spTgt spid="62">
                                            <p:txEl>
                                              <p:pRg st="0" end="0"/>
                                            </p:txEl>
                                          </p:spTgt>
                                        </p:tgtEl>
                                        <p:attrNameLst>
                                          <p:attrName>style.visibility</p:attrName>
                                        </p:attrNameLst>
                                      </p:cBhvr>
                                      <p:to>
                                        <p:strVal val="visible"/>
                                      </p:to>
                                    </p:set>
                                    <p:anim calcmode="lin" valueType="num">
                                      <p:cBhvr additive="base">
                                        <p:cTn id="51" dur="5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52" dur="50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6T07:50:19Z</dcterms:created>
  <dc:creator>USER</dc:creator>
  <dc:description/>
  <dc:language>en-US</dc:language>
  <cp:lastModifiedBy>USER</cp:lastModifiedBy>
  <dcterms:modified xsi:type="dcterms:W3CDTF">2013-10-11T10:56:28Z</dcterms:modified>
  <cp:revision>16</cp:revision>
  <dc:subject/>
  <dc:title>10 мифов о русском языке </dc:title>
</cp:coreProperties>
</file>