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B967-6C87-4F59-9D7C-0E68927E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2B9F-95B9-468D-A36B-45513481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6DBC-59E4-4AE2-B1E1-A5D2969DB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4478-20B3-42CE-A84F-534BC184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FD86-6714-439F-8DE6-3F96EB78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FE60-1BAA-4926-AC7C-1798E7C0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E549-693A-4D9F-BFE3-CD6A7CC1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957F-9BFA-4BF7-B95E-38D54E86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989B-C66C-4475-8024-42018803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3630-94D4-4888-AD70-F7E52060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6430-277D-42FF-9278-6252A3C7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0BD9-3623-4C7D-ADAA-01A5766D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DEBE-8E3D-440E-A71F-76F1D8D76A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никальные географические объекты Австрал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australia,-ddmx.jpg"/>
          <p:cNvPicPr/>
          <p:nvPr/>
        </p:nvPicPr>
        <p:blipFill>
          <a:blip r:embed="rId1"/>
          <a:stretch/>
        </p:blipFill>
        <p:spPr>
          <a:xfrm>
            <a:off x="2428920" y="1428840"/>
            <a:ext cx="3619440" cy="27241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australia_satellite.jpg"/>
          <p:cNvPicPr/>
          <p:nvPr/>
        </p:nvPicPr>
        <p:blipFill>
          <a:blip r:embed="rId2"/>
          <a:stretch/>
        </p:blipFill>
        <p:spPr>
          <a:xfrm>
            <a:off x="2786040" y="4143240"/>
            <a:ext cx="3114720" cy="25624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5"/>
          <p:cNvSpPr/>
          <p:nvPr/>
        </p:nvSpPr>
        <p:spPr>
          <a:xfrm>
            <a:off x="7502760" y="557208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Calibri"/>
                <a:hlinkClick r:id="rId3" action="ppaction://hlinksldjump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ткон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14200" y="1571760"/>
            <a:ext cx="557208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тконо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т зверек с утиными перепончатыми лапами и клювом обитает в воде. Он — тоже воплощение противоречий: вроде похож на птицу, но плавает и покрыт шерстью. Мало того: выяснилось, что этот «мутант», шокировавший всю естественно-научную общественность своей внешностью, несет яйца, хотя и выкармливает детенышей своим молоком! Настоящий нонсенс и даже «оксюморон» среди животного мира Зем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ущийся смешным и даже нелепым, утконос не так-то он прост и может защитить себя в моменты опасности. На задних лапах самца располагаются ядовитые шпоры, которыми он способен «деморализовать» вра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Утконос"/>
          <p:cNvPicPr/>
          <p:nvPr/>
        </p:nvPicPr>
        <p:blipFill>
          <a:blip r:embed="rId1"/>
          <a:stretch/>
        </p:blipFill>
        <p:spPr>
          <a:xfrm>
            <a:off x="6215040" y="1857240"/>
            <a:ext cx="2819520" cy="20718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7288560" y="607212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Calibri"/>
                <a:hlinkClick r:id="rId2" action="ppaction://hlinksldjump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зуа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57578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зуар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 Австралии обитает и самая архаичная наземная птица — казуар. Окрас у нее черный, а шея ярко-красная. Вообще, это самый настоящий страус, живущий во влажных лесах. Для защиты от непогоды, превратностей жизни в джунглях и выяснения отношений друг с другом эти отшельники с «детства» отращивают шлем и являют собой довольно драчливые и агрессивные существа. Поэтому аборигены с ними не связываются. Зато не прочь местные жители отловить маленьких казуарчиков и вырастить у себя дома. Зачем? Дело в том, что из когтей этих птиц делают наконечники для копий. К тому же, несмотря на природную агрессивность, «домашние» казуары могут прекрасно уживаться с людьми и ладить с детьми, играя с ними. Причем они неприхотливы и могут питаться чем угодно, хоть гвоздями. Их желудок переварит вс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Страус"/>
          <p:cNvPicPr/>
          <p:nvPr/>
        </p:nvPicPr>
        <p:blipFill>
          <a:blip r:embed="rId1"/>
          <a:stretch/>
        </p:blipFill>
        <p:spPr>
          <a:xfrm>
            <a:off x="6581880" y="3786120"/>
            <a:ext cx="2435040" cy="2143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Страус"/>
          <p:cNvPicPr/>
          <p:nvPr/>
        </p:nvPicPr>
        <p:blipFill>
          <a:blip r:embed="rId2"/>
          <a:stretch/>
        </p:blipFill>
        <p:spPr>
          <a:xfrm>
            <a:off x="6643800" y="1357200"/>
            <a:ext cx="2282760" cy="23576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5"/>
          <p:cNvSpPr/>
          <p:nvPr/>
        </p:nvSpPr>
        <p:spPr>
          <a:xfrm>
            <a:off x="7216920" y="621504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Calibri"/>
                <a:hlinkClick r:id="rId3" action="ppaction://hlinksldjump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умчатая бел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60436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Это создание с мехом пепельно-серого цвета очень похоже на белку-летягу. Впрочем, летательная перепонка у нее орехового и белого цветов, брюшко желтовато-белое, а кончик пушистого хвоста и вовсе черный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Днем это древесное животное страшно неуклюже и активизируется только ночью, перепархивая с ветки на ветку на расстояние 20-30 метров. В полете белка может, как птица, поменять траекторию движения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 птицей сравнение не случайно: мало того, что австралийская белка «летает», так она, как и сова, днем практически ничего не видит (что характерно для большинства представителей австралийской фауны). Вот почему желающие приручить это веселое и смешное существо могут легко ее изловить в дневное время. Что и делают местные жители на радость своим детям. Сумчатая белка — очень удобное домашнее животное, так как ест любой корм, особенно любит сласт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Кормление белки — отдельная забава для детей и взрослых. Им очень смешно и интересно наблюдать, как белочка с сумкой ест, лежа на спине, или лакает жидкость, держа емкость двумя лапками. Кроме того, белки обожают играть и с удовольствием подставляют свою тушку всем желающим ее почесать, но вместе с тем не любят, когда их тискают и хватают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Белка"/>
          <p:cNvPicPr/>
          <p:nvPr/>
        </p:nvPicPr>
        <p:blipFill>
          <a:blip r:embed="rId1"/>
          <a:stretch/>
        </p:blipFill>
        <p:spPr>
          <a:xfrm>
            <a:off x="6858000" y="2000160"/>
            <a:ext cx="1928880" cy="28368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4"/>
          <p:cNvSpPr/>
          <p:nvPr/>
        </p:nvSpPr>
        <p:spPr>
          <a:xfrm>
            <a:off x="7216920" y="592920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Calibri"/>
                <a:hlinkClick r:id="rId2" action="ppaction://hlinksldjump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кая собака дин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599840"/>
            <a:ext cx="59720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Динго — уникальная австралийская дикая собака, которую невозможно приручить. Выглядит она как дворняга, в основном рыжеватого окраса, с маленькими ушами и мохнатым хвостом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 первобытные времена наши предки сумели одомашнить эту собаку. До сих пор непонятно, как случилось, что впоследствии человек и динго перестали быть друзьями. Зато известно, почему они стали злейшими врагами. Произошло это, когда европейцы завезли в Австралию кроликов и овец. Динго тут было чем поживиться, и они начали нападать на домашний скот. Фермеры в ответ взялись за ружья, и популяция динго сильно сократилась. Но власти вовремя спохватились и наложили запрет на уничтожение этих животных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Дикие волкообразные псы, динго умны и даже разговаривают на своем «языке». Нет, они не лают, а поскуливают и воют, называется это пением. Порой можно услышать «хор» целой семьи, готовящейся выйти на тропу охоты. Как видите, даже у собак в Австралии есть свои ритуалы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Иногда динго держат в домашних условиях в качестве сторожей. Но и тогда люди соблюдают осторожность и стараются не оставлять их одних с маленькими детьми. Ведь хищник есть хищник, и неизвестно, в какой момент первобытный инстинкт проснется. Бывало, что аборигенам удавалось приручить динго, но нередко такие собаки, даже будучи помесью с домашними породами, все-таки сбегали из дома в свой «лес»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 тех пор, как в начале ХХ века переселенцы истребили тасманских сумчатых волков, динго — единственные оставшиеся на Зеленом континенте хищники. Волков же ныне можно найти только непосредственно на острове Тасмания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Динго"/>
          <p:cNvPicPr/>
          <p:nvPr/>
        </p:nvPicPr>
        <p:blipFill>
          <a:blip r:embed="rId1"/>
          <a:stretch/>
        </p:blipFill>
        <p:spPr>
          <a:xfrm>
            <a:off x="7215120" y="1214280"/>
            <a:ext cx="1571760" cy="2054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Динго"/>
          <p:cNvPicPr/>
          <p:nvPr/>
        </p:nvPicPr>
        <p:blipFill>
          <a:blip r:embed="rId2"/>
          <a:stretch/>
        </p:blipFill>
        <p:spPr>
          <a:xfrm>
            <a:off x="7215120" y="3429000"/>
            <a:ext cx="1741680" cy="1571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Динго"/>
          <p:cNvPicPr/>
          <p:nvPr/>
        </p:nvPicPr>
        <p:blipFill>
          <a:blip r:embed="rId3"/>
          <a:stretch/>
        </p:blipFill>
        <p:spPr>
          <a:xfrm>
            <a:off x="7143840" y="5072040"/>
            <a:ext cx="1857240" cy="143028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6"/>
          <p:cNvSpPr/>
          <p:nvPr/>
        </p:nvSpPr>
        <p:spPr>
          <a:xfrm>
            <a:off x="5502600" y="61437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Calibri"/>
                <a:hlinkClick r:id="rId4" action="ppaction://hlinksldjump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умчатый дьяво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600200"/>
            <a:ext cx="6186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Сумчатый дьяво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Этого тасманского жителя «обидели» таким прозвищем за безобразную внешность и свирепость. Существо с огромной головой, широкой мордой и волосатыми ушами, да еще и обладатель маленьких глазок, закрученных щетинистых усов и множества бородавок на губах, и правда перепугает кого угодно, особенно когда начинает зловеще кричать. Плюс ко всему у него короткий хвост, кривые ноги и черный-черный мех, на голове настолько редкий, что сквозь него видна красная кожа... Ну чем не дьявол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ам дьяволенок не прочь полакомиться свежим мясом. Раньше он особенно любил отлавливать домашнюю птицу поселенцев. Но и австралийцы не зевали: они стали поедать мясо самого разорителя, по вкусу похожее на телятину. Позже это уродливое существо окончательно мигрировало в леса, но отлавливать его по-прежнему легко. Правда, днем его встретишь редко, так как оно спит непробудным сном в глубоких норах и всячески избегает света. Зато, будучи необычайно прожорливым, сумчатый дьявол бросается на любой движущийся предмет, предполагая в нем кусок мяса, потому и попадает часто в ловушку, расставленную людьми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 настоящее время сумчатый дьявол обитает только на острове Тасмания, хотя некогда жил и на территории Австралии. В июне 1941 года был принят закон об охране этого уникального животного, которое тогда находилось на грани полного исчезновения. К счастью, популяцию сумчатых дьяволов удалось восстановить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Сумчатый дьявол"/>
          <p:cNvPicPr/>
          <p:nvPr/>
        </p:nvPicPr>
        <p:blipFill>
          <a:blip r:embed="rId1"/>
          <a:stretch/>
        </p:blipFill>
        <p:spPr>
          <a:xfrm>
            <a:off x="6643800" y="3000240"/>
            <a:ext cx="2347920" cy="1643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Сумчатый дьявол"/>
          <p:cNvPicPr/>
          <p:nvPr/>
        </p:nvPicPr>
        <p:blipFill>
          <a:blip r:embed="rId2"/>
          <a:stretch/>
        </p:blipFill>
        <p:spPr>
          <a:xfrm>
            <a:off x="6858000" y="857160"/>
            <a:ext cx="2071800" cy="204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Сумчатый дьявол"/>
          <p:cNvPicPr/>
          <p:nvPr/>
        </p:nvPicPr>
        <p:blipFill>
          <a:blip r:embed="rId3"/>
          <a:stretch/>
        </p:blipFill>
        <p:spPr>
          <a:xfrm>
            <a:off x="6643800" y="4786200"/>
            <a:ext cx="2352600" cy="172908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7"/>
          <p:cNvSpPr/>
          <p:nvPr/>
        </p:nvSpPr>
        <p:spPr>
          <a:xfrm>
            <a:off x="7502760" y="648828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Calibri"/>
                <a:hlinkClick r:id="rId4" action="ppaction://hlinksldjump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ы по презент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410082"/>
                </a:solidFill>
                <a:uFillTx/>
                <a:latin typeface="Calibri"/>
                <a:hlinkClick r:id="rId1" action="ppaction://hlinksldjump"/>
              </a:rPr>
              <a:t>Какую площадь Европы составляет площадь Австрал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410082"/>
                </a:solidFill>
                <a:uFillTx/>
                <a:latin typeface="Calibri"/>
                <a:hlinkClick r:id="rId2" action="ppaction://hlinksldjump"/>
              </a:rPr>
              <a:t>Ради чего затевались поиски материка-острова Австрал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410082"/>
                </a:solidFill>
                <a:uFillTx/>
                <a:latin typeface="Calibri"/>
                <a:hlinkClick r:id="rId3" action="ppaction://hlinksldjump"/>
              </a:rPr>
              <a:t>Какое самое низкое место в Австрал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первый причалил к материку Австрал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7574040" y="607212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 на вопрос №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стралия наименьший по размерам материк. Ее площадь 7631,5 тыс. км2, что составляет около 2/3 площади Европ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6287400" y="621504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по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7729920" y="535788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 на вопрос №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 в 1851 году случилось то, ради чего, собственно, и затевались поиски острова-материка: здесь было найдено золот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6287400" y="614376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по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4"/>
          <p:cNvSpPr/>
          <p:nvPr/>
        </p:nvSpPr>
        <p:spPr>
          <a:xfrm>
            <a:off x="7729920" y="528624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 на вопрос №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отловине усыхающего озера Эйр находится самое низкое место Австралии с отметкой 16 м ниже уровня мор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6287400" y="600084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по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7729920" y="514368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 на вопрос №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м причалившим к этой земле стал мореплаватель Виллем Янсзон, назвавший ее Новой Голланди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6287400" y="592920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по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7729920" y="514368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2876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410082"/>
                </a:solidFill>
                <a:uFillTx/>
                <a:latin typeface="Calibri"/>
                <a:hlinkClick r:id="rId1" action="ppaction://hlinksldjump"/>
              </a:rPr>
              <a:t>Научное описа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тория открыт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410082"/>
                </a:solidFill>
                <a:uFillTx/>
                <a:latin typeface="Calibri"/>
                <a:hlinkClick r:id="rId2" action="ppaction://hlinksldjump"/>
              </a:rPr>
              <a:t>Центральная равнина Австрал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410082"/>
                </a:solidFill>
                <a:uFillTx/>
                <a:latin typeface="Calibri"/>
                <a:hlinkClick r:id="rId3" action="ppaction://hlinksldjump"/>
              </a:rPr>
              <a:t>Барьерный ри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410082"/>
                </a:solidFill>
                <a:uFillTx/>
                <a:latin typeface="Calibri"/>
                <a:hlinkClick r:id="rId4" action="ppaction://hlinksldjump"/>
              </a:rPr>
              <a:t> Уникальные  животные Австрали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410082"/>
                </a:solidFill>
                <a:uFillTx/>
                <a:latin typeface="Calibri"/>
                <a:hlinkClick r:id="rId5" action="ppaction://hlinksldjump"/>
              </a:rPr>
              <a:t>Коала — удивительный сумчатый «медвежонок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410082"/>
                </a:solidFill>
                <a:uFillTx/>
                <a:latin typeface="Calibri"/>
                <a:hlinkClick r:id="rId6" action="ppaction://hlinksldjump"/>
              </a:rPr>
              <a:t>Вомба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410082"/>
                </a:solidFill>
                <a:uFillTx/>
                <a:latin typeface="Calibri"/>
                <a:hlinkClick r:id="rId7" action="ppaction://hlinksldjump"/>
              </a:rPr>
              <a:t>Кенгур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410082"/>
                </a:solidFill>
                <a:uFillTx/>
                <a:latin typeface="Calibri"/>
                <a:hlinkClick r:id="rId8" action="ppaction://hlinksldjump"/>
              </a:rPr>
              <a:t>Утконо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410082"/>
                </a:solidFill>
                <a:uFillTx/>
                <a:latin typeface="Calibri"/>
                <a:hlinkClick r:id="rId9" action="ppaction://hlinksldjump"/>
              </a:rPr>
              <a:t>Казуа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410082"/>
                </a:solidFill>
                <a:uFillTx/>
                <a:latin typeface="Calibri"/>
                <a:hlinkClick r:id="rId10" action="ppaction://hlinksldjump"/>
              </a:rPr>
              <a:t>Сумчатая бел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410082"/>
                </a:solidFill>
                <a:uFillTx/>
                <a:latin typeface="Calibri"/>
                <a:hlinkClick r:id="rId11" action="ppaction://hlinksldjump"/>
              </a:rPr>
              <a:t>Дикая собака динг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410082"/>
                </a:solidFill>
                <a:uFillTx/>
                <a:latin typeface="Calibri"/>
                <a:hlinkClick r:id="rId12" action="ppaction://hlinksldjump"/>
              </a:rPr>
              <a:t>Сумчатый дьяв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410082"/>
                </a:solidFill>
                <a:uFillTx/>
                <a:latin typeface="Calibri"/>
                <a:hlinkClick r:id="rId13" action="ppaction://hlinksldjump"/>
              </a:rPr>
              <a:t>Вопросы по презент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учное опис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Австралия наименьший по размерам материк. Ее площадь 7631,5 тыс. км2, что составляет около 2/3 площади Европы. Самая северная точка материка мыс Йорк находится на 10°41" ю. ш., самая южная -мыс Юго-Восточный на 39°11" ю. ш. Материк простирается с запада на восток на 4100 км (от мыса Стип-Пойнт на 113°05" в. д. до мыса Байрон на 153°34" в. д.), с севера на юг наибольшая протяженность суши составляет всего 3200 км. Береговая линия расчленена слабо. Крупных заливов только два Карпентария и Большой Австралийский. Бассов пролив отделяет от материка остров Тасманию. Австралия, остров Тасмания и другие небольшие острова в Тихом и Индийском океанах составляют территорию Австралийского Союза. Западная половина материка занята Западным плато, к нему примыкает широкая полоса Центральной низменности, протягивающейся от залива Карпентария до Индийского океана. На восточной окраине материка узкой полосой проходят горы, называемые Восточно-Австралийскими горами. Природа Австралии имеет много особенностей, отличающих ее от других частей земного шара. Австралия, прежде всего-материк реликтов. Реликтовые виды растений и животных отличаются высоким эндемизмом, глубокой древностью и сохранились на австралийской суше благодаря ее длительной изоляции. На материке остались нерасчлененными эрозией обширные древние поверхности выравнивания, бронированные латеритными корами и обусловливающие равнинный характер рельефа. Не исчезли и следы прежней обводненности ныне пустынных и полупустынных областей. С другой стороны, в Австралии отсутствуют молодые складчатые горы, нет действующих вулканов и современного оледенения. Все это находится в связи с геологической историей материка и с колебаниями климата в геологическом прошлом и придает природе материка глубокое своеобразие. Северная окраина материка занята саваннами и редколесьями, южная ландшафтами субтропического типа: лесными на влажных юго-западной и юго-восточной окраинах и ландшафтами саванн, степей и полупустынь в более засушливых внутренних районах.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оры, протягивающиеся вдоль восточной окраины материка, задерживают влажные ветры с Тихого океана и ограничивают распространение влажно-лесных ландшафтов узкой полосой прибрежной низменности и наветренными склонами.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7729920" y="648828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Calibri"/>
                <a:hlinkClick r:id="rId1" action="ppaction://hlinksldjump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рия откры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2920" y="1214280"/>
            <a:ext cx="88581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осударство, расположившееся на Австралийском материке и острове Тасмания, официально называется Австралийским Союзом, столица его — город Канберра. Но этим территория страны не ограничивается: Австралия владеет еще островами в Индийском и Тихом океанах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Открытие Австралии было для европейских моряков вопросом времени и, в некоторой степени, — теории. Ведь тот факт, что «Терра аустралис инкогнита» существует, был очевиден. Дело оставалось за малым: найти неизведанную землю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И первым причалившим к этой земле стал мореплаватель Виллем Янсзон, назвавший ее Новой Голландией. Правда, особого интереса у правителей европейских государств «находка» не вызвала: гораздо больше, чем неосвоенные земли, власть имущих интересовали материальные блага — золото, драгоценности, жемчуг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 1642 году мореплаватель Абель Тасман также стал первооткрывателем — как вы догадались, острова Тасмания, хотя сам он назвал ее Вандименовой землей. Но толку от вновь открытой земли, как и от «Новой Голландии», не было. Да и что можно было там найти? Суровый климат, дикую природу, аборигенов... и никаких ценностей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К тому же, несмотря на эти открытия, люди по-прежнему были уверены в том, что неведомую Австралию все еще нужно искать. По какой-то причине никому и в голову не пришло соотнести ее с уже открытым материком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Лишь 29 апреля 1770 года дотошный Джеймс Кук, бороздивший Тихий океан на своем корабле «Индевор», открыл наконец Австралию окончательно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Кук назвал этот материк Новым Южным Уэльсом, прекрасно зная, что это восточная сторона Новой Голландии. Кстати, золота он там тоже не нашел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место сокровищ Кук нашел свою гибель: его закололи разъяренные гавайцы. Тело отважного мореплавателя, по традиции моряков, погребли в океане..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Только в 1803 году благодаря Метью Флиндерсу стало понятно, что неизвестная земля — огромный остров. Этот же британский исследователь и назвал ее Австралией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А в 1851 году случилось то, ради чего, собственно, и затевались поиски острова-материка: здесь было найдено золото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Долгое время самой ходовой «валютой» Австралии был ром: им рассчитывались за все. Лишь в 20-е годы XIX века здесь появились настоящие деньги: из Испании завезли десять тысяч медных монет. Однако их было недостаточно, поэтому пришлось в каждой монете выбить дырку и провозгласить кружок-серединку мелкой разменной монетой, а оставшийся «бублик» — крупной. Он так и назывался: </a:t>
            </a:r>
            <a:r>
              <a:rPr b="0" i="1" lang="ru-RU" sz="1300" spc="-1" strike="noStrike">
                <a:solidFill>
                  <a:srgbClr val="000000"/>
                </a:solidFill>
                <a:latin typeface="Calibri"/>
              </a:rPr>
              <a:t>Holey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Dollar — «дырявый доллар»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овременные австралийские деньги (AUD) не похожи ни  на какие другие в мире. Купюры сделаны не из бумаги, а из тонкого пластика, они не ветшают, не горят и не рвутся. На каждой купюре имеется «окошечко» в форме листочка или ящерки — тоже из пластика, но прозрачного, позволяющего смотреть насквозь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8072280" y="6500880"/>
            <a:ext cx="1071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410082"/>
                </a:solidFill>
                <a:uFillTx/>
                <a:latin typeface="Calibri"/>
                <a:hlinkClick r:id="rId1" action="ppaction://hlinksldjump"/>
              </a:rPr>
              <a:t>Содерж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ЕНТРАЛЬНАЯ РАВНИНА АВСТРАЛ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еологическое строение и рельеф. Эта наиболее низкая часть Австралийского материка соответствует огромной палеозойской синеклизе и прилегающей к ней области опускания докембрийских структур. Занимая пограничное положение между молодой и древней платформами Австралии, она позднее других ее частей (в палеогене) освободилась от морских трансгрессий, оставивших толщи рыхлых осадков. Высота ее 100-200 м, а в котловине усыхающего озера Эйр находится самое низкое место Австралии с отметкой 16 м ниже уровня мор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иматические условия. Климат Центральной равнины континентальный и сухой, сухость возрастает к западу. Особенно мало влаги выпадает на берегах озера Эйр, где есть районы с годовыми суммами осадков не более 120 мм и сухим периодом, продолжающимся более 250 дней в году. Это самое сухое место в Австрал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личия в температуре между севером и югом зимой выражены сильнее, чем летом. Зимой на севере бывает 18... 20 °С, на юге 8... 10 °С, летом средняя температура повсюду равна примерно 28... 29 °С (рис. 137). При этом в течение всего года возможны резкие скачки температу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7502760" y="621504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Calibri"/>
                <a:hlinkClick r:id="rId1" action="ppaction://hlinksldjump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арьерный ри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7120" y="1571400"/>
            <a:ext cx="575784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Терновый венец» из морских звезд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менитый Барьерный риф в Австралии заполнен морскими звездами, которые в конце ХХ века совершили чуть ли не массовое нашествие на кораллы. Эти пожиратели кораллов стали настоящим бедствием, и кое-где даже разрешена охота на н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 самом центре материка, в ущельях гор Макдоннелл, сохранились узкоареальные эндемики: низкорослая пальма Ливистона и макрозамия из цикадовых. В пустынях поселяются даже некоторые виды орхидей — эфемеров, прорастающих и цветущих лишь в короткий период после дожд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7929720" y="6215040"/>
            <a:ext cx="107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410082"/>
                </a:solidFill>
                <a:uFillTx/>
                <a:latin typeface="Calibri"/>
                <a:hlinkClick r:id="rId1" action="ppaction://hlinksldjump"/>
              </a:rPr>
              <a:t>Содерж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Австралия"/>
          <p:cNvPicPr/>
          <p:nvPr/>
        </p:nvPicPr>
        <p:blipFill>
          <a:blip r:embed="rId2"/>
          <a:stretch/>
        </p:blipFill>
        <p:spPr>
          <a:xfrm>
            <a:off x="6286680" y="3000240"/>
            <a:ext cx="2323800" cy="1714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Австралия"/>
          <p:cNvPicPr/>
          <p:nvPr/>
        </p:nvPicPr>
        <p:blipFill>
          <a:blip r:embed="rId3"/>
          <a:stretch/>
        </p:blipFill>
        <p:spPr>
          <a:xfrm>
            <a:off x="6286680" y="1285920"/>
            <a:ext cx="2143080" cy="1623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Австралия"/>
          <p:cNvPicPr/>
          <p:nvPr/>
        </p:nvPicPr>
        <p:blipFill>
          <a:blip r:embed="rId4"/>
          <a:stretch/>
        </p:blipFill>
        <p:spPr>
          <a:xfrm>
            <a:off x="6286680" y="4786200"/>
            <a:ext cx="2286000" cy="1430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ала — удивительный сумчатый «медвежонок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Коала"/>
          <p:cNvPicPr/>
          <p:nvPr/>
        </p:nvPicPr>
        <p:blipFill>
          <a:blip r:embed="rId1"/>
          <a:stretch/>
        </p:blipFill>
        <p:spPr>
          <a:xfrm>
            <a:off x="7000920" y="785880"/>
            <a:ext cx="1714320" cy="190476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142920" y="1857240"/>
            <a:ext cx="66438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ала — удивительный сумчатый «медвежонок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тает этот вечно дремлющий на ветвях зверек в эвкалиптовых лесах, эвкалиптом и питается, да не всяким, а определенными видами. Существо это абсолютно не активное (исключение составляет только брачный период) и совсем не пьет воду. Считается, что ему вполне хватает влаги росы и дождей. Аборигены как только не называют коал: бангару, куливонг, нарнагун, бюидельбир, карбур, куллавайн, коло... и, наконец, ко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животные очень уязвимы, и популяция их сильно и резко сократилась с нашествием на континент европейцев — из-за эпидемий и отстрела. А какой массовой гибели этих животных стоила мода на мех коал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коала — пусть и очень дальний, родственник кенгуру, с которым его роднит сумка, есть между ними разительное отличие. Если у всех сумчатых «карман» открывается вперед, то у коалы — назад, благодаря чему зверек не цепляется складкой за ве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ка служит приютом для детенышей коалы, которые сразу после рождения перебираются внутрь и наслаждаются там теплом и уютом в течение полугода, постепенно обрастая шерсткой. Потом они вылезают на открытый воздух и еще полгода проводят на спине родитель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стая, детеныш начинает вести взрослую жизнь, перебираясь с дерева на дерево по земле или перепрыгивая с ветки на ветку, и целыми днями напролет спит прямо на ветвях, даже не пытаясь спрятаться от врагов в дупла. Но голыми руками коал тоже не возьмешь: коготки у них длинные и цепкие, лапки хоть короткие, но сильные. Если доведется побывать в Австралии и увидеть коалу, помните, что зверька лучше брать со спины под мышки. Да, и не вздумайте сами жевать эвкалипт, дабы составить коале компанию: это растение страшно ядовит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5" descr="Коала"/>
          <p:cNvPicPr/>
          <p:nvPr/>
        </p:nvPicPr>
        <p:blipFill>
          <a:blip r:embed="rId2"/>
          <a:stretch/>
        </p:blipFill>
        <p:spPr>
          <a:xfrm>
            <a:off x="7000920" y="2714760"/>
            <a:ext cx="1762200" cy="17859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Коала"/>
          <p:cNvPicPr/>
          <p:nvPr/>
        </p:nvPicPr>
        <p:blipFill>
          <a:blip r:embed="rId3"/>
          <a:stretch/>
        </p:blipFill>
        <p:spPr>
          <a:xfrm>
            <a:off x="6858000" y="4572000"/>
            <a:ext cx="2071800" cy="2143080"/>
          </a:xfrm>
          <a:prstGeom prst="rect">
            <a:avLst/>
          </a:prstGeom>
          <a:ln w="0">
            <a:noFill/>
          </a:ln>
        </p:spPr>
      </p:pic>
      <p:sp>
        <p:nvSpPr>
          <p:cNvPr id="67" name="TextBox 7"/>
          <p:cNvSpPr/>
          <p:nvPr/>
        </p:nvSpPr>
        <p:spPr>
          <a:xfrm>
            <a:off x="5572080" y="6357960"/>
            <a:ext cx="1071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410082"/>
                </a:solidFill>
                <a:uFillTx/>
                <a:latin typeface="Calibri"/>
                <a:hlinkClick r:id="rId4" action="ppaction://hlinksldjump"/>
              </a:rPr>
              <a:t>Содерж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мб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632952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ще один вид зверьков, очень похожих на медвежат. Вомбаты — вегетарианцы и с удовольствием лакомятся корнями деревьев и кустарников. А еще они страшные ленивцы. Но если их что-то напугает, то догнать животных будет не так-то просто: 40 километров в час — это вам не шут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отя вомбатам приписывают родство с коалами, на деревьях они не живут. Наоборот — роют норы и, как кроты, проводят много времени под землей. Они покрыты мехом и благодаря сильным лапам с длинными когтями могут прорыть 20-метровую нору. Днем вомбаты там спят, а ночью вылезают в поисках пропитания. Питаются они, видимо, весьма неплохо, так как вес этих толстунов может достигать 40 к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ечно, и вомбаты не обходятся без сумок, вынашивая в них детенышей долгих шесть месяце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" descr="Вомбат"/>
          <p:cNvPicPr/>
          <p:nvPr/>
        </p:nvPicPr>
        <p:blipFill>
          <a:blip r:embed="rId1"/>
          <a:stretch/>
        </p:blipFill>
        <p:spPr>
          <a:xfrm>
            <a:off x="6572160" y="1143000"/>
            <a:ext cx="2162160" cy="19051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Вомбат"/>
          <p:cNvPicPr/>
          <p:nvPr/>
        </p:nvPicPr>
        <p:blipFill>
          <a:blip r:embed="rId2"/>
          <a:stretch/>
        </p:blipFill>
        <p:spPr>
          <a:xfrm>
            <a:off x="6572160" y="3214800"/>
            <a:ext cx="2167200" cy="17143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Вомбат"/>
          <p:cNvPicPr/>
          <p:nvPr/>
        </p:nvPicPr>
        <p:blipFill>
          <a:blip r:embed="rId3"/>
          <a:stretch/>
        </p:blipFill>
        <p:spPr>
          <a:xfrm>
            <a:off x="6572160" y="5143680"/>
            <a:ext cx="2143080" cy="14284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6"/>
          <p:cNvSpPr/>
          <p:nvPr/>
        </p:nvSpPr>
        <p:spPr>
          <a:xfrm>
            <a:off x="5001840" y="6286680"/>
            <a:ext cx="10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10082"/>
                </a:solidFill>
                <a:uFillTx/>
                <a:latin typeface="Calibri"/>
                <a:hlinkClick r:id="rId4" action="ppaction://hlinksldjump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енгур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1599840"/>
            <a:ext cx="561492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Тем, кто видит это огромное прыгающее животное впервые, кажется, что ноги у него птичьи. Кенгуру было чуть ли не первым существом, которое встретили на новом материке мореплаватели. То-то удивились кармашкам, из которых выглядывали кенгурята!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Если детеныш у самки кенгуру каким-то образом выпал из сумки или его забрали, то вскоре мамаша произведет на свет еще одного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последствии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эти животные, так поразившие белых пришельцев, стали одним из символов нового государства, «прыгнув» на его герб и флаг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озже обнаружилось, что кенгуру могут быть совершенно разными. Наиболее знаменитый — маленький валлаби, которого по непонятной причине называют болотным, хотя живет он в основном в густой траве, в лесных чащах и мангровых зарослях. Что касается питания — это животное крайне безобидное, любит траву, злаки и листья, не гнушается и корой деревьев. Даже ядовитые растения не наносят ущерба здоровью валлаб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Кенгуру"/>
          <p:cNvPicPr/>
          <p:nvPr/>
        </p:nvPicPr>
        <p:blipFill>
          <a:blip r:embed="rId1"/>
          <a:stretch/>
        </p:blipFill>
        <p:spPr>
          <a:xfrm>
            <a:off x="6000840" y="500040"/>
            <a:ext cx="2143080" cy="21906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Кенгуру"/>
          <p:cNvPicPr/>
          <p:nvPr/>
        </p:nvPicPr>
        <p:blipFill>
          <a:blip r:embed="rId2"/>
          <a:stretch/>
        </p:blipFill>
        <p:spPr>
          <a:xfrm>
            <a:off x="6000840" y="2857680"/>
            <a:ext cx="2143080" cy="18572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Кенгуру"/>
          <p:cNvPicPr/>
          <p:nvPr/>
        </p:nvPicPr>
        <p:blipFill>
          <a:blip r:embed="rId3"/>
          <a:stretch/>
        </p:blipFill>
        <p:spPr>
          <a:xfrm>
            <a:off x="6000840" y="4857840"/>
            <a:ext cx="2143080" cy="15714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7"/>
          <p:cNvSpPr/>
          <p:nvPr/>
        </p:nvSpPr>
        <p:spPr>
          <a:xfrm>
            <a:off x="4431600" y="6000840"/>
            <a:ext cx="113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Calibri"/>
                <a:hlinkClick r:id="rId4" action="ppaction://hlinksldjump"/>
              </a:rPr>
              <a:t>Содерж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огдан</cp:lastModifiedBy>
  <dcterms:modified xsi:type="dcterms:W3CDTF">2009-06-08T08:00:30Z</dcterms:modified>
  <cp:revision>38</cp:revision>
  <dc:subject/>
  <dc:title>Уникальные географические объекты Австралии</dc:title>
</cp:coreProperties>
</file>