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6.gif" ContentType="image/gif"/>
  <Override PartName="/ppt/media/image54.png" ContentType="image/png"/>
  <Override PartName="/ppt/media/image53.jpeg" ContentType="image/jpeg"/>
  <Override PartName="/ppt/media/image50.png" ContentType="image/png"/>
  <Override PartName="/ppt/media/image48.jpeg" ContentType="image/jpeg"/>
  <Override PartName="/ppt/media/image35.wmf" ContentType="image/x-wmf"/>
  <Override PartName="/ppt/media/image45.jpeg" ContentType="image/jpeg"/>
  <Override PartName="/ppt/media/image44.png" ContentType="image/png"/>
  <Override PartName="/ppt/media/image41.gif" ContentType="image/gif"/>
  <Override PartName="/ppt/media/image43.png" ContentType="image/png"/>
  <Override PartName="/ppt/media/image42.png" ContentType="image/png"/>
  <Override PartName="/ppt/media/image59.wmf" ContentType="image/x-wmf"/>
  <Override PartName="/ppt/media/image14.png" ContentType="image/png"/>
  <Override PartName="/ppt/media/image10.jpeg" ContentType="image/jpeg"/>
  <Override PartName="/ppt/media/image15.jpeg" ContentType="image/jpeg"/>
  <Override PartName="/ppt/media/image29.gif" ContentType="image/gif"/>
  <Override PartName="/ppt/media/image22.wmf" ContentType="image/x-wmf"/>
  <Override PartName="/ppt/media/image65.png" ContentType="image/png"/>
  <Override PartName="/ppt/media/image26.wmf" ContentType="image/x-wmf"/>
  <Override PartName="/ppt/media/image69.png" ContentType="image/png"/>
  <Override PartName="/ppt/media/image32.png" ContentType="image/png"/>
  <Override PartName="/ppt/media/image47.png" ContentType="image/png"/>
  <Override PartName="/ppt/media/image1.jpeg" ContentType="image/jpeg"/>
  <Override PartName="/ppt/media/image49.jpeg" ContentType="image/jpeg"/>
  <Override PartName="/ppt/media/image20.png" ContentType="image/png"/>
  <Override PartName="/ppt/media/image2.jpeg" ContentType="image/jpeg"/>
  <Override PartName="/ppt/media/image18.wmf" ContentType="image/x-wmf"/>
  <Override PartName="/ppt/media/image60.wmf" ContentType="image/x-wmf"/>
  <Override PartName="/ppt/media/image70.jpeg" ContentType="image/jpeg"/>
  <Override PartName="/ppt/media/image63.png" ContentType="image/png"/>
  <Override PartName="/ppt/media/image68.png" ContentType="image/png"/>
  <Override PartName="/ppt/media/image67.png" ContentType="image/png"/>
  <Override PartName="/ppt/media/image28.wmf" ContentType="image/x-wmf"/>
  <Override PartName="/ppt/media/image3.jpeg" ContentType="image/jpeg"/>
  <Override PartName="/ppt/media/image58.wmf" ContentType="image/x-wmf"/>
  <Override PartName="/ppt/media/image25.gif" ContentType="image/gif"/>
  <Override PartName="/ppt/media/image64.png" ContentType="image/png"/>
  <Override PartName="/ppt/media/image21.wmf" ContentType="image/x-wmf"/>
  <Override PartName="/ppt/media/image57.wmf" ContentType="image/x-wmf"/>
  <Override PartName="/ppt/media/image61.wmf" ContentType="image/x-wmf"/>
  <Override PartName="/ppt/media/image19.png" ContentType="image/png"/>
  <Override PartName="/ppt/media/image4.gif" ContentType="image/gif"/>
  <Override PartName="/ppt/media/image30.wmf" ContentType="image/x-wmf"/>
  <Override PartName="/ppt/media/image6.gif" ContentType="image/gif"/>
  <Override PartName="/ppt/media/image16.png" ContentType="image/png"/>
  <Override PartName="/ppt/media/image7.jpeg" ContentType="image/jpeg"/>
  <Override PartName="/ppt/media/image31.wmf" ContentType="image/x-wmf"/>
  <Override PartName="/ppt/media/image38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39.jpeg" ContentType="image/jpeg"/>
  <Override PartName="/ppt/media/image66.png" ContentType="image/png"/>
  <Override PartName="/ppt/media/image23.wmf" ContentType="image/x-wmf"/>
  <Override PartName="/ppt/media/image51.jpeg" ContentType="image/jpeg"/>
  <Override PartName="/ppt/media/image27.wmf" ContentType="image/x-wmf"/>
  <Override PartName="/ppt/media/image11.jpeg" ContentType="image/jpeg"/>
  <Override PartName="/ppt/media/image46.jpeg" ContentType="image/jpeg"/>
  <Override PartName="/ppt/media/image55.gif" ContentType="image/gif"/>
  <Override PartName="/ppt/media/image24.jpeg" ContentType="image/jpeg"/>
  <Override PartName="/ppt/media/image12.gif" ContentType="image/gif"/>
  <Override PartName="/ppt/media/image33.wmf" ContentType="image/x-wmf"/>
  <Override PartName="/ppt/media/image62.wmf" ContentType="image/x-wmf"/>
  <Override PartName="/ppt/media/image37.gif" ContentType="image/gif"/>
  <Override PartName="/ppt/media/image52.jpeg" ContentType="image/jpeg"/>
  <Override PartName="/ppt/media/image13.png" ContentType="image/png"/>
  <Override PartName="/ppt/media/image34.wmf" ContentType="image/x-wmf"/>
  <Override PartName="/ppt/media/image9.jpeg" ContentType="image/jpeg"/>
  <Override PartName="/ppt/media/image36.png" ContentType="image/png"/>
  <Override PartName="/ppt/media/image4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09C-23A8-43C8-9810-1CB4C4FB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2C0-804D-4A53-9032-9FA6D3A5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2937B-80C6-46B5-BB00-F2C3ABF0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03014-0640-43E4-B71D-45340928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9319D-AB48-4C7E-B2F5-BF48C414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0B396-AC11-411E-968D-458CD7D9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4BAA9-1F65-4AC0-97FB-51BF9B20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E1E42-DEBA-4E09-8A17-A99D981A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52229-1527-4BDB-9D2A-AC97A968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C434A-9C41-4B6F-9D9D-FA479FB2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96581-4FD4-46AA-A1F6-39E141BC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C574F-C619-4A03-93DF-5F127343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334-4EE3-4807-BE78-61B2F6DB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DC2C2-6B2E-4603-8735-3E0DBF3D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8B9DC-28EF-4FB5-BAA1-6EC5DBA3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892C9-BE82-4A0F-9FCA-C9FA5004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2B35F-9FFC-4E4A-8BF1-39C16A13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58476-5AFB-4FA3-AE7E-176CC9F0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3F1DA-D30C-41EB-A24A-AF0BABD9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B0DED-0DAC-472F-BF1D-3B9BC032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6ECB9-A7F8-4781-83FD-17856715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E015C-A97E-414C-A599-E9FCEEEE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092BA-4518-4D16-A86A-0B84257B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7DA-8DD6-46AC-9759-EB56D7D9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FDEFE-20BC-4F05-AD89-0C5F7F0D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64255-F3BB-4F39-A366-88555CF4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E13FD-438F-4C41-9CB6-BE9CEE79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83CE8-6DA2-4E90-A811-5734DA9F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F3844-2B2F-4643-9B30-592D8A9B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06005-C766-4EC4-B749-252D9FB2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4C253-C2FC-4FAB-8036-05A9B890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26A80-657F-4A11-8533-C7B4A388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62E1F-67C6-40B0-8457-326D146D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9F556-AE6D-4767-A6AA-E36048A5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FDC8-23DC-4C90-B464-45A1A1EE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707C2-34CE-4CFF-8BE8-035AB0EF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38E98-D340-4CB1-B0B1-16565A1A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D309F-DF8C-49C3-BD0B-5B12C564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79E39-D6ED-444A-9EAA-C6743258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6BCFC-E194-4DE7-BC84-62DFD474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F8744-69B2-43E8-99B1-A5944494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D7047-BE07-412D-904C-D718255F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2F51C-29E3-408D-B79A-57DB9558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24EED-451F-4877-B7C3-77756981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2A545-4F41-49E1-9462-21E40814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7499-5DE8-4FF8-96B0-AA9EBF9B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CD91A-CF90-40AC-B8BD-1FD8B186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D109A-A55E-41FD-BDAA-0AD1788B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3DFB3-59EE-4250-88D6-7B95DE89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5FE7E-2017-48A9-8800-0EE03207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E5277-64D0-4A76-BBF0-E2C52CDC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FE5AF-80CE-4B4C-8BBD-3EA17983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80666-7A6A-4295-BBC1-94EF892E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66BF3-D5FD-47A5-A643-6640EE29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C796C-0EE4-45E0-B1C7-5E722967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99592-E7F2-4A6B-988C-509BD21C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8D66-AA3C-438B-8F04-968B8123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DD5C3-229E-4E94-8A93-12BF9C25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9E516-5380-414C-A541-E77906B8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FA60D-8468-4162-B81B-44668BC4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CF596-D1F4-4818-B03B-CEA0DD38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01948-8310-4D03-9A9F-23DB6DFF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A2BF8-8497-49BC-AC74-AA7690D3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5DAAE-3B8F-40A2-8E74-CFE483E7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DC3F9-F23B-4DD5-8B0D-1C223152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7B762-7CC9-4CB5-B022-6D42E064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C5B84-2303-494B-9310-02350BA3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1716-A3F1-492E-893D-B68C160E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ADF04-6DB4-4C06-B6D6-5B21D8A2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A6260-5A18-4DC2-ADAA-4EDCDBFC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DB483-02C0-463E-8F3F-3BD1143B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365DC-07A5-4343-BB55-220A113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2C454-EB4A-439A-B987-0E24AE84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6DD84-9006-4234-A9C0-D58FD0EB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3F2D3-40F7-4DAB-8089-A9160C7A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012DA-4BCF-42EB-B96E-2F33D2DE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77D93-0698-4300-9BB6-C598A010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9C56-F3BC-4605-9ADA-8505E73D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6BFE-0AD5-4D3E-9BD0-9B5F5C2A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43E0-BFEE-434F-9A44-CF858987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8DE-452F-491F-98CC-D6DB5FF8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7E60-A8B3-4E38-B64E-C2F3DF64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EA97-19BB-4AD4-A153-C3710DB6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FDD8-4EFD-40E8-A6CB-31999C3F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BE7C-DA9C-41C2-AAEB-FB787BC4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9CF1-313F-42EB-952A-8A50AB59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9BC45-9D19-4F8F-A30C-E79A3D35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A32B-4B87-4133-9BA3-26B86B19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AD897-E7AB-43FB-B349-2F2CF234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9C78-0C4E-4756-B50B-642AA9D0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095B-47D5-4FCA-ACBF-7EB8AFF8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B15-992F-47BB-9B1B-F6CC77CA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ECA0-4346-433F-938F-6906A9E9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A148-C4BC-40BC-A13E-E326CDCC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2ED8D-5FBE-4DD7-88C5-857B2C5D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3CCBF-4F9F-42A3-B0A7-1A076882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AAFB-CD93-4714-8633-879C4A0A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23A0-BFF9-4A49-A7DB-ADC0C348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7D86-B9FD-4744-AA35-0E92317F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8FDDA-ACF8-4DCA-8E1E-E61394DA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90DEA-3733-4D65-A400-5FA781A8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92CB2-B55F-417C-BEED-F5A02BF8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5A4-D519-4142-B993-B42B7220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FDED-54D9-432A-A7B6-592429C5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73FD-8206-471D-A917-BE49F871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5040-3B29-492A-9DDB-0F5776FA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D2868-10C9-46FF-BF8C-B5918296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8A103-AAE2-4C73-957C-67F0BAA1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F2B4-C3AA-488B-8131-C4F45561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2D54-53AA-49A4-BF3E-F840E8D1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567D0-6F7F-45F0-A04B-FDBA9F4D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8B5E5-CFF2-4628-B1C4-4EAD6186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2DDA-D275-4589-A8B5-5C99F523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C62-B48A-4711-B7D9-02199349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329BB-48AE-423F-AC18-57278462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83187-38D9-4F6B-B85B-896F86B3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FE7FF-AB5C-4CB6-979C-66F3D030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1474A-7CC1-4DAC-B2DD-BA1CC65B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698D9-000C-4DB6-9770-78C9A642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355D5-0995-4125-8FF7-7BAD5AE9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AD255-DF15-412A-9F84-496A724A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8C542-D718-4591-B6D3-11CD444A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2FAA2-D048-4E91-BEC0-7D59B447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2FD6-FD2E-4CB4-8619-88472002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50C-6A95-40BE-967F-B8A76DB2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1E82C-12C3-4307-B59C-FF458A11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D75C6-1F01-481B-96A3-AB98FB6C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358AA-4146-4C58-AF1C-5E565362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EF286-B206-4432-B304-F61777E5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02F7F-D8DB-4B8F-AE6B-D1267D98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BE780-8985-4EEE-9615-3F13BBDE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E4BDE-897B-42D1-9480-5D952D78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7FF92-D3F0-4099-A1E8-1BE42F4E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383F5-546B-4599-99D0-5F39E318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C274-A792-4B28-BE59-5081AE47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26D-9389-4F20-85E1-1A8D76F9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7F73B-B3B8-4F6C-ADD1-448A0699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31ADD-9790-480D-AC4A-4BE29BFE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CFCD8-E8C6-4B43-B25D-02E9E1AE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8E35C-68E9-4604-ACEA-58C313CB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33DBA-4110-489F-88DB-630300D4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B027C-7988-4548-8D0C-D04FC92E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CBB69-B65C-48A3-852E-E56FC43F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D7400-0DDF-4699-965B-6D5D5370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79415-41E6-4E7F-AAA9-C157EA6E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DE703-EAD5-4412-8992-C2B8645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571-1EF8-422D-ACAB-53A1FF69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B4A37-6842-4310-9251-04E98B0B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7A072-B37F-4EC0-A120-932102E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F0DE-C942-4278-A103-9CF2FAD9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4F4AE-AC75-4CBD-AFA2-D0672CD5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9AEA7-81BC-4365-96B1-C886C252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F76F3-261F-4DFE-BD88-3E300059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4B0BA-D8AE-4BC8-B529-CC76A201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C0D33-F840-4F70-B9C4-F5473C24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A86F8-27C3-4990-940A-27E9A861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579AC-EB37-4E02-80CC-9CA76518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46B-41CB-4DEE-8AD3-59ADCD5B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AAF75-159F-4CD9-9DD7-6833B850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404CB-ADC6-4D56-9A10-B0D2FC9E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0A9E5-AF9E-4C6C-91E8-D3978578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DB9E2-23E7-4C3B-9931-47489653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989F5-DF5C-4100-B9E1-A4CA30C1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79D78-FA4B-456F-9D31-1B5E820B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047DB-35A8-400A-8102-14C35704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A6008-6B24-47C4-95ED-F44D529A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D4DC5-248E-40DB-8215-811B882D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8EDDB-30AB-43B7-BDC0-353578B3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AEC9-1F0F-4839-B850-222AB8AF81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4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grpSp>
        <p:nvGrpSpPr>
          <p:cNvPr id="4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B76A-FA70-4712-AD35-22EA4DADF8D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grpSp>
        <p:nvGrpSpPr>
          <p:cNvPr id="495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6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97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98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99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00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01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F667-267A-4933-BBD4-B01B1164307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8A9A-1B20-4747-B92A-DCFF2431B0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92a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8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8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8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grpSp>
          <p:nvGrpSpPr>
            <p:cNvPr id="58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9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0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0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0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  <p:sp>
          <p:nvSpPr>
            <p:cNvPr id="60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265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265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1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1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1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1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grpSp>
          <p:nvGrpSpPr>
            <p:cNvPr id="61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1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1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1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1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1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  <p:sp>
          <p:nvSpPr>
            <p:cNvPr id="62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2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5c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A436-46D3-469E-BAF5-B2AEC241BC0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5EA3-0945-4E61-9C31-A34D5F42C8C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F34D-257F-4AC6-8C0B-3AC97B2DD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002B-9619-4211-B7AA-D406BB77879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D447-4A14-4BEB-950C-62161301A0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9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pic>
          <p:nvPicPr>
            <p:cNvPr id="19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0608-1414-473F-8CE0-0330B7CE8A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92a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3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3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5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5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  <p:sp>
          <p:nvSpPr>
            <p:cNvPr id="25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265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265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6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grpSp>
          <p:nvGrpSpPr>
            <p:cNvPr id="26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6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6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6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6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6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  <p:sp>
          <p:nvSpPr>
            <p:cNvPr id="26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7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05BE-6FB1-476E-A9A8-0378B97B357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5c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33ED-B7D9-442F-BEF7-83552713CA8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5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35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35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A0B4-3FE4-419A-AF38-CF4C64F236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8D0A-5DE2-4443-A1D0-75B4D34BF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55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35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34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18.wmf"/><Relationship Id="rId12" Type="http://schemas.openxmlformats.org/officeDocument/2006/relationships/image" Target="../media/image65.png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7.png"/><Relationship Id="rId6" Type="http://schemas.openxmlformats.org/officeDocument/2006/relationships/image" Target="../media/image67.png"/><Relationship Id="rId7" Type="http://schemas.openxmlformats.org/officeDocument/2006/relationships/image" Target="../media/image67.png"/><Relationship Id="rId8" Type="http://schemas.openxmlformats.org/officeDocument/2006/relationships/image" Target="../media/image67.png"/><Relationship Id="rId9" Type="http://schemas.openxmlformats.org/officeDocument/2006/relationships/image" Target="../media/image67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jpe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Рисунок10"/>
          <p:cNvPicPr/>
          <p:nvPr/>
        </p:nvPicPr>
        <p:blipFill>
          <a:blip r:embed="rId1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Рисунок10"/>
          <p:cNvPicPr/>
          <p:nvPr/>
        </p:nvPicPr>
        <p:blipFill>
          <a:blip r:embed="rId2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706" name="WordArt 4"/>
          <p:cNvSpPr txBox="1"/>
          <p:nvPr/>
        </p:nvSpPr>
        <p:spPr>
          <a:xfrm>
            <a:off x="838080" y="380880"/>
            <a:ext cx="76964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ЗБУ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Ь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7" name="Picture 5" descr="img1"/>
          <p:cNvPicPr/>
          <p:nvPr/>
        </p:nvPicPr>
        <p:blipFill>
          <a:blip r:embed="rId3"/>
          <a:stretch/>
        </p:blipFill>
        <p:spPr>
          <a:xfrm>
            <a:off x="3809880" y="4267080"/>
            <a:ext cx="14385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Organization Chart 6"/>
          <p:cNvGrpSpPr/>
          <p:nvPr/>
        </p:nvGrpSpPr>
        <p:grpSpPr>
          <a:xfrm>
            <a:off x="719280" y="380880"/>
            <a:ext cx="8423280" cy="6337080"/>
            <a:chOff x="719280" y="380880"/>
            <a:chExt cx="8423280" cy="6337080"/>
          </a:xfrm>
        </p:grpSpPr>
        <p:cxnSp>
          <p:nvCxnSpPr>
            <p:cNvPr id="745" name="_s1028"/>
            <p:cNvCxnSpPr>
              <a:stCxn id="746" idx="1"/>
              <a:endCxn id="747" idx="2"/>
            </p:cNvCxnSpPr>
            <p:nvPr/>
          </p:nvCxnSpPr>
          <p:spPr>
            <a:xfrm rot="10800000">
              <a:off x="3245400" y="1013760"/>
              <a:ext cx="842760" cy="5387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8" name="_s1029"/>
            <p:cNvCxnSpPr>
              <a:stCxn id="749" idx="1"/>
              <a:endCxn id="747" idx="2"/>
            </p:cNvCxnSpPr>
            <p:nvPr/>
          </p:nvCxnSpPr>
          <p:spPr>
            <a:xfrm rot="10800000">
              <a:off x="3245400" y="1014480"/>
              <a:ext cx="842760" cy="443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0" name="_s1030"/>
            <p:cNvCxnSpPr>
              <a:stCxn id="751" idx="1"/>
              <a:endCxn id="747" idx="2"/>
            </p:cNvCxnSpPr>
            <p:nvPr/>
          </p:nvCxnSpPr>
          <p:spPr>
            <a:xfrm rot="10800000">
              <a:off x="3245400" y="1013760"/>
              <a:ext cx="842760" cy="348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2" name="_s1031"/>
            <p:cNvCxnSpPr>
              <a:stCxn id="753" idx="1"/>
              <a:endCxn id="747" idx="2"/>
            </p:cNvCxnSpPr>
            <p:nvPr/>
          </p:nvCxnSpPr>
          <p:spPr>
            <a:xfrm rot="10800000">
              <a:off x="3245400" y="1013760"/>
              <a:ext cx="842760" cy="253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4" name="_s1032"/>
            <p:cNvCxnSpPr>
              <a:stCxn id="755" idx="1"/>
              <a:endCxn id="747" idx="2"/>
            </p:cNvCxnSpPr>
            <p:nvPr/>
          </p:nvCxnSpPr>
          <p:spPr>
            <a:xfrm rot="10800000">
              <a:off x="3245400" y="1013760"/>
              <a:ext cx="842760" cy="158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6" name="_s1033"/>
            <p:cNvCxnSpPr>
              <a:stCxn id="757" idx="1"/>
              <a:endCxn id="747" idx="2"/>
            </p:cNvCxnSpPr>
            <p:nvPr/>
          </p:nvCxnSpPr>
          <p:spPr>
            <a:xfrm rot="10800000">
              <a:off x="3245400" y="1013760"/>
              <a:ext cx="842760" cy="63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47" name="_s1034"/>
            <p:cNvSpPr/>
            <p:nvPr/>
          </p:nvSpPr>
          <p:spPr>
            <a:xfrm>
              <a:off x="719280" y="380880"/>
              <a:ext cx="505404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f468"/>
                  </a:solidFill>
                  <a:latin typeface="Verdana"/>
                  <a:ea typeface="Arial"/>
                </a:rPr>
                <a:t>Физическая активность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757" name="_s1035"/>
            <p:cNvSpPr/>
            <p:nvPr/>
          </p:nvSpPr>
          <p:spPr>
            <a:xfrm>
              <a:off x="4088520" y="1331280"/>
              <a:ext cx="505404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Физическая культура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755" name="_s1036"/>
            <p:cNvSpPr/>
            <p:nvPr/>
          </p:nvSpPr>
          <p:spPr>
            <a:xfrm>
              <a:off x="4088520" y="2282040"/>
              <a:ext cx="505404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Спорт</a:t>
              </a:r>
              <a:endParaRPr b="0" lang="en-US" sz="32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753" name="_s1037"/>
            <p:cNvSpPr/>
            <p:nvPr/>
          </p:nvSpPr>
          <p:spPr>
            <a:xfrm>
              <a:off x="4088520" y="3232440"/>
              <a:ext cx="505404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Подвижные игры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751" name="_s1038"/>
            <p:cNvSpPr/>
            <p:nvPr/>
          </p:nvSpPr>
          <p:spPr>
            <a:xfrm>
              <a:off x="4088520" y="4183200"/>
              <a:ext cx="505404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Утренняя зарядка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749" name="_s1039"/>
            <p:cNvSpPr/>
            <p:nvPr/>
          </p:nvSpPr>
          <p:spPr>
            <a:xfrm>
              <a:off x="4088520" y="5133600"/>
              <a:ext cx="504756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Туризм и пешие прогулки</a:t>
              </a:r>
              <a:endParaRPr b="0" lang="en-US" sz="26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746" name="_s1040"/>
            <p:cNvSpPr/>
            <p:nvPr/>
          </p:nvSpPr>
          <p:spPr>
            <a:xfrm>
              <a:off x="4088520" y="6084360"/>
              <a:ext cx="504756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Физический труд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pic>
        <p:nvPicPr>
          <p:cNvPr id="758" name="Picture 20" descr="j0299763"/>
          <p:cNvPicPr/>
          <p:nvPr/>
        </p:nvPicPr>
        <p:blipFill>
          <a:blip r:embed="rId1"/>
          <a:stretch/>
        </p:blipFill>
        <p:spPr>
          <a:xfrm>
            <a:off x="468360" y="1197000"/>
            <a:ext cx="1827000" cy="15048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21" descr="MCj03980130000[1]"/>
          <p:cNvPicPr/>
          <p:nvPr/>
        </p:nvPicPr>
        <p:blipFill>
          <a:blip r:embed="rId2"/>
          <a:stretch/>
        </p:blipFill>
        <p:spPr>
          <a:xfrm>
            <a:off x="395280" y="4869000"/>
            <a:ext cx="1793880" cy="17110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2" descr="MCj03979150000[1]"/>
          <p:cNvPicPr/>
          <p:nvPr/>
        </p:nvPicPr>
        <p:blipFill>
          <a:blip r:embed="rId3"/>
          <a:stretch/>
        </p:blipFill>
        <p:spPr>
          <a:xfrm>
            <a:off x="539640" y="2997360"/>
            <a:ext cx="1524240" cy="15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Кто спортом занимается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тот силы набираетс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92504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порт нам плечи расправля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илу, ловкость нам д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н нам мышцы развив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 рекорды нас зо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4" descr="62r4"/>
          <p:cNvPicPr/>
          <p:nvPr/>
        </p:nvPicPr>
        <p:blipFill>
          <a:blip r:embed="rId1"/>
          <a:stretch/>
        </p:blipFill>
        <p:spPr>
          <a:xfrm>
            <a:off x="6629400" y="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PE01250_"/>
          <p:cNvPicPr/>
          <p:nvPr/>
        </p:nvPicPr>
        <p:blipFill>
          <a:blip r:embed="rId2"/>
          <a:stretch/>
        </p:blipFill>
        <p:spPr>
          <a:xfrm>
            <a:off x="4800600" y="4419720"/>
            <a:ext cx="1488960" cy="17524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7" descr="PE01263_"/>
          <p:cNvPicPr/>
          <p:nvPr/>
        </p:nvPicPr>
        <p:blipFill>
          <a:blip r:embed="rId3"/>
          <a:stretch/>
        </p:blipFill>
        <p:spPr>
          <a:xfrm>
            <a:off x="6705720" y="2286000"/>
            <a:ext cx="2057400" cy="16747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8" descr="img"/>
          <p:cNvPicPr/>
          <p:nvPr/>
        </p:nvPicPr>
        <p:blipFill>
          <a:blip r:embed="rId4"/>
          <a:stretch/>
        </p:blipFill>
        <p:spPr>
          <a:xfrm>
            <a:off x="6781680" y="4267080"/>
            <a:ext cx="144792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Times New Roman"/>
              </a:rPr>
              <a:t>«Умеренный в еде - всегда здоров!»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768" name="Picture 9" descr="Рисунок1"/>
          <p:cNvPicPr/>
          <p:nvPr/>
        </p:nvPicPr>
        <p:blipFill>
          <a:blip r:embed="rId1"/>
          <a:srcRect l="3405" t="16265" r="68803" b="51186"/>
          <a:stretch/>
        </p:blipFill>
        <p:spPr>
          <a:xfrm>
            <a:off x="609480" y="4724280"/>
            <a:ext cx="2057400" cy="18399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0" descr="Рисунок1"/>
          <p:cNvPicPr/>
          <p:nvPr/>
        </p:nvPicPr>
        <p:blipFill>
          <a:blip r:embed="rId2"/>
          <a:srcRect l="3931" t="60356" r="67662" b="4552"/>
          <a:stretch/>
        </p:blipFill>
        <p:spPr>
          <a:xfrm>
            <a:off x="6248520" y="2209680"/>
            <a:ext cx="2209680" cy="1809720"/>
          </a:xfrm>
          <a:prstGeom prst="rect">
            <a:avLst/>
          </a:prstGeom>
          <a:ln w="0">
            <a:noFill/>
          </a:ln>
        </p:spPr>
      </p:pic>
      <p:sp>
        <p:nvSpPr>
          <p:cNvPr id="770" name="WordArt 11"/>
          <p:cNvSpPr txBox="1"/>
          <p:nvPr/>
        </p:nvSpPr>
        <p:spPr>
          <a:xfrm>
            <a:off x="5943600" y="1905120"/>
            <a:ext cx="28195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неправильн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771" name="WordArt 12"/>
          <p:cNvSpPr txBox="1"/>
          <p:nvPr/>
        </p:nvSpPr>
        <p:spPr>
          <a:xfrm>
            <a:off x="380880" y="4343400"/>
            <a:ext cx="2667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правильн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3962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 люблю покушать сытн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ного, вкусно, аппетитн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м я все и без разбор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тому что я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бж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16"/>
          <p:cNvSpPr/>
          <p:nvPr/>
        </p:nvSpPr>
        <p:spPr>
          <a:xfrm>
            <a:off x="5181480" y="4419360"/>
            <a:ext cx="3886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бы десны были крепкими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рызи морковку с репкою.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бы зубы не болели, 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место пряников, конфет 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шьте яблоки, морковку –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т вам, дети, мой совет.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74" name="Line 18"/>
          <p:cNvSpPr/>
          <p:nvPr/>
        </p:nvSpPr>
        <p:spPr>
          <a:xfrm>
            <a:off x="4191120" y="28195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75" name="Line 19"/>
          <p:cNvSpPr/>
          <p:nvPr/>
        </p:nvSpPr>
        <p:spPr>
          <a:xfrm flipH="1">
            <a:off x="3048120" y="51055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diamond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d5c6"/>
                </a:solidFill>
                <a:latin typeface="Times New Roman"/>
              </a:rPr>
              <a:t>Полезные и вредные продукты:</a:t>
            </a:r>
            <a:endParaRPr b="0" lang="en-US" sz="36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8" name="Picture 13" descr="FD00188_"/>
          <p:cNvPicPr/>
          <p:nvPr/>
        </p:nvPicPr>
        <p:blipFill>
          <a:blip r:embed="rId1"/>
          <a:stretch/>
        </p:blipFill>
        <p:spPr>
          <a:xfrm>
            <a:off x="4267080" y="1143000"/>
            <a:ext cx="2305080" cy="14479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4" descr="FD00961_"/>
          <p:cNvPicPr/>
          <p:nvPr/>
        </p:nvPicPr>
        <p:blipFill>
          <a:blip r:embed="rId2"/>
          <a:stretch/>
        </p:blipFill>
        <p:spPr>
          <a:xfrm>
            <a:off x="6781680" y="2590920"/>
            <a:ext cx="2001960" cy="17827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5" descr="FD00963_"/>
          <p:cNvPicPr/>
          <p:nvPr/>
        </p:nvPicPr>
        <p:blipFill>
          <a:blip r:embed="rId3"/>
          <a:stretch/>
        </p:blipFill>
        <p:spPr>
          <a:xfrm>
            <a:off x="5029200" y="5013360"/>
            <a:ext cx="1736640" cy="184464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16"/>
          <p:cNvSpPr/>
          <p:nvPr/>
        </p:nvSpPr>
        <p:spPr>
          <a:xfrm>
            <a:off x="152280" y="13694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Надо кушать помидор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Фрукты, овощи, лимон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Кашу – утром, суп – в обед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А на ужин – винегрет. 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82" name="Rectangle 17"/>
          <p:cNvSpPr/>
          <p:nvPr/>
        </p:nvSpPr>
        <p:spPr>
          <a:xfrm>
            <a:off x="2362320" y="3121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Ну, а если свой обед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Ты начнешь с кулька конфет,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Жвачкой импортной закусишь,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Шоколадом подсластишь,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83" name="Rectangle 18"/>
          <p:cNvSpPr/>
          <p:nvPr/>
        </p:nvSpPr>
        <p:spPr>
          <a:xfrm>
            <a:off x="457200" y="49507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c640"/>
                </a:solidFill>
                <a:latin typeface="Times New Roman"/>
              </a:rPr>
              <a:t>То тогда наверняка</a:t>
            </a:r>
            <a:br>
              <a:rPr sz="2400"/>
            </a:br>
            <a:r>
              <a:rPr b="1" lang="ru-RU" sz="2400" spc="-1" strike="noStrike">
                <a:solidFill>
                  <a:srgbClr val="c0c640"/>
                </a:solidFill>
                <a:latin typeface="Times New Roman"/>
              </a:rPr>
              <a:t>Ваши спутники всегда -</a:t>
            </a:r>
            <a:br>
              <a:rPr sz="2400"/>
            </a:br>
            <a:r>
              <a:rPr b="1" lang="ru-RU" sz="2400" spc="-1" strike="noStrike">
                <a:solidFill>
                  <a:srgbClr val="c0c640"/>
                </a:solidFill>
                <a:latin typeface="Times New Roman"/>
              </a:rPr>
              <a:t>Близорукость, бледный вид</a:t>
            </a:r>
            <a:br>
              <a:rPr sz="2400"/>
            </a:br>
            <a:r>
              <a:rPr b="1" lang="ru-RU" sz="2400" spc="-1" strike="noStrike">
                <a:solidFill>
                  <a:srgbClr val="c0c640"/>
                </a:solidFill>
                <a:latin typeface="Times New Roman"/>
              </a:rPr>
              <a:t>И неважный аппетит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15" descr=""/>
          <p:cNvPicPr/>
          <p:nvPr/>
        </p:nvPicPr>
        <p:blipFill>
          <a:blip r:embed="rId1"/>
          <a:stretch/>
        </p:blipFill>
        <p:spPr>
          <a:xfrm>
            <a:off x="1928880" y="1143000"/>
            <a:ext cx="5545080" cy="47862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8" descr=""/>
          <p:cNvPicPr/>
          <p:nvPr/>
        </p:nvPicPr>
        <p:blipFill>
          <a:blip r:embed="rId2"/>
          <a:stretch/>
        </p:blipFill>
        <p:spPr>
          <a:xfrm>
            <a:off x="0" y="214200"/>
            <a:ext cx="1800360" cy="17208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0" descr="Коллекция картинок - Фрукты"/>
          <p:cNvPicPr/>
          <p:nvPr/>
        </p:nvPicPr>
        <p:blipFill>
          <a:blip r:embed="rId3"/>
          <a:srcRect l="40253" t="36001" r="22999" b="36502"/>
          <a:stretch/>
        </p:blipFill>
        <p:spPr>
          <a:xfrm>
            <a:off x="7572240" y="0"/>
            <a:ext cx="1400400" cy="14050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9" descr="Коллекция картинок - Фрукты"/>
          <p:cNvPicPr/>
          <p:nvPr/>
        </p:nvPicPr>
        <p:blipFill>
          <a:blip r:embed="rId4"/>
          <a:srcRect l="66588" t="62752" r="0" b="0"/>
          <a:stretch/>
        </p:blipFill>
        <p:spPr>
          <a:xfrm>
            <a:off x="214200" y="5214960"/>
            <a:ext cx="1219320" cy="14191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4" descr=""/>
          <p:cNvPicPr/>
          <p:nvPr/>
        </p:nvPicPr>
        <p:blipFill>
          <a:blip r:embed="rId5"/>
          <a:stretch/>
        </p:blipFill>
        <p:spPr>
          <a:xfrm>
            <a:off x="7596360" y="2997360"/>
            <a:ext cx="1371600" cy="6951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1" descr="F:\фрукты\БАНАН.bmp"/>
          <p:cNvPicPr/>
          <p:nvPr/>
        </p:nvPicPr>
        <p:blipFill>
          <a:blip r:embed="rId6"/>
          <a:stretch/>
        </p:blipFill>
        <p:spPr>
          <a:xfrm>
            <a:off x="7715160" y="5143680"/>
            <a:ext cx="1162080" cy="1485720"/>
          </a:xfrm>
          <a:prstGeom prst="rect">
            <a:avLst/>
          </a:prstGeom>
          <a:ln w="0">
            <a:noFill/>
          </a:ln>
        </p:spPr>
      </p:pic>
      <p:sp>
        <p:nvSpPr>
          <p:cNvPr id="790" name="TextBox 10"/>
          <p:cNvSpPr/>
          <p:nvPr/>
        </p:nvSpPr>
        <p:spPr>
          <a:xfrm>
            <a:off x="2611440" y="45720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Showcard Gothic"/>
              </a:rPr>
              <a:t>ВИТАМИННЫЙ</a:t>
            </a:r>
            <a:r>
              <a:rPr b="0" lang="ru-RU" sz="18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howcard Gothic"/>
              </a:rPr>
              <a:t>КРОССВОРД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1523880" y="594324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Найдите в кроссворде названия овощей и фруктов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Текст 2"/>
          <p:cNvSpPr/>
          <p:nvPr/>
        </p:nvSpPr>
        <p:spPr>
          <a:xfrm>
            <a:off x="428760" y="357120"/>
            <a:ext cx="84294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елу </a:t>
            </a:r>
            <a:endParaRPr b="0" lang="en-US" sz="6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техе</a:t>
            </a:r>
            <a:endParaRPr b="0" lang="en-US" sz="6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ас</a:t>
            </a:r>
            <a:endParaRPr b="0" lang="en-US" sz="6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6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52880" y="3805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</a:rPr>
              <a:t>«Соблюдай режим труда и быта, и будет здоровье крепче гранита»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693432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жить умеет по часам и ценит каждый ча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о не надо по утрам будить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сять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он не станет говорить, что лень ему вста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ядку делать, руки мыт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стилать к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пеет он одеться в срок, умыться и пое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раньше, чем звенит звонок,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рту в школе се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040116_coq"/>
          <p:cNvPicPr/>
          <p:nvPr/>
        </p:nvPicPr>
        <p:blipFill>
          <a:blip r:embed="rId1"/>
          <a:stretch/>
        </p:blipFill>
        <p:spPr>
          <a:xfrm>
            <a:off x="0" y="51055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ДЕЛУ – ВРЕМЯ,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                  ПОТЕХЕ – ЧАС.</a:t>
            </a:r>
            <a:br>
              <a:rPr sz="3600"/>
            </a:b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облюдай режим дня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797" name="Рисунок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571400" cy="1643040"/>
          </a:xfrm>
          <a:prstGeom prst="rect">
            <a:avLst/>
          </a:prstGeom>
          <a:ln w="0">
            <a:noFill/>
          </a:ln>
        </p:spPr>
      </p:pic>
      <p:pic>
        <p:nvPicPr>
          <p:cNvPr id="798" name="Рисунок 4" descr=""/>
          <p:cNvPicPr/>
          <p:nvPr/>
        </p:nvPicPr>
        <p:blipFill>
          <a:blip r:embed="rId2"/>
          <a:stretch/>
        </p:blipFill>
        <p:spPr>
          <a:xfrm>
            <a:off x="6629400" y="4419720"/>
            <a:ext cx="2181240" cy="2033640"/>
          </a:xfrm>
          <a:prstGeom prst="rect">
            <a:avLst/>
          </a:prstGeom>
          <a:ln w="0">
            <a:noFill/>
          </a:ln>
        </p:spPr>
      </p:pic>
      <p:sp>
        <p:nvSpPr>
          <p:cNvPr id="799" name="Прямоугольник 5"/>
          <p:cNvSpPr/>
          <p:nvPr/>
        </p:nvSpPr>
        <p:spPr>
          <a:xfrm>
            <a:off x="2209680" y="2286000"/>
            <a:ext cx="496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жим, ребята, много значит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жет он решить задачи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гда ложиться и встават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гда тетрадку открыват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садиться за уроки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гда гулять идти, когда..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 получишь ты тогд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гда изучишь ты режи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станет он тебе родным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00" name="Рисунок 6" descr=""/>
          <p:cNvPicPr/>
          <p:nvPr/>
        </p:nvPicPr>
        <p:blipFill>
          <a:blip r:embed="rId3"/>
          <a:stretch/>
        </p:blipFill>
        <p:spPr>
          <a:xfrm>
            <a:off x="7391520" y="213372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Текст 2"/>
          <p:cNvSpPr/>
          <p:nvPr/>
        </p:nvSpPr>
        <p:spPr>
          <a:xfrm>
            <a:off x="357120" y="357120"/>
            <a:ext cx="842976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ъем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жин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бодное время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трак 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ядка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д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улка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02" name="Рисунок 3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1729080" cy="1300320"/>
          </a:xfrm>
          <a:prstGeom prst="rect">
            <a:avLst/>
          </a:prstGeom>
          <a:ln w="0">
            <a:noFill/>
          </a:ln>
        </p:spPr>
      </p:pic>
      <p:pic>
        <p:nvPicPr>
          <p:cNvPr id="803" name="Рисунок 4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1357200" cy="1733400"/>
          </a:xfrm>
          <a:prstGeom prst="rect">
            <a:avLst/>
          </a:prstGeom>
          <a:ln w="0">
            <a:noFill/>
          </a:ln>
        </p:spPr>
      </p:pic>
      <p:pic>
        <p:nvPicPr>
          <p:cNvPr id="804" name="Рисунок 6" descr=""/>
          <p:cNvPicPr/>
          <p:nvPr/>
        </p:nvPicPr>
        <p:blipFill>
          <a:blip r:embed="rId3"/>
          <a:stretch/>
        </p:blipFill>
        <p:spPr>
          <a:xfrm>
            <a:off x="4343400" y="472428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805" name="Рисунок 7" descr=""/>
          <p:cNvPicPr/>
          <p:nvPr/>
        </p:nvPicPr>
        <p:blipFill>
          <a:blip r:embed="rId4"/>
          <a:stretch/>
        </p:blipFill>
        <p:spPr>
          <a:xfrm>
            <a:off x="7086600" y="1143000"/>
            <a:ext cx="1352520" cy="1495440"/>
          </a:xfrm>
          <a:prstGeom prst="rect">
            <a:avLst/>
          </a:prstGeom>
          <a:ln w="0">
            <a:noFill/>
          </a:ln>
        </p:spPr>
      </p:pic>
      <p:pic>
        <p:nvPicPr>
          <p:cNvPr id="806" name="Рисунок 8" descr=""/>
          <p:cNvPicPr/>
          <p:nvPr/>
        </p:nvPicPr>
        <p:blipFill>
          <a:blip r:embed="rId5"/>
          <a:stretch/>
        </p:blipFill>
        <p:spPr>
          <a:xfrm>
            <a:off x="6781680" y="4267080"/>
            <a:ext cx="1571760" cy="178596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9" descr=""/>
          <p:cNvPicPr/>
          <p:nvPr/>
        </p:nvPicPr>
        <p:blipFill>
          <a:blip r:embed="rId6"/>
          <a:stretch/>
        </p:blipFill>
        <p:spPr>
          <a:xfrm>
            <a:off x="1714680" y="85716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d5c6"/>
                </a:solidFill>
                <a:latin typeface="Arial"/>
              </a:rPr>
              <a:t>«Кто табачное зелье любит, </a:t>
            </a:r>
            <a:br>
              <a:rPr sz="4000"/>
            </a:br>
            <a:r>
              <a:rPr b="1" lang="ru-RU" sz="4000" spc="-1" strike="noStrike">
                <a:solidFill>
                  <a:srgbClr val="d6d5c6"/>
                </a:solidFill>
                <a:latin typeface="Arial"/>
              </a:rPr>
              <a:t>                      тот сам себя и губит!»</a:t>
            </a:r>
            <a:endParaRPr b="0" lang="en-US" sz="40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536040" y="2236320"/>
            <a:ext cx="5457960" cy="36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Сигареты — никотин,</a:t>
            </a:r>
            <a:br>
              <a:rPr sz="2700"/>
            </a:b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ВРАГ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 всему номер один!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Курят, что аж дым столбом!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Отравляют табаком,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Не заботясь о здоровье —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Ни о своем, ни о чужом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0" name="Picture 5" descr="img4"/>
          <p:cNvPicPr/>
          <p:nvPr/>
        </p:nvPicPr>
        <p:blipFill>
          <a:blip r:embed="rId1"/>
          <a:stretch/>
        </p:blipFill>
        <p:spPr>
          <a:xfrm>
            <a:off x="5410080" y="2057400"/>
            <a:ext cx="3129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4418"/>
            </a:gs>
            <a:gs pos="50000">
              <a:srgbClr val="a8ae9b"/>
            </a:gs>
            <a:gs pos="100000">
              <a:srgbClr val="3544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doc09"/>
          <p:cNvPicPr/>
          <p:nvPr/>
        </p:nvPicPr>
        <p:blipFill>
          <a:blip r:embed="rId1"/>
          <a:stretch/>
        </p:blipFill>
        <p:spPr>
          <a:xfrm>
            <a:off x="7086600" y="1447920"/>
            <a:ext cx="1295280" cy="25905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46c0d37d34c82"/>
          <p:cNvPicPr/>
          <p:nvPr/>
        </p:nvPicPr>
        <p:blipFill>
          <a:blip r:embed="rId2"/>
          <a:stretch/>
        </p:blipFill>
        <p:spPr>
          <a:xfrm>
            <a:off x="1066680" y="472428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" descr="46c0d46269cc5"/>
          <p:cNvPicPr/>
          <p:nvPr/>
        </p:nvPicPr>
        <p:blipFill>
          <a:blip r:embed="rId3"/>
          <a:stretch/>
        </p:blipFill>
        <p:spPr>
          <a:xfrm>
            <a:off x="2362320" y="457200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7" descr="46c0da15a46e6"/>
          <p:cNvPicPr/>
          <p:nvPr/>
        </p:nvPicPr>
        <p:blipFill>
          <a:blip r:embed="rId4"/>
          <a:stretch/>
        </p:blipFill>
        <p:spPr>
          <a:xfrm>
            <a:off x="3733920" y="480060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8" descr="471f33c491e0c"/>
          <p:cNvPicPr/>
          <p:nvPr/>
        </p:nvPicPr>
        <p:blipFill>
          <a:blip r:embed="rId5"/>
          <a:stretch/>
        </p:blipFill>
        <p:spPr>
          <a:xfrm>
            <a:off x="5181480" y="4648320"/>
            <a:ext cx="957240" cy="12776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9" descr="46fb9b4607081"/>
          <p:cNvPicPr/>
          <p:nvPr/>
        </p:nvPicPr>
        <p:blipFill>
          <a:blip r:embed="rId6"/>
          <a:stretch/>
        </p:blipFill>
        <p:spPr>
          <a:xfrm>
            <a:off x="6477120" y="4724280"/>
            <a:ext cx="1203120" cy="144000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12"/>
          <p:cNvSpPr/>
          <p:nvPr/>
        </p:nvSpPr>
        <p:spPr>
          <a:xfrm>
            <a:off x="762120" y="1676520"/>
            <a:ext cx="647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Я открою семь секретов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Как здоровье сохранить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ыполняя все секреты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Без болезней будем жит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52d2c"/>
                </a:solidFill>
                <a:latin typeface="Times New Roman"/>
              </a:rPr>
              <a:t>Секреты здоровь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Текст 2"/>
          <p:cNvSpPr/>
          <p:nvPr/>
        </p:nvSpPr>
        <p:spPr>
          <a:xfrm>
            <a:off x="357120" y="357120"/>
            <a:ext cx="842976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сли вам предложили закурить нуж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тойти в сторону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общить курящему об опасности  курения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ринять предложение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тветить отказом «Нет!» « Не буду!», «Не хочу!»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делать вид, что не расслышал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1711080" cy="17431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" descr=""/>
          <p:cNvPicPr/>
          <p:nvPr/>
        </p:nvPicPr>
        <p:blipFill>
          <a:blip r:embed="rId2"/>
          <a:stretch/>
        </p:blipFill>
        <p:spPr>
          <a:xfrm>
            <a:off x="3809880" y="3276720"/>
            <a:ext cx="1889280" cy="180504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4" descr=""/>
          <p:cNvPicPr/>
          <p:nvPr/>
        </p:nvPicPr>
        <p:blipFill>
          <a:blip r:embed="rId3"/>
          <a:stretch/>
        </p:blipFill>
        <p:spPr>
          <a:xfrm>
            <a:off x="7086600" y="2590920"/>
            <a:ext cx="1768320" cy="18000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4" descr="C:\Documents and Settings\Галина\Рабочий стол\анимашки\АНИМИРОВАННЫЕ ГИФЫ --- человечески13е.files\child2.files\CALVIN3.gif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400800" y="4648320"/>
            <a:ext cx="1895400" cy="192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6" name="Picture 50" descr="26"/>
          <p:cNvPicPr/>
          <p:nvPr/>
        </p:nvPicPr>
        <p:blipFill>
          <a:blip r:embed="rId5"/>
          <a:stretch/>
        </p:blipFill>
        <p:spPr>
          <a:xfrm rot="20972400">
            <a:off x="1085400" y="4573440"/>
            <a:ext cx="2233800" cy="209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omb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a0d060"/>
            </a:gs>
            <a:gs pos="100000">
              <a:srgbClr val="66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NA00142_"/>
          <p:cNvPicPr/>
          <p:nvPr/>
        </p:nvPicPr>
        <p:blipFill>
          <a:blip r:embed="rId1"/>
          <a:stretch/>
        </p:blipFill>
        <p:spPr>
          <a:xfrm>
            <a:off x="2133720" y="1905120"/>
            <a:ext cx="4419360" cy="418140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1981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9" name="Picture 6" descr="FD00963_"/>
          <p:cNvPicPr/>
          <p:nvPr/>
        </p:nvPicPr>
        <p:blipFill>
          <a:blip r:embed="rId2"/>
          <a:stretch/>
        </p:blipFill>
        <p:spPr>
          <a:xfrm>
            <a:off x="4572000" y="1295280"/>
            <a:ext cx="1146240" cy="10670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5" descr="SL00244_"/>
          <p:cNvPicPr/>
          <p:nvPr/>
        </p:nvPicPr>
        <p:blipFill>
          <a:blip r:embed="rId3"/>
          <a:stretch/>
        </p:blipFill>
        <p:spPr>
          <a:xfrm>
            <a:off x="3124080" y="1523880"/>
            <a:ext cx="1020960" cy="9446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7" descr="NA00595_"/>
          <p:cNvPicPr/>
          <p:nvPr/>
        </p:nvPicPr>
        <p:blipFill>
          <a:blip r:embed="rId4"/>
          <a:stretch/>
        </p:blipFill>
        <p:spPr>
          <a:xfrm>
            <a:off x="1676520" y="4876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8" descr="DD00122_"/>
          <p:cNvPicPr/>
          <p:nvPr/>
        </p:nvPicPr>
        <p:blipFill>
          <a:blip r:embed="rId5"/>
          <a:stretch/>
        </p:blipFill>
        <p:spPr>
          <a:xfrm>
            <a:off x="6324480" y="3048120"/>
            <a:ext cx="1114560" cy="11430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9" descr="FD00961_"/>
          <p:cNvPicPr/>
          <p:nvPr/>
        </p:nvPicPr>
        <p:blipFill>
          <a:blip r:embed="rId6"/>
          <a:stretch/>
        </p:blipFill>
        <p:spPr>
          <a:xfrm>
            <a:off x="7696080" y="4114800"/>
            <a:ext cx="1090800" cy="9716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0" descr="SL00246_"/>
          <p:cNvPicPr/>
          <p:nvPr/>
        </p:nvPicPr>
        <p:blipFill>
          <a:blip r:embed="rId7"/>
          <a:stretch/>
        </p:blipFill>
        <p:spPr>
          <a:xfrm>
            <a:off x="6095880" y="4419720"/>
            <a:ext cx="1320840" cy="11649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11" descr="SL00723_"/>
          <p:cNvPicPr/>
          <p:nvPr/>
        </p:nvPicPr>
        <p:blipFill>
          <a:blip r:embed="rId8"/>
          <a:stretch/>
        </p:blipFill>
        <p:spPr>
          <a:xfrm>
            <a:off x="5029200" y="556272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14" descr="Здравствуй, лето!"/>
          <p:cNvPicPr/>
          <p:nvPr/>
        </p:nvPicPr>
        <p:blipFill>
          <a:blip r:embed="rId9"/>
          <a:stretch/>
        </p:blipFill>
        <p:spPr>
          <a:xfrm>
            <a:off x="5943600" y="20574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5" descr="День здоровья"/>
          <p:cNvPicPr/>
          <p:nvPr/>
        </p:nvPicPr>
        <p:blipFill>
          <a:blip r:embed="rId10"/>
          <a:stretch/>
        </p:blipFill>
        <p:spPr>
          <a:xfrm>
            <a:off x="3429000" y="57913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6" descr="HH01303_"/>
          <p:cNvPicPr/>
          <p:nvPr/>
        </p:nvPicPr>
        <p:blipFill>
          <a:blip r:embed="rId11"/>
          <a:stretch/>
        </p:blipFill>
        <p:spPr>
          <a:xfrm>
            <a:off x="1219320" y="3276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17" descr="img12"/>
          <p:cNvPicPr/>
          <p:nvPr/>
        </p:nvPicPr>
        <p:blipFill>
          <a:blip r:embed="rId12"/>
          <a:stretch/>
        </p:blipFill>
        <p:spPr>
          <a:xfrm>
            <a:off x="8001000" y="5486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18" descr="PE01335_"/>
          <p:cNvPicPr/>
          <p:nvPr/>
        </p:nvPicPr>
        <p:blipFill>
          <a:blip r:embed="rId13"/>
          <a:stretch/>
        </p:blipFill>
        <p:spPr>
          <a:xfrm>
            <a:off x="1676520" y="2133720"/>
            <a:ext cx="1371600" cy="990360"/>
          </a:xfrm>
          <a:prstGeom prst="rect">
            <a:avLst/>
          </a:prstGeom>
          <a:ln w="0">
            <a:noFill/>
          </a:ln>
        </p:spPr>
      </p:pic>
      <p:sp>
        <p:nvSpPr>
          <p:cNvPr id="831" name="WordArt 20"/>
          <p:cNvSpPr txBox="1"/>
          <p:nvPr/>
        </p:nvSpPr>
        <p:spPr>
          <a:xfrm>
            <a:off x="1066680" y="228600"/>
            <a:ext cx="7696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и  друзь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8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8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8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8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8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8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8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8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8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77612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Компоненты здоровья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Diagram 32"/>
          <p:cNvGrpSpPr/>
          <p:nvPr/>
        </p:nvGrpSpPr>
        <p:grpSpPr>
          <a:xfrm>
            <a:off x="862200" y="1800360"/>
            <a:ext cx="7458120" cy="4021560"/>
            <a:chOff x="862200" y="1800360"/>
            <a:chExt cx="7458120" cy="4021560"/>
          </a:xfrm>
        </p:grpSpPr>
        <p:sp>
          <p:nvSpPr>
            <p:cNvPr id="834" name="_s2052"/>
            <p:cNvSpPr/>
            <p:nvPr/>
          </p:nvSpPr>
          <p:spPr>
            <a:xfrm flipV="1">
              <a:off x="4589640" y="2843280"/>
              <a:ext cx="0" cy="52344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35" name="_s2053"/>
            <p:cNvSpPr/>
            <p:nvPr/>
          </p:nvSpPr>
          <p:spPr>
            <a:xfrm>
              <a:off x="3640320" y="1800360"/>
              <a:ext cx="1901880" cy="1045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ff"/>
                  </a:solidFill>
                  <a:latin typeface="Times New Roman"/>
                </a:rPr>
                <a:t>Движение</a:t>
              </a:r>
              <a:endParaRPr b="0" lang="en-US" sz="29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36" name="_s2054"/>
            <p:cNvSpPr/>
            <p:nvPr/>
          </p:nvSpPr>
          <p:spPr>
            <a:xfrm flipV="1">
              <a:off x="5331600" y="3236040"/>
              <a:ext cx="744120" cy="32580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37" name="_s2055"/>
            <p:cNvSpPr/>
            <p:nvPr/>
          </p:nvSpPr>
          <p:spPr>
            <a:xfrm>
              <a:off x="5868360" y="2388960"/>
              <a:ext cx="1901880" cy="1044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ложительные 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эмоции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38" name="_s2056"/>
            <p:cNvSpPr/>
            <p:nvPr/>
          </p:nvSpPr>
          <p:spPr>
            <a:xfrm>
              <a:off x="5516280" y="4002480"/>
              <a:ext cx="925920" cy="1173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39" name="_s2057"/>
            <p:cNvSpPr/>
            <p:nvPr/>
          </p:nvSpPr>
          <p:spPr>
            <a:xfrm>
              <a:off x="6419160" y="3712680"/>
              <a:ext cx="1901160" cy="1045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Отказ от вредных </a:t>
              </a: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привычек</a:t>
              </a: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0" name="_s2058"/>
            <p:cNvSpPr/>
            <p:nvPr/>
          </p:nvSpPr>
          <p:spPr>
            <a:xfrm>
              <a:off x="5002200" y="4355640"/>
              <a:ext cx="411480" cy="47232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1" name="_s2059"/>
            <p:cNvSpPr/>
            <p:nvPr/>
          </p:nvSpPr>
          <p:spPr>
            <a:xfrm>
              <a:off x="4879440" y="4775760"/>
              <a:ext cx="1901880" cy="10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Рациональное 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итание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2" name="_s2060"/>
            <p:cNvSpPr/>
            <p:nvPr/>
          </p:nvSpPr>
          <p:spPr>
            <a:xfrm flipH="1">
              <a:off x="3765960" y="4355640"/>
              <a:ext cx="415440" cy="47232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3" name="_s2061"/>
            <p:cNvSpPr/>
            <p:nvPr/>
          </p:nvSpPr>
          <p:spPr>
            <a:xfrm>
              <a:off x="2407680" y="4777560"/>
              <a:ext cx="1901880" cy="1044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Закаливание и 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оздоровление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4" name="_s2062"/>
            <p:cNvSpPr/>
            <p:nvPr/>
          </p:nvSpPr>
          <p:spPr>
            <a:xfrm flipH="1">
              <a:off x="2737440" y="4002480"/>
              <a:ext cx="929520" cy="1173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5" name="_s2063"/>
            <p:cNvSpPr/>
            <p:nvPr/>
          </p:nvSpPr>
          <p:spPr>
            <a:xfrm>
              <a:off x="862200" y="3716280"/>
              <a:ext cx="1901160" cy="1044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истота тела, жилища,</a:t>
              </a:r>
              <a:endParaRPr b="0" lang="en-US" sz="1400" spc="-1" strike="noStrike">
                <a:solidFill>
                  <a:srgbClr val="000000"/>
                </a:solidFill>
                <a:latin typeface="Showcard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одуктов питания</a:t>
              </a:r>
              <a:endParaRPr b="0" lang="en-US" sz="14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6" name="_s2064"/>
            <p:cNvSpPr/>
            <p:nvPr/>
          </p:nvSpPr>
          <p:spPr>
            <a:xfrm flipH="1" flipV="1">
              <a:off x="3103560" y="3236040"/>
              <a:ext cx="748080" cy="32580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7" name="_s2065"/>
            <p:cNvSpPr/>
            <p:nvPr/>
          </p:nvSpPr>
          <p:spPr>
            <a:xfrm>
              <a:off x="1409040" y="2390760"/>
              <a:ext cx="1901160" cy="1044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ff"/>
                  </a:solidFill>
                  <a:latin typeface="Times New Roman"/>
                </a:rPr>
                <a:t>Режим дня</a:t>
              </a:r>
              <a:endParaRPr b="0" lang="en-US" sz="29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8" name="_s2066"/>
            <p:cNvSpPr/>
            <p:nvPr/>
          </p:nvSpPr>
          <p:spPr>
            <a:xfrm>
              <a:off x="3640320" y="3366720"/>
              <a:ext cx="1901880" cy="10443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ЗДОРОВЬЕ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grpSp>
        <p:nvGrpSpPr>
          <p:cNvPr id="849" name="Organization Chart 5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Текст 2"/>
          <p:cNvSpPr/>
          <p:nvPr/>
        </p:nvSpPr>
        <p:spPr>
          <a:xfrm>
            <a:off x="428760" y="357120"/>
            <a:ext cx="84294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ыть здоровым- здорово!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Чтобы быть всегда здоровым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Бодрым ,стройным и веселым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Дать совет я вам готов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Как прожить без докторов.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Надо кушать помидоры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Фрукты ,овощи, лимоны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Кашу утром, суп в обед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А на ужин винегрет.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Надо спортом заниматься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Умываться, закаляться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Лыжным бегом  увлекаться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И почаще улыбаться.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852" name="Рисунок 3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3" descr=""/>
          <p:cNvPicPr/>
          <p:nvPr/>
        </p:nvPicPr>
        <p:blipFill>
          <a:blip r:embed="rId3"/>
          <a:stretch/>
        </p:blipFill>
        <p:spPr>
          <a:xfrm>
            <a:off x="6786720" y="2857680"/>
            <a:ext cx="1785960" cy="178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3300"/>
            </a:gs>
            <a:gs pos="100000">
              <a:srgbClr val="ff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1752480" y="609480"/>
            <a:ext cx="693432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Здравствуйте! Добрая ласковость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                                   </a:t>
            </a: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Стерлась на нет в ежеднев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                                 </a:t>
            </a: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прив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Здравствуйте! Это же - будь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                                 </a:t>
            </a: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здоров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Это же - дольше живите на свете.</a:t>
            </a:r>
            <a:r>
              <a:rPr b="0" lang="ru-RU" sz="2800" spc="-1" strike="noStrike">
                <a:solidFill>
                  <a:srgbClr val="152d2c"/>
                </a:solidFill>
                <a:latin typeface="Comic Sans MS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152d2c"/>
                </a:solidFill>
                <a:latin typeface="Arial"/>
              </a:rPr>
              <a:t>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52d2c"/>
                </a:solidFill>
                <a:latin typeface="Times New Roman"/>
              </a:rPr>
              <a:t>                                   </a:t>
            </a:r>
            <a:r>
              <a:rPr b="0" i="1" lang="ru-RU" sz="3200" spc="-1" strike="noStrike">
                <a:solidFill>
                  <a:srgbClr val="152d2c"/>
                </a:solidFill>
                <a:latin typeface="Times New Roman"/>
              </a:rPr>
              <a:t>  </a:t>
            </a:r>
            <a:r>
              <a:rPr b="0" i="1" lang="ru-RU" sz="3200" spc="-1" strike="noStrike">
                <a:solidFill>
                  <a:srgbClr val="152d2c"/>
                </a:solidFill>
                <a:latin typeface="Comic Sans MS"/>
              </a:rPr>
              <a:t>Е. Шевелёва</a:t>
            </a:r>
            <a:r>
              <a:rPr b="0" lang="ru-RU" sz="3600" spc="-1" strike="noStrike">
                <a:solidFill>
                  <a:srgbClr val="152d2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2" descr="C:\Documents and Settings\Галина\Рабочий стол\анимашки\АНИМИРОВАННЫЕ ГИФЫ --- человечески12е.files\child1.files\baby14_1.gif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5840" y="5110200"/>
            <a:ext cx="150012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dbd4"/>
            </a:gs>
            <a:gs pos="100000">
              <a:srgbClr val="898d7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99"/>
                </a:solidFill>
                <a:latin typeface="Times New Roman"/>
              </a:rPr>
              <a:t>Вредные поступки – </a:t>
            </a:r>
            <a:br>
              <a:rPr sz="4000"/>
            </a:br>
            <a:r>
              <a:rPr b="1" lang="ru-RU" sz="4000" spc="-1" strike="noStrike">
                <a:solidFill>
                  <a:srgbClr val="cc3399"/>
                </a:solidFill>
                <a:latin typeface="Times New Roman"/>
              </a:rPr>
              <a:t>                       добрые поступки!</a:t>
            </a:r>
            <a:endParaRPr b="0" lang="en-US" sz="40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0" name="Picture 5" descr="img4"/>
          <p:cNvPicPr/>
          <p:nvPr/>
        </p:nvPicPr>
        <p:blipFill>
          <a:blip r:embed="rId1"/>
          <a:stretch/>
        </p:blipFill>
        <p:spPr>
          <a:xfrm>
            <a:off x="5257800" y="1828800"/>
            <a:ext cx="2089080" cy="16747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" descr="img11"/>
          <p:cNvPicPr/>
          <p:nvPr/>
        </p:nvPicPr>
        <p:blipFill>
          <a:blip r:embed="rId2"/>
          <a:stretch/>
        </p:blipFill>
        <p:spPr>
          <a:xfrm>
            <a:off x="5181480" y="4724280"/>
            <a:ext cx="2714760" cy="14623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Рисунок10"/>
          <p:cNvPicPr/>
          <p:nvPr/>
        </p:nvPicPr>
        <p:blipFill>
          <a:blip r:embed="rId3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Рисунок10"/>
          <p:cNvPicPr/>
          <p:nvPr/>
        </p:nvPicPr>
        <p:blipFill>
          <a:blip r:embed="rId4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9"/>
          <p:cNvSpPr/>
          <p:nvPr/>
        </p:nvSpPr>
        <p:spPr>
          <a:xfrm>
            <a:off x="152280" y="194508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куда берутся лентя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Может лентяи с Луны прилетают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куда берутся грязнул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Может грязнуль с Сатурна   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лкнул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листает календар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Пишет новые словар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 там таких не найдеш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“Трусость” и “ложь”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чезнут слова как дым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“Ябеда” и “подхалим”. 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725" name="Picture 10" descr="18"/>
          <p:cNvPicPr/>
          <p:nvPr/>
        </p:nvPicPr>
        <p:blipFill>
          <a:blip r:embed="rId5"/>
          <a:stretch/>
        </p:blipFill>
        <p:spPr>
          <a:xfrm>
            <a:off x="7315200" y="3048120"/>
            <a:ext cx="13176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" descr=""/>
          <p:cNvPicPr/>
          <p:nvPr/>
        </p:nvPicPr>
        <p:blipFill>
          <a:blip r:embed="rId2"/>
          <a:stretch/>
        </p:blipFill>
        <p:spPr>
          <a:xfrm>
            <a:off x="6591240" y="228600"/>
            <a:ext cx="2552760" cy="2933640"/>
          </a:xfrm>
          <a:prstGeom prst="rect">
            <a:avLst/>
          </a:prstGeom>
          <a:ln w="0">
            <a:noFill/>
          </a:ln>
        </p:spPr>
      </p:pic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063f6"/>
                </a:solidFill>
                <a:latin typeface="Arial Black"/>
              </a:rPr>
              <a:t>ДОБРЫЕ ПОСТУПКИ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b5dbe3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49120"/>
            <a:ext cx="80154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imes New Roman"/>
              </a:rPr>
              <a:t>«Чистота – залог здоровья!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335b"/>
                </a:solidFill>
                <a:latin typeface="Times New Roman"/>
              </a:rPr>
              <a:t>Каждый раз перед ед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335b"/>
                </a:solidFill>
                <a:latin typeface="Times New Roman"/>
              </a:rPr>
              <a:t>Нужно фрукты мыть водой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335b"/>
                </a:solidFill>
                <a:latin typeface="Times New Roman"/>
              </a:rPr>
              <a:t>Чтобы быть здоровым,  сильны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335b"/>
                </a:solidFill>
                <a:latin typeface="Times New Roman"/>
              </a:rPr>
              <a:t>Мой лицо и руки с мыл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335b"/>
                </a:solidFill>
                <a:latin typeface="Times New Roman"/>
              </a:rPr>
              <a:t>Будь аккуратен, забудь лень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335b"/>
                </a:solidFill>
                <a:latin typeface="Times New Roman"/>
              </a:rPr>
              <a:t>Чисти зубы каждый день !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4" descr="HH01303_"/>
          <p:cNvPicPr/>
          <p:nvPr/>
        </p:nvPicPr>
        <p:blipFill>
          <a:blip r:embed="rId1"/>
          <a:stretch/>
        </p:blipFill>
        <p:spPr>
          <a:xfrm>
            <a:off x="6705720" y="4191120"/>
            <a:ext cx="234000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Times New Roman"/>
              </a:rPr>
              <a:t>Секреты закаливания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6" descr="Рисунок1"/>
          <p:cNvPicPr/>
          <p:nvPr/>
        </p:nvPicPr>
        <p:blipFill>
          <a:blip r:embed="rId1"/>
          <a:srcRect l="36252" t="15181" r="35334" b="49010"/>
          <a:stretch/>
        </p:blipFill>
        <p:spPr>
          <a:xfrm>
            <a:off x="6019920" y="358128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7"/>
          <p:cNvSpPr/>
          <p:nvPr/>
        </p:nvSpPr>
        <p:spPr>
          <a:xfrm>
            <a:off x="838080" y="1980720"/>
            <a:ext cx="57913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ром - бег и душ бодрящий, Как для взрослых, настоящий!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ночь окна открывать, Свежим воздухом дышать!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ги мыть водой холодной, 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огда микроб голодный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с во век не одолеет!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816840" y="817200"/>
            <a:ext cx="7814520" cy="75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Движение - жизнь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54864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дым я говорю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 здоровьем дружен спорт!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дион, бассейн и кор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л, каток – везде всем рады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старание в наград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нут мышцы ваши тверды,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ут кубки и рекор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8" name="Picture 5" descr="ар"/>
          <p:cNvPicPr/>
          <p:nvPr/>
        </p:nvPicPr>
        <p:blipFill>
          <a:blip r:embed="rId1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PE01267_"/>
          <p:cNvPicPr/>
          <p:nvPr/>
        </p:nvPicPr>
        <p:blipFill>
          <a:blip r:embed="rId2"/>
          <a:stretch/>
        </p:blipFill>
        <p:spPr>
          <a:xfrm>
            <a:off x="7162920" y="5410080"/>
            <a:ext cx="1568160" cy="12668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9" descr="PE01335_"/>
          <p:cNvPicPr/>
          <p:nvPr/>
        </p:nvPicPr>
        <p:blipFill>
          <a:blip r:embed="rId3"/>
          <a:stretch/>
        </p:blipFill>
        <p:spPr>
          <a:xfrm>
            <a:off x="6705720" y="3886200"/>
            <a:ext cx="1684080" cy="12193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0" descr="PE01313_"/>
          <p:cNvPicPr/>
          <p:nvPr/>
        </p:nvPicPr>
        <p:blipFill>
          <a:blip r:embed="rId4"/>
          <a:stretch/>
        </p:blipFill>
        <p:spPr>
          <a:xfrm>
            <a:off x="5105520" y="236232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1" descr="17"/>
          <p:cNvPicPr/>
          <p:nvPr/>
        </p:nvPicPr>
        <p:blipFill>
          <a:blip r:embed="rId5"/>
          <a:stretch/>
        </p:blipFill>
        <p:spPr>
          <a:xfrm>
            <a:off x="5029200" y="5105520"/>
            <a:ext cx="1924200" cy="15397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4" descr="6"/>
          <p:cNvPicPr/>
          <p:nvPr/>
        </p:nvPicPr>
        <p:blipFill>
          <a:blip r:embed="rId6"/>
          <a:stretch/>
        </p:blipFill>
        <p:spPr>
          <a:xfrm>
            <a:off x="7162920" y="-228600"/>
            <a:ext cx="1447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25:06Z</dcterms:created>
  <dc:creator>Наталья </dc:creator>
  <dc:description/>
  <dc:language>en-US</dc:language>
  <cp:lastModifiedBy>1</cp:lastModifiedBy>
  <dcterms:modified xsi:type="dcterms:W3CDTF">2013-02-11T15:49:16Z</dcterms:modified>
  <cp:revision>196</cp:revision>
  <dc:subject/>
  <dc:title>2б класс за здоровый образ жизни</dc:title>
</cp:coreProperties>
</file>