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ACD-C315-4E46-8480-57BBF448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F17-D9EE-455A-9B39-2EFCEF69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E3E-C3AF-4ECC-A328-4FA1646B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796-3E93-46F5-8825-BC0B5A97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6B9-9553-4731-85EE-C58FFEA7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CC5E-AACF-4AEF-AFAC-7CC44ECE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7962-05C0-49EA-9EF7-C5B6F331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797A-59CB-4243-92D2-9BEDD615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2C4A-2AE5-45E0-86A7-D8929B4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A1E6-7838-4437-A969-5B5A0047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6DAC-2C41-4034-A939-10D4BA5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6CA-E7E7-4DC4-9996-C1F5ADF2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5C74-C0FE-487D-82A2-574E8482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2591-F399-444E-BAA4-3C47FB6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C3E4-B934-46A1-975B-F13F226A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4939-A68D-46BE-85D6-CD5A75D9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9A84-EE71-492E-8B33-53471212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157-7B7A-41C3-863F-D163280A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85C-083B-4AB1-A087-924B2C3F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728-EEC4-4AC7-93F4-811F5B60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48A-5B39-419C-BB13-4BE41420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573-C24B-4C29-B50F-2B67957F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404-0740-4079-B4F2-3DCFB75F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A3F-46D8-4033-81C2-FB6C1243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2A41-B477-4C98-937A-DBEED24AD9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6341-2533-4C99-A309-C111F5BE27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603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Старжинская Анастасия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5 «А»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МОУ «Гимназия №5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г. Юбилей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Преподаватель: Раб Полина Александ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600"/>
                            </p:stCondLst>
                            <p:childTnLst>
                              <p:par>
                                <p:cTn id="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4400"/>
                            </p:stCondLst>
                            <p:childTnLst>
                              <p:par>
                                <p:cTn id="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251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Roald Dahl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(</a:t>
            </a:r>
            <a:r>
              <a:rPr b="1" lang="en-US" sz="4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1916 –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1990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12" descr="author564"/>
          <p:cNvPicPr/>
          <p:nvPr/>
        </p:nvPicPr>
        <p:blipFill>
          <a:blip r:embed="rId1"/>
          <a:stretch/>
        </p:blipFill>
        <p:spPr>
          <a:xfrm>
            <a:off x="914400" y="1371600"/>
            <a:ext cx="2362320" cy="3235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76360" y="1142640"/>
            <a:ext cx="5105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British novelist, short story writer, poet, fighter pilot and screenwri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550"/>
              </a:spcBef>
              <a:buClr>
                <a:srgbClr val="00206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born in Wales to Norwegian parents in 13 September 1916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550"/>
              </a:spcBef>
              <a:buClr>
                <a:srgbClr val="00206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1 August 1942 - first published work </a:t>
            </a:r>
            <a:r>
              <a:rPr b="1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“A Piece Of Cake”</a:t>
            </a: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550"/>
              </a:spcBef>
              <a:buClr>
                <a:srgbClr val="00206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1943 – “</a:t>
            </a:r>
            <a:r>
              <a:rPr b="1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The Gremlins”, </a:t>
            </a: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his first children's book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550"/>
              </a:spcBef>
              <a:buClr>
                <a:srgbClr val="00206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1964</a:t>
            </a: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- “</a:t>
            </a:r>
            <a:r>
              <a:rPr b="1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Charlie and the Chocolate Factory”, </a:t>
            </a: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his third book for children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717560" y="5105520"/>
            <a:ext cx="6986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- others best-loved children's stories of the 20th century: “Matilda”, “James and the Giant Peach”, “The Witches”, “Charlie and the Great Glass Elevator”, “The BFG”, “George's Marvellous Medicine” and “Fantastic Mr Fox”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Charlie and the Chocolate Facto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760" y="1142640"/>
            <a:ext cx="4686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2060"/>
                </a:solidFill>
                <a:uFillTx/>
                <a:latin typeface="Comic Sans MS"/>
                <a:ea typeface="Times New Roman"/>
              </a:rPr>
              <a:t>Willy Wonk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The eccentric owner of the largest chocolate factory.</a:t>
            </a:r>
            <a:r>
              <a:rPr b="0" lang="ru-RU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The best chocolatier in the world. He’s a little craz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2060"/>
                </a:solidFill>
                <a:uFillTx/>
                <a:latin typeface="Comic Sans MS"/>
                <a:ea typeface="Times New Roman"/>
              </a:rPr>
              <a:t>Charlie Buck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The boy from a poor family,</a:t>
            </a:r>
            <a:r>
              <a:rPr b="0" lang="ru-RU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who gets Willy Wonka’s facto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1" descr="i"/>
          <p:cNvPicPr/>
          <p:nvPr/>
        </p:nvPicPr>
        <p:blipFill>
          <a:blip r:embed="rId1"/>
          <a:stretch/>
        </p:blipFill>
        <p:spPr>
          <a:xfrm>
            <a:off x="380880" y="114300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CharlieBucket"/>
          <p:cNvPicPr/>
          <p:nvPr/>
        </p:nvPicPr>
        <p:blipFill>
          <a:blip r:embed="rId2"/>
          <a:stretch/>
        </p:blipFill>
        <p:spPr>
          <a:xfrm>
            <a:off x="1625760" y="304488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1633680" y="5673600"/>
            <a:ext cx="7354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Don’t miss the chance to read a book about adventures of young Charlie Bucket inside the chocolate factory of eccentric chocolatier Willy Wonk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8" dur="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9" dur="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8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астасия</cp:lastModifiedBy>
  <dcterms:modified xsi:type="dcterms:W3CDTF">2013-02-10T18:42:4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