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1315-A7F3-4EE9-8264-F1947B73D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A772-BAF6-4F71-B6E6-602B9FFE1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545A-0F41-49BF-999D-877D78663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1451-291F-4A17-8516-F22218F04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66DE-20A3-4F49-B361-3BA032975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5A33-69AF-4C79-9815-B56DA4B86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2D25-B3EB-4B53-98D1-10C470B16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CFE5-9667-4D6F-B179-34A1A1FCB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4975-8C4B-492A-A58C-9A1FA5714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96BF-E6D3-4E78-B93C-BE729E15F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4534-AF2D-4218-9ECE-631DAF530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CE49-E898-477A-AE06-00804938A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333E0-206D-49CF-8C10-949D03867C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00000" y="1773360"/>
            <a:ext cx="74170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Цель: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познакомить детей с правилами ПДД и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безопасного поведения на дороге, на улице и в транспорт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Задачи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Познакомить с понятием «Дорога», «Пешеходный переход», «Светофор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Воспитывать у детей дружеское взаимоотношение, взаимопомощь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Развитие речи: побуждать детей выражать свои действия словами, пополнение словарного запаса дете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Повышение компетентности родителей по вопросам касающихся ПДД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Закрепить знания цветов(желтый, красный, зеленый), узкий - широкий, длинный – коротки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Заголовок 1"/>
          <p:cNvSpPr/>
          <p:nvPr/>
        </p:nvSpPr>
        <p:spPr>
          <a:xfrm>
            <a:off x="1187280" y="260280"/>
            <a:ext cx="619308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«Дорожные знаки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          наши друзья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Заголовок 1"/>
          <p:cNvSpPr/>
          <p:nvPr/>
        </p:nvSpPr>
        <p:spPr>
          <a:xfrm>
            <a:off x="2195640" y="620640"/>
            <a:ext cx="5329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Игровой макет</a:t>
            </a:r>
            <a:br>
              <a:rPr sz="2800"/>
            </a:b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«Пешеход и водитель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 rot="21104400">
            <a:off x="1042920" y="1915920"/>
            <a:ext cx="3611520" cy="27432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 rot="438600">
            <a:off x="4284720" y="2924280"/>
            <a:ext cx="3838680" cy="29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Заголовок 1"/>
          <p:cNvSpPr/>
          <p:nvPr/>
        </p:nvSpPr>
        <p:spPr>
          <a:xfrm>
            <a:off x="2195640" y="620640"/>
            <a:ext cx="5329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Игровой макет</a:t>
            </a:r>
            <a:br>
              <a:rPr sz="2800"/>
            </a:b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«Пешеход и водитель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340000" y="2060640"/>
            <a:ext cx="4321080" cy="32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Заголовок 1"/>
          <p:cNvSpPr/>
          <p:nvPr/>
        </p:nvSpPr>
        <p:spPr>
          <a:xfrm>
            <a:off x="2195640" y="620640"/>
            <a:ext cx="5329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Коллективная работа</a:t>
            </a:r>
            <a:br>
              <a:rPr sz="2800"/>
            </a:b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«Перекресток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763640" y="1773360"/>
            <a:ext cx="4967280" cy="36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Заголовок 1"/>
          <p:cNvSpPr/>
          <p:nvPr/>
        </p:nvSpPr>
        <p:spPr>
          <a:xfrm>
            <a:off x="2195640" y="620640"/>
            <a:ext cx="5329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Аппликация</a:t>
            </a:r>
            <a:br>
              <a:rPr sz="2800"/>
            </a:b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«Наш друг светофор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258920" y="1844640"/>
            <a:ext cx="3025800" cy="22971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4356000" y="3645000"/>
            <a:ext cx="344340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Заголовок 1"/>
          <p:cNvSpPr/>
          <p:nvPr/>
        </p:nvSpPr>
        <p:spPr>
          <a:xfrm>
            <a:off x="4211640" y="620640"/>
            <a:ext cx="3745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Чтение стихотворений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Загадывание загадок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(по теме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Заголовок 1"/>
          <p:cNvSpPr/>
          <p:nvPr/>
        </p:nvSpPr>
        <p:spPr>
          <a:xfrm>
            <a:off x="755640" y="3933720"/>
            <a:ext cx="4032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Рассматривание папки 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раскладушки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«Безопасность дорожного 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движения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356000" y="3284640"/>
            <a:ext cx="3697560" cy="2808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 rot="21028800">
            <a:off x="1116000" y="1052280"/>
            <a:ext cx="2925720" cy="22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Заголовок 1"/>
          <p:cNvSpPr/>
          <p:nvPr/>
        </p:nvSpPr>
        <p:spPr>
          <a:xfrm>
            <a:off x="3780000" y="620640"/>
            <a:ext cx="4392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Сюжетно-ролевая игра</a:t>
            </a:r>
            <a:br>
              <a:rPr sz="2800"/>
            </a:b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«Мы едем, едем, едем!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Заголовок 1"/>
          <p:cNvSpPr/>
          <p:nvPr/>
        </p:nvSpPr>
        <p:spPr>
          <a:xfrm>
            <a:off x="971640" y="4581360"/>
            <a:ext cx="4392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Игра-ситуация</a:t>
            </a:r>
            <a:br>
              <a:rPr sz="2800"/>
            </a:b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«Поможем Буратино перейти дорогу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5364000" y="3716280"/>
            <a:ext cx="2849760" cy="25322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1042920" y="620640"/>
            <a:ext cx="2984400" cy="30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5T18:31:26Z</dcterms:created>
  <dc:creator>Федотова Виктория Александровна</dc:creator>
  <dc:description/>
  <dc:language>en-US</dc:language>
  <cp:lastModifiedBy>Татьяна</cp:lastModifiedBy>
  <dcterms:modified xsi:type="dcterms:W3CDTF">2013-10-11T16:14:45Z</dcterms:modified>
  <cp:revision>17</cp:revision>
  <dc:subject/>
  <dc:title>Слайд 1</dc:title>
</cp:coreProperties>
</file>