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CACA-6B92-4165-99C6-3E91F502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27C-42EE-4D71-8CEB-F70BD2F7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7A3-1271-40A6-8760-3828D8C4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3A5-4E55-4E40-ABB5-119F8C26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CC7-F565-4DA4-BB44-9571D4B9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5AA-C0EC-4743-9665-D6FD9C29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7EB1-1FAB-42BE-87C8-C1191F1F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8C0-DD15-4AF6-B668-0B6D7E18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BC3-6363-405D-B572-32B05960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B94-3EB5-4D8A-B844-FBF1C37F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D9A-C410-4468-9CED-FE9B5FCD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2C9-DD48-421D-A50C-1D6B8325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E0E7-5FD5-490F-A484-96BF78FC753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ГЭ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Раздел 3. Грамматика (и лексик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труктура, содержание, типичные оши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esent perfect: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Yet, Already, Ever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Before, For, Si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t particip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ra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ture with ‘Will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d bet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st continuo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object placement with phrasal verb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 and non-count nouns: indefinite quantities and amounts – Some, Any, A Lot Of, Many, and Mu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one and Any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gative Yes/No questions and Why don’t…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1680" y="1428480"/>
            <a:ext cx="8540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runds and infinitives after certain verb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runds after preposi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ions with preposi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ssive v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isons with As … 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finitive of purpo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essive pronou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ual and unreal conditional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вни слож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express oneself in a limited way in familiar situations and to deal in a general way with nonroutine inform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N ask to open an account at a bank, provided that the procedure is straightforward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вни слож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express opinions on abstract/cultural matters in a limited way or offer advice within a known area, and understand instructions or public announc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nderstand routine information and articles, and the general meaning of non-routine information within a familiar ar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write letters or make notes on familiar or predictable mat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1680" y="1600200"/>
            <a:ext cx="85406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g questions: form and social u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st perfect: form and u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, Might, Must, and Be able to: possibility, conclusions, a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ssive causa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atives Get, Have, and Mak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in the past: Was/Were going to and Woul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ect modals: meaning and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runds and infinitives: changes in mean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esent perfect and the present perfect continuous: finished and unfinished a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un clau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plans and finished future a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st unreal conditional: inverted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fi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essives with geru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1680" y="1600200"/>
            <a:ext cx="85406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ired conjun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ssive voice with mod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ive forms of gerunds and infiniti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ed comparatives and double comparati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rect speech with mod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ect modals in the passive voice for speculating about the p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der of modifi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djectives clauses with subject relative pronou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djective clauses with object relative pronou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rect speech: imperati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rect speech: Say, and Tell; tense chang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un clauses as direct obj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al sentences: revie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st unreal condition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count nouns for abstract ide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s followed by objects and infiniti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initives with too+ adje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ositions of place to describe loc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ткая характеристика экзаме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1680" y="1600200"/>
            <a:ext cx="8540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Раздел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3 «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Грамматика и лексик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»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ключ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т 20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заданий двух уровней сложност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базов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ый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и повышенн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ый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ткая характеристика экзаме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е время выполнения экзаменационной работы составляет 160 мину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ел «Грамматика и лексика» – 40 мин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ткая характеристика экзаме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дсчете первичных баллов в разделах «Аудирование», «Чтение»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Грамматика и лексика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каждый правильный ответ экзаменуемый получае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ди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балл, за исключением заданий на установление соответствия, где количество полученных баллов равняется количеству правильно установленных соответств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 и объекты контро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яется уровень сформированности иноязычной коммуникативной компетенции выпускников в основных видах речевой деятельности (за исключением говорения), а именно в аудировании, чтении и письме.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тдельно проверяется сформированность лексико-грамматических навык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 и объекты контро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1680" y="1357200"/>
            <a:ext cx="8540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азделе «Грамматика и лексика» в качестве объектов контроля выделяютс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нание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языковых едини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 навыки их употребления в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коммуникативно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значимом контекст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познавание и употребление в речи основных морфологических форм английского языка и различных грамматических структур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ние основных способов словообразования и навыки их примен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ние правил орфографии и навыки их примен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дел 3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честве критерия успешности осво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мента содержания в ЕГЭ установлен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ие норм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5% для заданий с выбором от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0% для заданий с кратким и развернутым отве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-6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методическом письм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«Об использовании результатов единого государственного экзамена  2008 года в преподавании иностранных языков в образовательных учреждениях  среднего (полного) общего образования»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азывается, что хуже всего выполнен раздел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Лексика и грамматика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480" indent="-6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ксимальный балл получили менее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50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%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спытуемы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тчете ФИПИ за 2010 год указа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нглийский язык: не смогли получить минимальное количество баллов (20 баллов) 6,4% участников экзамена, максимально возможный балл (100) получило 2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редние баллы по разделам КИМ ЕГЭ 2010 г. по английскому языку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УДИРОВАНИЕ –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ЧТЕНИЕ –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ГРАММАТИКА И ЛЕКСИКА –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ИСЬМО -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ИТАТА: «… средние баллы по всем разделам варьируются в диапазоне от 10 до 12 баллов, что свидетельствует об относительно равной сложности разделов. Причем,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се-та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ледует отметить, что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радицион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иболее сложным остается раздел «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рамматика и лекс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, а наиболее легким – раздел «Чтение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2" descr=""/>
          <p:cNvPicPr/>
          <p:nvPr/>
        </p:nvPicPr>
        <p:blipFill>
          <a:blip r:embed="rId1"/>
          <a:stretch/>
        </p:blipFill>
        <p:spPr>
          <a:xfrm>
            <a:off x="347760" y="1542960"/>
            <a:ext cx="84978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вни слож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зовый, повышенный и высокий уровни заданий ЕГЭ соотносятся с уровнями владения иностранными языками, определенными в документах Совета Европы, та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базовый уровень – A2+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вышенный уровень – В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окий уровень – В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г. для всех иностранных языков был установлен минимальный балл ЕГЭ 20 бал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глийский язык: не смогли получить минимальный балл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3,3%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частников экзаме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0 баллов получи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челов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ИТАТА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…Следует при этом отметить заметное сокращение числа участников, не набравших минимального балла ЕГЭ … На распределение результатов влияет также большое число победителей олимпиад, получающих льготы при поступлении в вузы и поэтому не мотивированных на достижение максимальных результатов ЕГЭ, чем можно объяснить небольшое число участников ЕГЭ с максимальным баллом в 2011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rcRect l="21449" t="16796" r="13212" b="11914"/>
          <a:stretch/>
        </p:blipFill>
        <p:spPr>
          <a:xfrm>
            <a:off x="642960" y="1643040"/>
            <a:ext cx="79297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ИТАТА: «… традиционно наиболее сложным для участников экзамена остается раздел «Грамматика и лексика», наиболее простым – раздел «Чтение». Результаты экзамена свидетельствуют о том, что рецептивные умения, которыми традиционно в школе уделялось большее внимание, остаются более качественно сформированным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1680" y="1599840"/>
            <a:ext cx="85406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тя нельзя не отметить, что результаты в разделе «Письмо» уступают лишь разделу «Чтение». В отношении раздела «Письмо» интересно также отметить, что число не приступивших к его выполнению … приблизительно соответствует числу участников, получивших неудовлетворительный результат (… 3,7% и 3,3% по английскому язык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ы выполнения различных частей свидетельствуют о том, что в группе грамматических заданий (В4–В10) наибольшую сложность для экзаменуемых представляют в заданиях на временные формы глагола задания на Present Perf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даниях лексико-грамматической группы (В11–В16) наибольшие затруднения вызвали задания, в которых предлагалось выполнить такие преобразования, как count &gt; countless или accept &gt; acceptab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этом особенно настораживает рост количества элементарных ошибок, когда участники «творят» несуществующие формы, «приклеивая» знакомые суффиксы. При этом, и не в единичных случаях, появляются, например,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achievity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achievism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мест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achiev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я на лексическую сочетаемость традиционно представляют достаточную сложность для участников. Часто эти ошибки связаны с тем, что участники не учитывают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рамматического контекс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ориентируются лишь на общее значение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блемы выпускников с невысоким уровнем подготовки …  достаточно четко проявляются в результатах выполнения заданий раздела «Грамматика и лексика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вни слож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 Common European Framework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f Reference for Languag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Basic User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A2+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is ab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nderst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ough to manage simple, routine exchanges without undue effort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him/herself understood and exchange ideas and information on familiar topics in predictable everyday situations, provided the other person helps if necessary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яемые умения и навыки (распознавание и употребление в речи основных морфологических форм иностранного языка и различных грамматических структур; знание основных способов словообразования и навыки применения их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ознавание и употребление в речи изученных лексических единиц (с особым вниманием к лексической сочетаемости); знание правил орфографии и навыки применения их) напрямую связаны с продуктивными видами речевой деятельности, лучше сформированы у выпускников с высоким уровнем подготов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4 – В 10 среднее время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ин средний процент выполнения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61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11 – В16 среднее время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инут  средний процент выполнения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55,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 ФИПИ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79280" y="1057320"/>
            <a:ext cx="86407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 ФИПИ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еделение баллов свидетельствует о том, что данный раздел остается одним из самых сложных, но число испытуемых, получивших максимальный балл, сопоставимо с результатами по другим разделам экзаменационной работы. Прослеживается четкая дифференциация испытуемых по уровню подготов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 ФИПИ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ет отметить, что в целом результаты в данном разделе продолжают улучшаться по сравнению с тремя предыдущими годами, хотя мода распределения находится на уровне 13 баллов, что на 2 балла меньше, чем в 2011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 ФИПИ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ы выполнения различных частей свидетельствуют о том, что в группе грамматических заданий (В4–В10) в заданиях на временные формы глагола наибольшую сложность для экзаменуемых представляют задания на Present Perf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 ФИПИ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ет отметить, что в заданиях лексико-грамматической группы (В11–В16) существенно улучшилось выполнение заданий, требующих применения отрицательных префиксов. Вместе с тем, выросло число участников, применяющих эти префиксы в ситуациях, того не требующих, при этом часто с основой, с которой эти префиксы не употребляют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 ФИПИ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ледует обратить внимание и на элементарное проявление невнимательности.  Так, задания, требующие преобразования WRITE в WRITER, существенно успешнее выполнялись испытуемыми, чем задания, в которых WRITE требовалось преобразовать в WRITERS, хотя контекст ясно указывал на необходимость использования формы множительного числа существительного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 ФИПИ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дельное внимание выпускников следует обратить на то, чтобы в ответах не использовались «лишние» слова. Так, многие преподаватели заставляют зазубривать формы превосходной степени прилагательных с артиклем. В результате экзаменуемые вставляют этот артикль в ответ, не обращая внимания на то, что он уже употреблен в текс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вни слож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al with everyday situations with predictable content, though he/she will generally have to compromise the message and search for word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ress how 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sh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eels in simple term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к ЕГЭ не должна превращаться в самоцель, она является естественным этапом развития иноязычной коммуникативной компетенции и общей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функциональной грамот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ча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ты ФИ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следует использовать аудиторные часы для выполнения учащимися заданий в формате ЕГЭ, это может стать домашним заданием. На уроке следует анализировать выполнение заданий, разбирать вызвавшие затруднения задания, объяснять и тренировать различные коммуникативные страте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щие рекоменд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1680" y="1599840"/>
            <a:ext cx="854064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екомендации по подготовке к ЕГЭ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сознательное отношение к оперированию лексическими и грамматическими единицам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щать внимание на то, как грамматическая конструкция влияет на выбор лексической единицы, учить видеть связь между лексикой и грамматик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щие рекоменд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ивать усвоение лексико-грамматического материала в объеме, предписанном федеральным компонентом государственного образовательного стандарта, и его тренировку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 коммуникативно-значимом контекст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дел 3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ичество заданий – </a:t>
            </a: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отношение оценок выполнения отдельных частей работы в общей оценке (в % от макс. балла) – </a:t>
            </a: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ксимальный первичный балл – </a:t>
            </a: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 заданий - задания на соответствие, с выбором ответа и с кратким отве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дел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пределение заданий экзаменационной работы по содержанию и видам проверяемых знаний и умен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рамматические навыки -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Лексико-грамматические навыки -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ксико-грамматические навыки -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дел 3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-6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я выполнения заданий – 40 мин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-6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-6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еделение заданий по уровню слож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-6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4 – В10: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БАЗОВ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-6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11 – В16: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БАЗОВ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-6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22 – А28: ПОВЫШЕ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-6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-6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вни слож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ive an extended description of everyday aspects of his/her environment e.g. people, places, a job or study experienc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scribe past activities and personal experienc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scribe habits and routines; describe plans and arrangements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lain what he/she likes or dislikes about some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вни слож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dapt rehearsed memorised simple phrases to particular situations with sufficient ease to handle short routine exchanges without undue effort, despite very noticeable hesitation and false star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вни слож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itiate, maintain and close simple, restricted face-to-face conversation, asking and answering questions on topics of interest, pastimes and past activiti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act with reasonable ease in structured situations, given some help, but participation in open discussion is fairly restri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вни слож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e the most frequently occurring connectors to link simple sentences in order to tell a story or describe something as a simple list of poi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9:59:01Z</dcterms:created>
  <dc:creator>Office Guru</dc:creator>
  <dc:description/>
  <dc:language>en-US</dc:language>
  <cp:lastModifiedBy>Гость</cp:lastModifiedBy>
  <dcterms:modified xsi:type="dcterms:W3CDTF">2012-12-13T06:13:42Z</dcterms:modified>
  <cp:revision>75</cp:revision>
  <dc:subject/>
  <dc:title>ЕГЭ  </dc:title>
</cp:coreProperties>
</file>