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F01-B535-4D0D-A5C8-228A1733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3A0-CAB3-43D2-B038-EEDA6557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53E-DE2A-4883-8990-431EA579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999-17FB-4D41-A2E9-F1F09D27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B0D-A4C1-4385-8487-89E29D3D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9CF-23BD-427E-8ED0-44944CB8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E8F-4293-4086-B831-F78E94A3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212-C2ED-4144-B625-13FBE7D7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AEC-10D3-49D3-B72E-62CA3C5E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A79-8AB1-42E7-A560-94676BE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E1E-7B33-449C-9BB3-E05AA91D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822-7610-4B96-B71E-66C6AA6A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2812-89A2-4BCE-87E2-659A9A6AD12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Раздел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рамм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ные и нераспространенные простые предложения, в том числе с несколькими обстоятельствами, следующими в определенном порядке (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W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moved to a new house last year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жносочиненные предложения с союзами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and, but, or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жноподчиненные предложения с союзами и союзным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ловами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hat, when, why, which, that, who, if, because, that’s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hy, than, so, for, since, during, so that, unles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ные предложения реального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Conditional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–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f I see Jim, I’ll invite him to our school party.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 нереального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ditional II –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f I were you, I would start learning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French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ложения с конструкцией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I wish (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ish I had my own roo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ложения с конструкцией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o/such (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as so busy that I forgot to phone my parent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фатические конструкции типа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It’s him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ho… It’s time you did sm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ложения с конструкциями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as … as;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ot so…as; either … or; neither … n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тр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It takes me … to do something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o look/feel/be hap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венная речь в утвердительных и вопросительных предложениях в настоящем и прошедшем врем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астие I и причастие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ование времен в рамках сложного предложения в плане настоящего и прошл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ный/неопределенный/нулевой артик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средства связи в тексте д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я его целостности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firstly, finally, at last, in the end,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however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т. 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ческий миниму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ЫЙ – грамматические явления, предназначенные для употребления в говорении и письменной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ССИВНЫЙ – явления, узнаваемые и понимаемые в тексте письменном и уст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ЗЫКОВ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налитическ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ерепишите предложения, поставив глаголы в нужно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дречевы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ормальн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остройте предложения по образ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 большей степенью речевой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направлен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задайте вопрос в указанном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Выполнение заданий В4-В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rt Schweit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4, B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орное слово – прилагательное или наречие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, large)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утствие артикл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личи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, a little, a bit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ельная степень. Наличие определенного артикл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, of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зы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зы – превосходная степ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НО-РЕЧЕВ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ьте на вопросы, употребив указанную грамматическую структу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ЛИННО РЕЧЕ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бы вы поступили, если бы …; Прочитайте текст и прокомментируйте поступки геро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ИТАЦИОН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матическая структура задана и повторяется без изменений – прочтите предложения по цепочке, перепишите предложения, подтвердите высказывание учителя, если он прав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ТАНОВО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ление материала, выработка автоматизмов – составьте предложения с помощью подстановочной таблицы, раскройте скобки, употребляя соответствующую грамматическую форму, ответьте на вопросы, используя образ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ФОРМАЦИОН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навыков комбинирования, замены, сокращения или расширения заданных грамматических структур – замените выделенные слова …, объедините простые предложения в сложноподчиненные, ПЕРЕВЕДИТЕ предложения на английск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ЦЕПТИВНЫЕ ГРАММАТИЧЕСКИЕ НАВ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 ПРЕДЪЯВЛЕНИЯ, УСТАНОВЛЕНИЯ ЗНАЧЕНИЯ, ФОРМУЛИРОВКИ ПРАВИЛА  – прочитайте пары предложений и установите, в чем их различие; просмотрите текст и найдите в нем предложения с новой грамматической структур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кажите, как образуется …; переведите на русский язык…; приведите эквиваленты данному явлению в русском языке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АП ТРЕНИРОВ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фференцировочные упражнения – объясните употребление данной грамматической формы…; распределите грамматические явления по группам…; укажите признаки, с помощью которых можно узнать …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тановочные – замените выделенную грамматическую форму, используя образец…; заполните пропуски, выбрав подходящую словоформу из представленных ниже…; составьте предложения из слов, данных вразбивку…; прочтите начало предложения, дополните его по смыслу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формационные – сделайте выборочный (частичный, условный, сплошной) перевод…; укажите возможные способы перевода предложений…; прочтите предложения, расширьте их за счет слов, данных в скобках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МАТИЧЕСКИЕ УПРАЖНЕНИЙ, НАПРАВЛЕННЫЕ НА ОТРАБОТКУ ОПЕРАЦИ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ОЖДЕНИЯ РЕЧЕВОГО ВЫСКАЗЫВАНИЯ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астите предложение по типу «снежного кома»…; выберите адекватный перевод предложения или его части из предложенных вариантов …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предло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берите ситуации к словам ….; трансформируйте в предложении одну грамматическую форму в другую в зависимости от задачи ….; выберите правильный грамматический вариант высказывания из данных…;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Выполнение заданий В4-В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5, B6, B7, B9, B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орные слова – глаг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ремя?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as a talented person – Past Simple – knew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лог?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Он знал или его знали?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уществите постепенное сворачивание высказывания до опорных слов…; расширьте текст за счет привлеченных деталей, используя данный грамматический образец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ФУНКЦИОНАЛЬНО-ОРИЕНТИРОВАН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УЧЕНИЕ ГРАММАТИЧЕСКИМ ЯВЛЕНИЯ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выразить просьбу говорят так ….; назовите ситуации, в которых можно употребить приведенное ниже речевое высказывание ….; составьте диалог по определенной схеме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)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ap Fi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(Partial) Tran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den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матика и лексика / Малколм Манн, Стив Тейлор-Ноулз –Macmil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Времена представлены блоками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imple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inuous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rfect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rfect Continuo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(инструкции и обобщения) – на английском язы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Упражнения – до 1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пражнения закрытого типа: выбор между схожими видовременными форма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ax 2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Например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Simple vs Present Continuo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I usually go/am usually going to bed at 10p.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на образование требуемой видовременной формы глагола. Выбор по-прежнему ограничен схожими видовременными формами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2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Например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Perfect vs Present Perfect Continuo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It’s the first time … (I/ever/eat) octo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на обнаружение ошибочного употребления видовременных форм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3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Например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Simple, Present Continuous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Perfe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I already buy all my Christmas presents and it’s only Octo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на закрепление знания того, как употребляются временные маркер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маркер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Perfect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из предложенных наречий, предлогов, союзов при заполнении пропуска в предлож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задания на множественный выбор (максимальное количество рассматриваемых време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задания открытого ти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задания на трансформа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задания экзаменационного ти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Выполнение заданий В4-В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?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13 – Past Simple – lef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лог? – сами выполнили действие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Exam Maximiser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глийский язы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к экзаменам/ Е.Н. Соловова, Лонгм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полнение пропусков грамматическими элементами, определяемыми структурой предложения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d, such, was, her, th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her life Mrs. Foster …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lmost pathological fear of missing a train, a plane or even a theater curt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аскрытие скобок в связном тексте (использование видовременных форм глагола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(stand) at the window of the hotel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формационные упражн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аналитическим компонен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na enjoyed the party although she felt 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pite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еще союзные слова могли бы быть использованы в измененном варианте этого предлож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Задания на частичный перевод (с английского на русский и с русского на английский) – тек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едите подчеркнутые в тексте фразы на русский язы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hard to believ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ything as tasty 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ney could be good for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цент на функциональном употреблении грамматических структу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способ выражения будущего времени будет использован говорящим в следующих ситуациях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идент РФ во время визита во Францию, читая программу встреч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/am having/am going to have lunch with the Prime Minister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русского на английский в контексте предложения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 came to Canada 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икогда не ел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akes with maple syr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заданий на частичный перевод на основе данных предложени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Выполнение заданий В4-В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? – предыдущее предложени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ived, started – Past Simple – buil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лог? – здание было построено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ive – was bu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Выполнение заданий В4-В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?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 – Past Simple – gav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лог? – он дал или ему дали (вручили)?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iv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gi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Выполнение заданий В4-В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? – прямая речь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утствие сигнало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 Simple, Past Continuous, Past Perfec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ет работ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работал? – премия уже вруч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чен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чи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рамматических элементов содержания, проверяемых на едином государственном экзамене по англий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нать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потребля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речи различные коммуникативные типы предложений: утвердительные, вопросительные (общий, специальный, альтернативный, разделительный вопросы в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sent, Future, Past Simple; Present Perfect; Present Continuous)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ицательные, побудительные (в утвердительной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ицательной форм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9:12:37Z</dcterms:created>
  <dc:creator>Игорь</dc:creator>
  <dc:description/>
  <dc:language>en-US</dc:language>
  <cp:lastModifiedBy>Гость</cp:lastModifiedBy>
  <dcterms:modified xsi:type="dcterms:W3CDTF">2012-12-20T07:56:09Z</dcterms:modified>
  <cp:revision>34</cp:revision>
  <dc:subject/>
  <dc:title>Раздел 3</dc:title>
</cp:coreProperties>
</file>