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9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951-1B2A-496A-A2C2-D175201A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A31-CE5F-4A3D-AFD3-41D189C8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085-498E-4B13-838B-B5B99077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B44-4F1C-48CC-8577-043F59DD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4FA-4697-438C-BE02-BA112A59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F50-C2E5-49F1-89C4-F32E2991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435-CC0C-44A2-B148-C6F123E9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FE5-8EB4-4E7F-BCAD-8A8C1285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38F-34C5-471F-A67A-8603FA7B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6AD-006D-47DD-9BDE-9ED3DA6D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2A4-A872-465B-A948-4E32A5DF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A99-7D56-4807-AC7A-A0720132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77D1-3F0B-4BBF-9E21-9AF573652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1700280"/>
            <a:ext cx="84978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ccff"/>
                  </a:solidFill>
                  <a:miter/>
                </a:ln>
                <a:solidFill>
                  <a:srgbClr val="9966ff"/>
                </a:solidFill>
                <a:latin typeface="Century Schoolbook"/>
              </a:rPr>
              <a:t>ЭТИОЛОГИЯ </a:t>
            </a:r>
            <a:endParaRPr b="1" lang="en-US" sz="1800" spc="1" strike="noStrike">
              <a:ln w="28440">
                <a:solidFill>
                  <a:srgbClr val="00ccff"/>
                </a:solidFill>
                <a:miter/>
              </a:ln>
              <a:solidFill>
                <a:srgbClr val="9966ff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ccff"/>
                  </a:solidFill>
                  <a:miter/>
                </a:ln>
                <a:solidFill>
                  <a:srgbClr val="9966ff"/>
                </a:solidFill>
                <a:latin typeface="Century Schoolbook"/>
              </a:rPr>
              <a:t>НАРУШЕНИЯ </a:t>
            </a:r>
            <a:endParaRPr b="1" lang="en-US" sz="1800" spc="1" strike="noStrike">
              <a:ln w="28440">
                <a:solidFill>
                  <a:srgbClr val="00ccff"/>
                </a:solidFill>
                <a:miter/>
              </a:ln>
              <a:solidFill>
                <a:srgbClr val="9966ff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ccff"/>
                  </a:solidFill>
                  <a:miter/>
                </a:ln>
                <a:solidFill>
                  <a:srgbClr val="9966ff"/>
                </a:solidFill>
                <a:latin typeface="Century Schoolbook"/>
              </a:rPr>
              <a:t>ЧТЕНИЯ</a:t>
            </a:r>
            <a:endParaRPr b="1" lang="en-US" sz="1800" spc="1" strike="noStrike">
              <a:ln w="28440">
                <a:solidFill>
                  <a:srgbClr val="00ccff"/>
                </a:solidFill>
                <a:miter/>
              </a:ln>
              <a:solidFill>
                <a:srgbClr val="9966ff"/>
              </a:solidFill>
              <a:latin typeface="Century Schoolbook"/>
              <a:ea typeface="Century Schoolboo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635280" y="4941720"/>
            <a:ext cx="1944720" cy="1481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мени Бусыгина М.И.»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. Усть-Илимска Иркут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81280" y="5969160"/>
            <a:ext cx="19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А.Мель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-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5640" y="189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a50021"/>
                </a:solidFill>
                <a:latin typeface="Bookman Old Style"/>
              </a:rPr>
              <a:t>Дислексия   и  нарушения  пространственных   предста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1773360"/>
            <a:ext cx="8064360" cy="4115880"/>
          </a:xfrm>
          <a:prstGeom prst="rect">
            <a:avLst/>
          </a:prstGeom>
          <a:solidFill>
            <a:srgbClr val="ffd5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рудности ориентировки во всех пространственных направлениях, в определении правого, левого, верха, н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точность в определении формы,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сформированность оптико – пространственных представл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рис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и составлении целого из частей  при конструир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неспособности воспроизведения заданной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адержка в дифференциации правой и левой частей тел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атерализация или её нарушение (левшество, смешанная доминан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236000" y="198900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1280" y="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Bookman Old Style"/>
              </a:rPr>
              <a:t>Дислексия  и  нарушения</a:t>
            </a:r>
            <a:r>
              <a:rPr b="1" lang="ru-RU" sz="2800" spc="-1" strike="noStrike">
                <a:solidFill>
                  <a:srgbClr val="a50021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Bookman Old Style"/>
              </a:rPr>
              <a:t>устной</a:t>
            </a:r>
            <a:r>
              <a:rPr b="1" lang="ru-RU" sz="2800" spc="-1" strike="noStrike">
                <a:solidFill>
                  <a:srgbClr val="a50021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a50021"/>
                </a:solidFill>
                <a:latin typeface="Bookman Old Style"/>
              </a:rPr>
              <a:t>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3068640"/>
            <a:ext cx="8064360" cy="3412440"/>
          </a:xfrm>
          <a:prstGeom prst="rect">
            <a:avLst/>
          </a:prstGeom>
          <a:solidFill>
            <a:srgbClr val="ffd5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рушения   звукопроиз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бедность  слов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еточность  употребления  с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еправильное оформление  своей 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е произносят  сложные  фразы,  ограничиваются  короткими  предлож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часто  встречаются  нарушения  связной 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еусвоение бук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е различают звуки на сл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едостаточное развитие фонематическ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тсутствует направленность на морфологический анализ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41300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Нарушение устной речи и чтен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-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это               результат воздействия  единого этиопатогенетического фактора, являющегося  их причиной и составляющего  патологический механ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6588000" y="2276640"/>
            <a:ext cx="2068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30200" y="260280"/>
            <a:ext cx="87138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ccff"/>
                  </a:solidFill>
                  <a:miter/>
                </a:ln>
                <a:solidFill>
                  <a:srgbClr val="9966ff"/>
                </a:solidFill>
                <a:latin typeface="Century Schoolbook"/>
              </a:rPr>
              <a:t>ПСИХОЛИНГВИСТИЧЕСКИЙ </a:t>
            </a:r>
            <a:endParaRPr b="1" lang="en-US" sz="1800" spc="1" strike="noStrike">
              <a:ln w="28440">
                <a:solidFill>
                  <a:srgbClr val="00ccff"/>
                </a:solidFill>
                <a:miter/>
              </a:ln>
              <a:solidFill>
                <a:srgbClr val="9966ff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ccff"/>
                  </a:solidFill>
                  <a:miter/>
                </a:ln>
                <a:solidFill>
                  <a:srgbClr val="9966ff"/>
                </a:solidFill>
                <a:latin typeface="Century Schoolbook"/>
              </a:rPr>
              <a:t>АСПЕКТ</a:t>
            </a:r>
            <a:endParaRPr b="1" lang="en-US" sz="1800" spc="1" strike="noStrike">
              <a:ln w="28440">
                <a:solidFill>
                  <a:srgbClr val="00ccff"/>
                </a:solidFill>
                <a:miter/>
              </a:ln>
              <a:solidFill>
                <a:srgbClr val="9966ff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ccff"/>
                  </a:solidFill>
                  <a:miter/>
                </a:ln>
                <a:solidFill>
                  <a:srgbClr val="9966ff"/>
                </a:solidFill>
                <a:latin typeface="Century Schoolbook"/>
              </a:rPr>
              <a:t>ИЗУЧЕНИЯ</a:t>
            </a:r>
            <a:endParaRPr b="1" lang="en-US" sz="1800" spc="1" strike="noStrike">
              <a:ln w="28440">
                <a:solidFill>
                  <a:srgbClr val="00ccff"/>
                </a:solidFill>
                <a:miter/>
              </a:ln>
              <a:solidFill>
                <a:srgbClr val="9966ff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ccff"/>
                  </a:solidFill>
                  <a:miter/>
                </a:ln>
                <a:solidFill>
                  <a:srgbClr val="9966ff"/>
                </a:solidFill>
                <a:latin typeface="Century Schoolbook"/>
              </a:rPr>
              <a:t>НАРУШЕНИЯ РЕЧИ</a:t>
            </a:r>
            <a:endParaRPr b="1" lang="en-US" sz="1800" spc="1" strike="noStrike">
              <a:ln w="28440">
                <a:solidFill>
                  <a:srgbClr val="00ccff"/>
                </a:solidFill>
                <a:miter/>
              </a:ln>
              <a:solidFill>
                <a:srgbClr val="9966ff"/>
              </a:solidFill>
              <a:latin typeface="Century Schoolbook"/>
              <a:ea typeface="Century Schoolbook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3860640"/>
            <a:ext cx="8136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нарушение различных операций процесса чтения:  зрительного восприятия и различения букв, выбора фонемы,                                           слияния звуков в слоги, слогов в слова,             слов в предложения, соотнесение со смыс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83440" y="151560"/>
            <a:ext cx="58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man Old Style"/>
              </a:rPr>
              <a:t>МЕХАНИЗМЫ ДИСЛЕКСИИ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1628640"/>
            <a:ext cx="777564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сформированность сенсомоторных операций (зрительно -пространственный анализ букв и их сочетаний в сл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сформированность языковых операций со звуками, слогами, словами и предложениями в тексте (фонематический, морфологический, синтаксический уров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арушение семантических операций (соотнесение со смысл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51280" y="907920"/>
            <a:ext cx="122868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156240" y="188280"/>
            <a:ext cx="6422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man Old Style"/>
              </a:rPr>
              <a:t>КЛАССИФИК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man Old Style"/>
              </a:rPr>
              <a:t>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Bookman Old Style"/>
              </a:rPr>
              <a:t>ДИСЛЕКСИЙ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1484280"/>
            <a:ext cx="7775640" cy="30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атегории: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епень  выраженности  нарушений чтения  (Р.Беккер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рушения  деятельности  анализаторов,  участвующих  в  акте  чтения  (О.А.Токаре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рушение  тех  или  иных  психических  функций ( Хватцев М.Е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т  операций  процесса  чтения(Р.И.Лалаев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97360" y="4436280"/>
            <a:ext cx="33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ВИДЫ ДИСЛЕКСИЙ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5373720"/>
            <a:ext cx="3097440" cy="520560"/>
          </a:xfrm>
          <a:prstGeom prst="rect">
            <a:avLst/>
          </a:prstGeom>
          <a:solidFill>
            <a:srgbClr val="ffd5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лите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300640"/>
            <a:ext cx="3097440" cy="520560"/>
          </a:xfrm>
          <a:prstGeom prst="rect">
            <a:avLst/>
          </a:prstGeom>
          <a:solidFill>
            <a:srgbClr val="ffd5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ерб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2143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87280" y="981000"/>
            <a:ext cx="73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00720" y="3068640"/>
            <a:ext cx="2664000" cy="580680"/>
          </a:xfrm>
          <a:prstGeom prst="rect">
            <a:avLst/>
          </a:prstGeom>
          <a:solidFill>
            <a:srgbClr val="e5ffe5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едо-               развитие звукослогового синте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24360" y="2060640"/>
            <a:ext cx="2376720" cy="1310760"/>
          </a:xfrm>
          <a:prstGeom prst="rect">
            <a:avLst/>
          </a:prstGeom>
          <a:solidFill>
            <a:srgbClr val="e5ffe5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едифференциро-ванность представ-лений о синтакси-ческих связях слов  в предлож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3141720"/>
            <a:ext cx="3816360" cy="520560"/>
          </a:xfrm>
          <a:prstGeom prst="rect">
            <a:avLst/>
          </a:prstGeom>
          <a:solidFill>
            <a:srgbClr val="6600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СЕМАН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5640" y="907920"/>
            <a:ext cx="3600720" cy="580680"/>
          </a:xfrm>
          <a:prstGeom prst="rect">
            <a:avLst/>
          </a:prstGeom>
          <a:solidFill>
            <a:srgbClr val="ffcc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недоразвитие дифференциаци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фон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268280"/>
            <a:ext cx="4248360" cy="520560"/>
          </a:xfrm>
          <a:prstGeom prst="rect">
            <a:avLst/>
          </a:prstGeom>
          <a:solidFill>
            <a:srgbClr val="6600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ФОНЕМА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24360" y="1268280"/>
            <a:ext cx="3168720" cy="580680"/>
          </a:xfrm>
          <a:prstGeom prst="rect">
            <a:avLst/>
          </a:prstGeom>
          <a:solidFill>
            <a:srgbClr val="ffcc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недоразвитие фонематического анали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789360"/>
            <a:ext cx="1476360" cy="707760"/>
          </a:xfrm>
          <a:prstGeom prst="rect">
            <a:avLst/>
          </a:prstGeom>
          <a:solidFill>
            <a:srgbClr val="b7e7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Упро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4149720"/>
            <a:ext cx="2448000" cy="824040"/>
          </a:xfrm>
          <a:prstGeom prst="rect">
            <a:avLst/>
          </a:prstGeom>
          <a:solidFill>
            <a:srgbClr val="b7e7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Неправильное пространственное распо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2492280"/>
            <a:ext cx="1944720" cy="8240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едо-    развитие грамматических обоб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2205000"/>
            <a:ext cx="4391280" cy="520560"/>
          </a:xfrm>
          <a:prstGeom prst="rect">
            <a:avLst/>
          </a:prstGeom>
          <a:solidFill>
            <a:srgbClr val="6600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АГРАММА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4076640"/>
            <a:ext cx="4248000" cy="520560"/>
          </a:xfrm>
          <a:prstGeom prst="rect">
            <a:avLst/>
          </a:prstGeom>
          <a:solidFill>
            <a:srgbClr val="6600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ОП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5229360"/>
            <a:ext cx="3600360" cy="580680"/>
          </a:xfrm>
          <a:prstGeom prst="rect">
            <a:avLst/>
          </a:prstGeom>
          <a:solidFill>
            <a:srgbClr val="ffd28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Неустойчивость зрительного восприятия и представл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5013360"/>
            <a:ext cx="4248360" cy="520560"/>
          </a:xfrm>
          <a:prstGeom prst="rect">
            <a:avLst/>
          </a:prstGeom>
          <a:solidFill>
            <a:srgbClr val="6600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МНЕС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6093000"/>
            <a:ext cx="3600360" cy="707760"/>
          </a:xfrm>
          <a:prstGeom prst="rect">
            <a:avLst/>
          </a:prstGeom>
          <a:solidFill>
            <a:srgbClr val="e4d1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Наблюдается у слепых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950080"/>
            <a:ext cx="4248000" cy="520560"/>
          </a:xfrm>
          <a:prstGeom prst="rect">
            <a:avLst/>
          </a:prstGeom>
          <a:solidFill>
            <a:srgbClr val="6600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ТАКТИ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965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25280" y="-720"/>
            <a:ext cx="69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man Old Style"/>
              </a:rPr>
              <a:t>КЛАССИФИКАЦИЯ ДИСЛЕКСИЙ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764080" y="332640"/>
            <a:ext cx="3917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man Old Style"/>
              </a:rPr>
              <a:t>СИМПТОМА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man Old Style"/>
              </a:rPr>
              <a:t>ДИСЛЕКСИИ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981000"/>
            <a:ext cx="73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628640"/>
            <a:ext cx="849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арушения чт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часто сопровожд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речевыми расстройств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оторые не включаются в симптоматику дислекс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едставляя соб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атологические механиз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(нарушения пространственных представлени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067280" y="541800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63200" y="151560"/>
            <a:ext cx="61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man Old Style"/>
              </a:rPr>
              <a:t>ОШИБКИ  ПРИ ДИСЛЕКСИИ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981000"/>
            <a:ext cx="73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084720" y="3794040"/>
            <a:ext cx="2880000" cy="2597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26920" y="1557360"/>
            <a:ext cx="77058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ЗАМЕНА И СМЕШЕНИЕ ЗВУКОВ ПРИ ЧТ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ПОБУКВЕННОЕ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ИСКАЖЕНИЕ ЗВУКО-СЛОГОВОЙ СТРУКТУРЫ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НАРУШЕНИЕ ПОНИМАНИЯ ПРОЧИТА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АГРАММАТИЗМЫ                            ПРИ ЧТ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80320" y="188280"/>
            <a:ext cx="8260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man Old Style"/>
              </a:rPr>
              <a:t>ВЛИЯНИЕ ДИСЛЕК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man Old Style"/>
              </a:rPr>
              <a:t>на формирование личности ребёнка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981000"/>
            <a:ext cx="73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1916280"/>
            <a:ext cx="7273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d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d0"/>
                </a:solidFill>
                <a:latin typeface="Bookman Old Style"/>
              </a:rPr>
              <a:t>Неуверенность в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d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d0"/>
                </a:solidFill>
                <a:latin typeface="Bookman Old Style"/>
              </a:rPr>
              <a:t>Роб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d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d0"/>
                </a:solidFill>
                <a:latin typeface="Bookman Old Style"/>
              </a:rPr>
              <a:t>Тревожная мни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Озлоб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Агресс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Склонность к негативным реакц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796000" y="2060640"/>
            <a:ext cx="30384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63720" y="309240"/>
            <a:ext cx="710100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Monotype Corsiva"/>
              </a:rPr>
              <a:t>У С П Е Х О В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Monotype Corsiva"/>
              </a:rPr>
              <a:t>В     Р А Б О Т Е 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981000"/>
            <a:ext cx="73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419640" y="1484280"/>
            <a:ext cx="2109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40000" y="61560"/>
            <a:ext cx="49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29ff"/>
                </a:solidFill>
                <a:latin typeface="Bookman Old Style"/>
              </a:rPr>
              <a:t>ЭТИОЛОГИЯ</a:t>
            </a:r>
            <a:r>
              <a:rPr b="0" lang="en-US" sz="4400" spc="-1" strike="noStrike">
                <a:solidFill>
                  <a:srgbClr val="702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981000"/>
            <a:ext cx="70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Bookman Old Style"/>
              </a:rPr>
              <a:t>- учение  о  причинах  возникновения   болез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160488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332000" y="3933720"/>
            <a:ext cx="180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Bookman Old Style"/>
              </a:rPr>
              <a:t>3 %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Bookman Old Style"/>
              <a:ea typeface="Bookman Old Style"/>
            </a:endParaRPr>
          </a:p>
        </p:txBody>
      </p:sp>
      <p:sp>
        <p:nvSpPr>
          <p:cNvPr id="51" name=""/>
          <p:cNvSpPr/>
          <p:nvPr/>
        </p:nvSpPr>
        <p:spPr>
          <a:xfrm>
            <a:off x="460080" y="2208600"/>
            <a:ext cx="2865960" cy="5814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« Дислекс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2349360"/>
            <a:ext cx="54007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Bookman Old Style"/>
              </a:rPr>
              <a:t>  частичное  специфическое  нарушение  процесса  чтения,  обусловленное  несформированностью (нарушением) высших психических  функций  и  проявляющееся  в  повторяющихся  ошибках  стойкого  характ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00360" y="54936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Bookman Old Style"/>
              </a:rPr>
              <a:t>Ч Т Е Н И 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268280"/>
            <a:ext cx="8029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зрительный анализ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речедвигательный анализ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речеслуховой анализ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71640" y="3422520"/>
            <a:ext cx="329436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13720"/>
            <a:ext cx="842472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- овладение  звукобуквенными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обозначе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-  послоговое  чт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-  становление  синтетических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приемов 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- синтетическое  чт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1057320" cy="571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1057320" cy="571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11280" y="3789360"/>
            <a:ext cx="1057320" cy="571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11280" y="5157720"/>
            <a:ext cx="1057320" cy="571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66160" y="278640"/>
            <a:ext cx="5976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С Т У П Е Н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формирования  навыков 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19798800">
            <a:off x="6032160" y="2253960"/>
            <a:ext cx="100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Bookman Old Style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Bookman Old Style"/>
              <a:ea typeface="Bookman Old Style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308720" y="249228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66" name=""/>
          <p:cNvSpPr txBox="1"/>
          <p:nvPr/>
        </p:nvSpPr>
        <p:spPr>
          <a:xfrm rot="2078400">
            <a:off x="7019640" y="458136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6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56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60"/>
                            </p:stCondLst>
                            <p:childTnLst>
                              <p:par>
                                <p:cTn id="1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58920" y="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00b4"/>
                </a:solidFill>
                <a:latin typeface="Bookman Old Style"/>
              </a:rPr>
              <a:t>Основные приёмы</a:t>
            </a:r>
            <a:r>
              <a:rPr b="0" lang="en-US" sz="3600" spc="-1" strike="noStrike">
                <a:solidFill>
                  <a:srgbClr val="3c00b4"/>
                </a:solidFill>
                <a:latin typeface="Bookman Old Style"/>
              </a:rPr>
              <a:t> овладения  навыком 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1700280"/>
            <a:ext cx="6983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формирование  устной  речи, фонетико-фонематической  её стороны (произношения,  слуховой  дифференциации  фонем, фонематического  анализа  и  синтеза), лексико- грамматического   стро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развитие  пространственных  представлений, зрительного  анализа  и синтеза, синтеза  и  мнезиса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952560" cy="819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95256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3419640" y="1557360"/>
            <a:ext cx="2665080" cy="2220840"/>
            <a:chOff x="3419640" y="1557360"/>
            <a:chExt cx="2665080" cy="222084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3419640" y="1557360"/>
              <a:ext cx="2665080" cy="22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 rot="20904600">
              <a:off x="4722840" y="2274840"/>
              <a:ext cx="649440" cy="576360"/>
            </a:xfrm>
            <a:prstGeom prst="rect">
              <a:avLst/>
            </a:prstGeom>
            <a:solidFill>
              <a:srgbClr val="683400"/>
            </a:solidFill>
            <a:ln w="9360">
              <a:solidFill>
                <a:srgbClr val="683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95280" y="1413000"/>
            <a:ext cx="3700440" cy="518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364000" y="0"/>
            <a:ext cx="3780000" cy="5445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191640" y="1266840"/>
            <a:ext cx="23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Bookman Old Style"/>
              </a:rPr>
              <a:t>М.Лами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Bookman Old Style"/>
              </a:rPr>
              <a:t>         </a:t>
            </a:r>
            <a:r>
              <a:rPr b="0" lang="ru-RU" sz="2400" spc="-1" strike="noStrike">
                <a:solidFill>
                  <a:srgbClr val="cc0000"/>
                </a:solidFill>
                <a:latin typeface="Bookman Old Style"/>
              </a:rPr>
              <a:t>К. Лон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1634400"/>
            <a:ext cx="244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Monotype Corsiva"/>
              </a:rPr>
              <a:t>отмечают  наследственную  предрасположенность  при  нарушениях  чтения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51000" y="26359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Bookman Old Style"/>
              </a:rPr>
              <a:t>Рейнхоль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3000240"/>
            <a:ext cx="252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Monotype Corsiva"/>
              </a:rPr>
              <a:t>отмечает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Monotype Corsiva"/>
              </a:rPr>
              <a:t>наследие незрелости  головного  мозга  в  его  отдельных  зонах</a:t>
            </a:r>
            <a:r>
              <a:rPr b="0" lang="en-US" sz="28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44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44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40000" y="189000"/>
            <a:ext cx="4824360" cy="1130040"/>
          </a:xfrm>
          <a:prstGeom prst="rect">
            <a:avLst/>
          </a:prstGeom>
          <a:noFill/>
          <a:ln w="76320">
            <a:solidFill>
              <a:srgbClr val="702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00b4"/>
                </a:solidFill>
                <a:latin typeface="Bookman Old Style"/>
              </a:rPr>
              <a:t>ПРИЧИНЫ </a:t>
            </a:r>
            <a:r>
              <a:rPr b="0" lang="en-US" sz="2800" spc="-1" strike="noStrike">
                <a:solidFill>
                  <a:srgbClr val="3c00b4"/>
                </a:solidFill>
                <a:latin typeface="Bookman Old Style"/>
              </a:rPr>
              <a:t>нарушения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484280"/>
            <a:ext cx="3457440" cy="101592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ОРГАНИЧЕСКОГО</a:t>
            </a:r>
            <a:r>
              <a:rPr b="0" lang="en-US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okman Old Style"/>
              </a:rPr>
              <a:t>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1484280"/>
            <a:ext cx="3960720" cy="101592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ФУНКЦИОН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637000"/>
            <a:ext cx="2162160" cy="825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внутренн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37000"/>
            <a:ext cx="2447640" cy="825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внешн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32720" y="3582720"/>
            <a:ext cx="2160360" cy="1465560"/>
          </a:xfrm>
          <a:prstGeom prst="rect">
            <a:avLst/>
          </a:prstGeom>
          <a:noFill/>
          <a:ln w="1908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длительно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сомат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заболе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3720960"/>
            <a:ext cx="2520720" cy="2837160"/>
          </a:xfrm>
          <a:prstGeom prst="rect">
            <a:avLst/>
          </a:prstGeom>
          <a:noFill/>
          <a:ln w="1908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неправильная  речь  окружающи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двуязычие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недостаточное  внимание  к  развитию  речи  ребенка  со  стороны   взрослы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дефицит  речевых</a:t>
            </a:r>
            <a:r>
              <a:rPr b="0" lang="en-US" sz="1800" spc="-1" strike="noStrike">
                <a:solidFill>
                  <a:srgbClr val="bbe0e3"/>
                </a:solidFill>
                <a:latin typeface="Bookman Old Style"/>
              </a:rPr>
              <a:t>  контактов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2266920" cy="2340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1280" y="2708280"/>
            <a:ext cx="3457440" cy="13816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ОРГАНИЧЕСКИМИ</a:t>
            </a:r>
            <a:r>
              <a:rPr b="0" lang="en-US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okman Old Style"/>
              </a:rPr>
              <a:t>повреждениями зон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12800" y="-720"/>
            <a:ext cx="623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man Old Style"/>
              </a:rPr>
              <a:t>ОСОБЕННОСТИ ДИСЛЕКСИИ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Bookman Old Style"/>
              </a:rPr>
              <a:t>У ДЕТЕЙ С СОХРАННЫМ ИНТЕЛЛЕК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125360"/>
            <a:ext cx="5832360" cy="3134520"/>
          </a:xfrm>
          <a:prstGeom prst="rect">
            <a:avLst/>
          </a:prstGeom>
          <a:solidFill>
            <a:srgbClr val="e6d9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частое    сочетание  с  психическим  ифантилизмом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ыраженная  неравномерность  психического  развития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ределенные структуры интеллекта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тмечается недоразвитие тех или иных   сукцессивных и симультанных процессов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рушение  кратковременной  речеслуховой  памяти  и  т. 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4076640"/>
            <a:ext cx="5473440" cy="1465560"/>
          </a:xfrm>
          <a:prstGeom prst="rect">
            <a:avLst/>
          </a:prstGeom>
          <a:solidFill>
            <a:srgbClr val="99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едостат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-  вни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-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- зрительного  гно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- сукцессивных  и  симультан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6000" y="1844640"/>
            <a:ext cx="295272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68360" y="1197000"/>
            <a:ext cx="8424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ccff"/>
                  </a:solidFill>
                  <a:miter/>
                </a:ln>
                <a:solidFill>
                  <a:srgbClr val="9966ff"/>
                </a:solidFill>
                <a:latin typeface="Century Schoolbook"/>
              </a:rPr>
              <a:t>ПСИХОЛОГИЧЕСКИЙ </a:t>
            </a:r>
            <a:endParaRPr b="1" lang="en-US" sz="1800" spc="1" strike="noStrike">
              <a:ln w="28440">
                <a:solidFill>
                  <a:srgbClr val="00ccff"/>
                </a:solidFill>
                <a:miter/>
              </a:ln>
              <a:solidFill>
                <a:srgbClr val="9966ff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ccff"/>
                  </a:solidFill>
                  <a:miter/>
                </a:ln>
                <a:solidFill>
                  <a:srgbClr val="9966ff"/>
                </a:solidFill>
                <a:latin typeface="Century Schoolbook"/>
              </a:rPr>
              <a:t>АСПЕКТ</a:t>
            </a:r>
            <a:endParaRPr b="1" lang="en-US" sz="1800" spc="1" strike="noStrike">
              <a:ln w="28440">
                <a:solidFill>
                  <a:srgbClr val="00ccff"/>
                </a:solidFill>
                <a:miter/>
              </a:ln>
              <a:solidFill>
                <a:srgbClr val="9966ff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ccff"/>
                  </a:solidFill>
                  <a:miter/>
                </a:ln>
                <a:solidFill>
                  <a:srgbClr val="9966ff"/>
                </a:solidFill>
                <a:latin typeface="Century Schoolbook"/>
              </a:rPr>
              <a:t>МЕХАНИЗМОВ</a:t>
            </a:r>
            <a:endParaRPr b="1" lang="en-US" sz="1800" spc="1" strike="noStrike">
              <a:ln w="28440">
                <a:solidFill>
                  <a:srgbClr val="00ccff"/>
                </a:solidFill>
                <a:miter/>
              </a:ln>
              <a:solidFill>
                <a:srgbClr val="9966ff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ccff"/>
                  </a:solidFill>
                  <a:miter/>
                </a:ln>
                <a:solidFill>
                  <a:srgbClr val="9966ff"/>
                </a:solidFill>
                <a:latin typeface="Century Schoolbook"/>
              </a:rPr>
              <a:t>НАРУШЕНИЯ РЕЧИ</a:t>
            </a:r>
            <a:endParaRPr b="1" lang="en-US" sz="1800" spc="1" strike="noStrike">
              <a:ln w="28440">
                <a:solidFill>
                  <a:srgbClr val="00ccff"/>
                </a:solidFill>
                <a:miter/>
              </a:ln>
              <a:solidFill>
                <a:srgbClr val="9966ff"/>
              </a:solidFill>
              <a:latin typeface="Century Schoolbook"/>
              <a:ea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0:22:51Z</dcterms:created>
  <dc:creator>art</dc:creator>
  <dc:description/>
  <dc:language>en-US</dc:language>
  <cp:lastModifiedBy>Apple</cp:lastModifiedBy>
  <dcterms:modified xsi:type="dcterms:W3CDTF">2013-09-30T00:35:57Z</dcterms:modified>
  <cp:revision>53</cp:revision>
  <dc:subject/>
  <dc:title>Слайд 1</dc:title>
</cp:coreProperties>
</file>