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EDDC-D9A6-4657-9025-E01AA5417D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5361-F261-4F9C-B908-139D72B26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FB3B-C5A1-44B4-8511-4ACA8D42B5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1210-BE8F-4555-82A6-8DEC7038D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875F-F08F-4D01-B7DA-97D4BB289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0BEE-5294-4E1E-A568-85E902C8C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2EDD-50A7-4CA5-9FB2-307D08C57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3280-4F14-43D4-9F64-8631EDFB3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C2F5-56AF-4361-BE5A-360C04DFD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9A33-AE39-41DE-A5A9-DA199411CA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4807-65FC-4E80-8FBB-0790BA898F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C97A-BA1D-4E81-A7B6-38677838F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C331-7817-44B9-B1A2-C9FFD3E43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AE8F-371B-482B-BC1E-509D50757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997E-9FBC-4A68-A49B-CEAEDC956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8972-8A42-41F7-8954-8B4235F0C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07A4-983C-44F8-9D1F-E8B99B05F7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741B-E0E7-44B2-94BD-301614985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433E-350B-4C7B-883D-8C7B5366E0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42EF-5C5A-43BF-88F2-95E812C68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5DC6-CB28-4FA5-AA23-990DD125B9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5D25-6732-452A-B35C-005B523312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A1D8-7021-4955-9BBE-A3C43D522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CD7E-C993-405C-9A0A-7B99FA0AD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E121-F412-41D3-8B49-44C8F77EB5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BD5-9D1D-47CE-BA21-947B710B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896-A421-4D5C-958B-4474F2D7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B95-6945-43B5-8AAC-9451232D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FCF-8F85-4477-8CB1-93020344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1A81-55D3-4682-B757-82E9B09A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70BA-7483-457E-B835-0DA6C6DE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3CFC-58FE-492D-B5C6-B7F4A51B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4EFD-551F-4758-B76C-B066A091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DB49-E390-43B4-A97F-B3F477DD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F299-0082-48E6-B268-08100940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A207-00E1-40B5-827F-E32B704B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BB6-0CAA-415F-9ACF-93E16D51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E5E6-08AC-4C78-9148-C48B5ADB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2F09-24F7-40D8-ACF8-0D95809C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C2A1-FE4B-4607-B250-CB9C67B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672E-8EAF-42CB-A75B-8F00D5A1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D442-21FC-43D0-9421-79A25FFC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232-A583-4F16-BC24-FF4159BF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406-8818-4A78-9041-41AD0373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EE6-680D-42DE-9CCD-682C3D36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EE7-3C92-4079-BB8A-87C1328B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651-CBAC-4DD4-AE22-86D4D235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9A0-09A6-4982-A7A6-D81CA275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8A8-9B48-4B43-9665-E1C2EA32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6C77-581D-4A1C-AECD-EDCC892743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CAD9-DFD0-4FC3-9B3E-39299835A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ИГРОВЫЕ ТЕХНОЛОГИИ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 детском сад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труктура образовательной технолог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руктура образовательной технологии состоит из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ех часте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цептуаль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это научная база технологии, т.е. психолого-педагогические идеи, которые заложены в ее фундамен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ржатель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это общие, конкретные цели и содержание учебного материа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цессуаль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совокупность форм и методов учебной деятельности детей, методов и форм работы педагога, деятельности педагога по управлению процессом усвоения материала, диагностика обучающего процес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аким образом, очевидн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сли некая система претендует на роль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хнологи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на должна соответствовать всем перечисленным требования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гровая техноло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», кроме выше перечисленных критериев, должна отвечать психологически обоснованным требованиям к использованию игровых ситуаций в обучающем процессе в детском саду, создавая ребенку возможность принятия на себя роли действующего в игровой ситуации персонажа. Такая организация совместной деятельности педагога и ребенка является средством, воссоздающим некоторые элементы игры, и способствует преодолению разрыва, возникающего при переходе от ведущей игровой 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гра или элементы игры, целесообразно включенные в обучение, придают учебной задаче конкретный, актуальный смысл, мобилизуют мыслительные, эмоциональные и волевые силы детей, ориентируют их на решение поставленных задач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одно из замечательных явлений жизни, деятельность, как будто бесполезная и вместе с тем необходимая. Невольно чаруя и привлекая к себе как жизненное явление, игра оказалась весьма серьезной и трудной проблемой для научной мыс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Игровая деятель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гра наряду с трудом и ученьем - один из основных видов деятельности человека, удивительный феномен нашего существо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 определению, игра -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это вид деятельности в условиях ситуаций, направленных на воссоздание и усвоение общественного опыта, в котором складывается и совершенствуется самоуправление поведени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ункции иг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развлекательн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это основная функция игры - развлечь, доставить довольствие, воодушевить, пробудить интерес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   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коммуникативная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воение диалектики общен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   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самореализаци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игре как полигоне человеческой практик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   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игротерапевтическая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одоление различных трудностей, возникающих в других видах жизнедеятельност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   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диагностическая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явление отклонений от нормативного поведения, самопознание в процессе игр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    функция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коррекции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несение позитивных изменений в структуру личностных показателей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    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межнациональная коммуникация: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воение единых для всех людей социально-культурных ценностей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     функция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социализации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ключение в систему общественных отношений, усвоение нор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человеческого общежит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етыре главные черты присущие игр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•  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свободная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вающая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еятельность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принимаемая лишь по желанию ребенка, ради удовольствия от самого процесса деятельности, а не только от результата (процедурное удовольствие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•  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ворческий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значительной мере импровизационный, очень активный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характер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той деятельности («поле творчества»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•  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эмоциональная приподнятость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ятельности, соперничество, состязательность, конкуренция, аттракция и т.п. (чувственная природа игры, «эмоцио­нальное напряжение»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•  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наличи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ямых или косвенных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равил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ражающих содержание игр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огическую и временную последовательность ее развит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руктура игры как 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деятельности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леполагани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анировани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ализация цел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ализ результатов, в которых личность полностью реализует себя как субъек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руктура игры как 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процесс -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роли, взятые на себя играющим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игровые действия как средство реализации этих ролей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игровое употребление предметов, т.е. замещение реальных вещей игровыми, условным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) реальные отношения между играющим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) сюжет (содержание) — область действительности, условно воспроизводимая в игр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гра как 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метод обучени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    в качестве самостоятельных технологий для освоения понятия, темы и даже раздела учебного предме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    как элементы (иногда весьма существенные) более обширной технолог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    в качестве урока (занятия) или его части (введения, объяснения, закрепления, упражнения, контроля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    как технологии внеклассной работы (игры типа «Зарница»,  «Орленок», КТД и др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353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нятие «игровые педагогические технологии» включает достаточно обширную группу методов и приемов организации педагогического процесса в форме различных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едагогических игр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отличие от игр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обще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едагогическая игра обладает существенным признаком — четко поставленной целью обучения и соответствующим ей педагогическим результатом, которые могут быть обоснованы, выделены в явном виде и характеризуются учебно-познавательной направленность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такое технологи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и любая технология, педагогическая представляет собой процесс, при котором происходит качественное изменение воздействия на обучаемог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0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 характеру педагогического процесса выделяются следующие группы игр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66400" y="2668680"/>
            <a:ext cx="667404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учающие, тренировочные, контролирующие и обобщающ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знавательные, воспитательные, развивающ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продуктивные, продуктивные, творческ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муникативные, диагностические, профориентационные, психотехнические и д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ипология педагогических игр по характеру игровой методик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метны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южетны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левы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ловы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итационны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гры-драматиз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ецифику игровой технологии в значительной степени определяет игровая среда: различают игры с предметами и без предметов, настольные, комнатные, уличные, на местности, компьютерные и с ТСО, а также с различны­ми средствами передвиж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пецифика игровой технолог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гровая сред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гры с предметам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з предмето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стольны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мнатны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личны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местност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мпьютерны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ТСО,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различными средствами пере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гровая технолог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нее включаются последовательно игры и упражнения, формирующие умение выделять основные, характерные признаки предметов, сравнивать, сопоставлять их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этом игровой сюжет развивается параллельно основному содержанию обучения, помогает активизировать учебный процесс, осваивать ряд учебных элементов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оставление игровых технолог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отдельных игр и элементов - забота каждого воспитател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в форме игры может и должно быть интересным, занимательным, но не развлекательным. Для реализации такого подхода необходимо, чтобы образовательные технологии, разрабатываемые для обучения дошкольников, содержали четко обозначенную и пошагово описанную систему игровых заданий и различных игр с тем чтобы, используя эту систему, педагог мог быть уверенным в том, что в результате он получит гарантированный уровень усвоения ребенком того или иного предметного содержания. Безусловно, этот уровень достижений ребенка должен диагностироваться, а используемая педагогом технология должна обеспечивать эту диагностику соответствующими материала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педагогических технолог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Здоровьесберегающа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хнология «ТРИЗ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хнология «Проблемного обучени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хнология «Марии Монтессори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Игровая» технология и д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овные требования (критерии) педагогической технологи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нцептуаль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стем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правляем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роизводим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нцептуаль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нцептуаль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опора на определенную научную концепцию, включающую философское, психологическое, дидактическое и социально-педагогическое обоснование достижения образовательных ц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истем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истем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технология должна обладать всеми признаками систем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логикой процесс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взаимосвязью его часте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целостность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правляем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правляемость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можность диагностического целеполагания, планирования, проектирования процесса обучения,поэтапной диагностики, варьирования средств и методов с целью коррекции результа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ффективность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Эффективность –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временные педагогические технологии, существующие в конкретных условиях, должны быть эффективными по результатам и оптимальными по затратам, гарантировать достижение определенного стандарта обуч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оспроизводим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роизводимость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зможность применения (повторения, воспроизведения) образовательной технологии в образовательных учреждениях т.е.(технология как педагогический инструмент должна быть гарантированно эффективна в руках любого педагога, использующего ее, независимо от его опыта, стажа, возраста и личностных особенностей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0:12:11Z</dcterms:created>
  <dc:creator>Ивасенко С.А.</dc:creator>
  <dc:description/>
  <dc:language>en-US</dc:language>
  <cp:lastModifiedBy>Owner</cp:lastModifiedBy>
  <dcterms:modified xsi:type="dcterms:W3CDTF">2011-08-01T08:33:15Z</dcterms:modified>
  <cp:revision>15</cp:revision>
  <dc:subject/>
  <dc:title>ИГРОВЫЕ ТЕХНОЛОГИИ</dc:title>
</cp:coreProperties>
</file>