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7D7-4B3D-436A-94BB-231061EC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DA4-45CB-40D3-83DD-4723726C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D01-6A61-410F-8533-E9E51855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461-489D-457B-B862-79079ABB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531B-0619-4AB4-847E-0BDF9102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0BA4-3431-430C-A81F-DCAC240A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B3AF-D9B6-4DF0-A371-10A92113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48AB-1068-48BF-8A4E-389AA6AC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D9EA-A8EF-4CFB-A2EF-9F6968BA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1AB1-BAEF-4AC1-8B2B-8A4B31FA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BBC7-28D8-4533-96D2-F99AC18A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1A6-8B9C-4A42-A1DA-20263196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600A-1325-4E82-8618-11677AF9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599E-2376-4C50-87D3-7F40F76A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E0C0-67D2-49AF-A5E3-07C79507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88E1-23DD-4A59-9BCB-855BCC26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761D-7C1F-4728-A5E0-69A42AE3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5E0-7FC6-4B54-8D9D-72A765D7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501-FFE8-435E-A656-93E7B9EC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943-7309-4FB9-BC07-6EFAB2DE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BB1-8C35-4AD7-B12F-F4A30A6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4CC-963E-4019-89C1-8211EFF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F86-5436-49B1-9804-7768FF58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28D-8838-46F3-AC2E-31FBD926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83E9-0ED1-4FF6-A1E9-A8E82EFA12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798-9F08-4D30-93DB-0CF6F6312F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Times New Roman"/>
              </a:rPr>
              <a:t>Сумматор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435640" y="6165360"/>
            <a:ext cx="33703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ванова Юл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dff"/>
                </a:solidFill>
                <a:latin typeface="Times New Roman"/>
              </a:rPr>
              <a:t>Полный одноразрядный суммато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ный одноразрядный сумматор должен иметь три входа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А,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слагаемые и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еренос из младшего разряда и два выхода: сумм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 перенос Р. Таблица сложения в этом случае будет иметь следующий вид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11280" y="620640"/>
          <a:ext cx="7345440" cy="4921200"/>
        </p:xfrm>
        <a:graphic>
          <a:graphicData uri="http://schemas.openxmlformats.org/drawingml/2006/table">
            <a:tbl>
              <a:tblPr/>
              <a:tblGrid>
                <a:gridCol w="1008000"/>
                <a:gridCol w="792000"/>
                <a:gridCol w="2737080"/>
                <a:gridCol w="1584360"/>
                <a:gridCol w="122400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нос из младшего раз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н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4152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дея построения полного сумматора точно такая же, как и полусумматора. Из таблицы сложения видно, что перенос (логическая переменн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принимает значение 1 тогда, когда хотя бы две входные логические переменные одновременно принимают значение 1. Таким образом, перенос реализуется путем логического сложения результатов попарного логического умножения входных переменных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, В, 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Формула переноса получает следующий вид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556000" y="5445000"/>
                <a:ext cx="37717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7129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олучения значения суммы (логическая переменна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необходимо результат логического сложения входных переменных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, В, P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умножить на инвертированный перено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ое логическое выражение дает правильные значения суммы во всех случаях, кроме одного, когда на все входные логические переменные поступает значение 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тельно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348000" y="2205000"/>
                <a:ext cx="2160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: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4797360"/>
                <a:ext cx="262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∨</m:t>
                        </m:r>
                        <m:r>
                          <m:t xml:space="preserve">1</m:t>
                        </m:r>
                        <m:r>
                          <m:t xml:space="preserve">∨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6312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получения правильного значения суммы (для данного случая переменная S должна принимать значение 1) необходимо сложить полученное выше выражение для суммы с результатом логического умножения входных переменных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А, В,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В результате логическое выражение для вычисления суммы в полном сумматоре принимает следующий вид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627280" y="4437000"/>
                <a:ext cx="37720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целях максимального упрощения работы компьютера все многообразие математических операций в процессе сводится к сложению двоичных чисел. Поэтому главной частью процессора являются сумматоры, которые как раз и обеспечивают такое слож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dff"/>
                </a:solidFill>
                <a:latin typeface="Times New Roman"/>
              </a:rPr>
              <a:t>Полусуммато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помним, что при сложении двоичных чисел в каждом разряде образуется сумма и при этом возможен перенос в старший разряд. Введем обозначения слагаем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А, В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перенос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Р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сумм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Таблица сложения одноразрядных двоичных чисел с учетом переноса в старший разряд выглядит следующим образом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116000" y="1052640"/>
          <a:ext cx="6840720" cy="4248000"/>
        </p:xfrm>
        <a:graphic>
          <a:graphicData uri="http://schemas.openxmlformats.org/drawingml/2006/table">
            <a:tbl>
              <a:tblPr/>
              <a:tblGrid>
                <a:gridCol w="2160720"/>
                <a:gridCol w="1260360"/>
                <a:gridCol w="1709640"/>
                <a:gridCol w="1710000"/>
              </a:tblGrid>
              <a:tr h="707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н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698184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этой таблицы сразу видно, что перенос можно реализовать с помощью операции логического умножения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P=A·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м теперь формулу для вычисления суммы. Значения суммы близки к результатам операции логического сложения (кроме случая, когда на входы подаются две единицы, а на выходе должен получиться нуль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ый результат достигается, если результат логического сложения умножить на инвертированный перенос. Таким образом, для определения суммы можно применить следующее логическое выражение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796000" y="4581360"/>
                <a:ext cx="2158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dff"/>
                </a:solidFill>
                <a:latin typeface="Times New Roman"/>
              </a:rPr>
              <a:t>Таблица истинности логической функци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292720" y="907920"/>
                <a:ext cx="2340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1" name=""/>
          <p:cNvGraphicFramePr/>
          <p:nvPr/>
        </p:nvGraphicFramePr>
        <p:xfrm>
          <a:off x="755640" y="1828800"/>
          <a:ext cx="7626240" cy="2752560"/>
        </p:xfrm>
        <a:graphic>
          <a:graphicData uri="http://schemas.openxmlformats.org/drawingml/2006/table">
            <a:tbl>
              <a:tblPr/>
              <a:tblGrid>
                <a:gridCol w="1008000"/>
                <a:gridCol w="1224000"/>
                <a:gridCol w="1728720"/>
                <a:gridCol w="1440000"/>
                <a:gridCol w="1368360"/>
                <a:gridCol w="8571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b200"/>
                      </a:solidFill>
                    </a:lnL>
                    <a:lnR w="13680">
                      <a:solidFill>
                        <a:srgbClr val="00b200"/>
                      </a:solidFill>
                    </a:lnR>
                    <a:lnT w="13680">
                      <a:solidFill>
                        <a:srgbClr val="00b200"/>
                      </a:solidFill>
                    </a:lnT>
                    <a:lnB w="13680">
                      <a:solidFill>
                        <a:srgbClr val="00b2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492360" y="1916280"/>
                <a:ext cx="857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76720" y="191628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516720" y="1844640"/>
                <a:ext cx="70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ерь на основе полученных логических выражений можно построить из базовых логических элементов схему сложения одноразрядных двоичных чисе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логической формуле переноса легко определить, что для получения переноса необходимо использовать логический элемент «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логической формулы для суммы показывает, что на выходе должен стоять элемент логического умножения «И», который имеет два вход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один из входов надо подать результат логического сложения исходных величин А и В, то есть на него должен подаваться сигнал с элемента логического сложения «ИЛИ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торой вход требуется подать результат инвертированного логического умножения исходных сигналов   , то есть на второй вход должен подаваться сигнал с элемента «НЕ», на в ход которого должен поступать сигнал с элемента логического умножения «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dff"/>
                </a:solidFill>
                <a:latin typeface="Times New Roman"/>
              </a:rPr>
              <a:t>Полусумматор двоичных чисел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172200" cy="1657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68360" y="371412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ая схема называется </a:t>
            </a:r>
            <a:r>
              <a:rPr b="0" i="1" lang="ru-RU" sz="2400" spc="-1" strike="noStrike">
                <a:solidFill>
                  <a:srgbClr val="703dff"/>
                </a:solidFill>
                <a:latin typeface="Times New Roman"/>
              </a:rPr>
              <a:t>полусумматор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ак ка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изует суммирование одноразрядны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ичных чисел без учета переноса из младшего разря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7:18:05Z</dcterms:created>
  <dc:creator>Admin</dc:creator>
  <dc:description/>
  <dc:language>en-US</dc:language>
  <cp:lastModifiedBy>Admin</cp:lastModifiedBy>
  <dcterms:modified xsi:type="dcterms:W3CDTF">2012-04-04T18:03:31Z</dcterms:modified>
  <cp:revision>30</cp:revision>
  <dc:subject/>
  <dc:title>Сумматор </dc:title>
</cp:coreProperties>
</file>