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8866-6086-4FE2-86D1-52D648F5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909C-6DF0-4585-BD98-E2D8B671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63A-9EC8-4009-8465-D0C9F6B7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CEC6-C684-4394-A314-C8226D5C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C14A-391A-472A-8D39-CF3FB5FE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395B-22D2-4C0B-9F3E-A7316448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7A17-15D7-45EE-8E36-5BE7EA25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84AC-DB68-488E-891E-5C92AC89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94EB-8A0F-415F-8FBE-AB14FF76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EC0C-C61F-4F8E-A60A-20881481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FB5A-C753-40CF-A14C-A2C16B75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B91-3F56-4541-A1B2-ADF3CCB8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78E9-7116-4713-AF0B-206E1F20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1F55-2A22-4591-BC49-E9499585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D5E8-7A5F-46A5-B539-A8DC5891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F68B-0557-4282-86F3-E93CAC5E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F884-B8CB-4238-A1B2-0F5D9E2B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8A0-DDE7-4C9B-8CEF-F363D72C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E51C-1F99-4FB8-BD9F-15163BF9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586B-D454-4368-88C1-8B72CF33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0F4-2346-4906-B4B6-FDDF6FF2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F89-5F26-4C2B-B780-08D4BD0B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5728-650A-4529-B5FD-BEFB5649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2EBB-5B85-460C-BBC6-45C09FB4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3969-2D3C-499A-9E1F-37C7D42214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E635-82EE-4A96-BB7A-492F4342B0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ata6.gallery.ru/albums/gallery/82716--13339715-h20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80000" y="4508640"/>
            <a:ext cx="2772000" cy="19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48360" y="260280"/>
            <a:ext cx="30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ffff"/>
                </a:solidFill>
                <a:latin typeface="Tahoma"/>
              </a:rPr>
              <a:t>Михаил</a:t>
            </a:r>
            <a:br>
              <a:rPr sz="3200"/>
            </a:br>
            <a:r>
              <a:rPr b="1" i="1" lang="en-US" sz="3200" spc="-1" strike="noStrike">
                <a:solidFill>
                  <a:srgbClr val="e5ffff"/>
                </a:solidFill>
                <a:latin typeface="Tahoma"/>
              </a:rPr>
              <a:t>Васильевич</a:t>
            </a:r>
            <a:br>
              <a:rPr sz="3200"/>
            </a:br>
            <a:r>
              <a:rPr b="1" i="1" lang="en-US" sz="3200" spc="-1" strike="noStrike">
                <a:solidFill>
                  <a:srgbClr val="e5ffff"/>
                </a:solidFill>
                <a:latin typeface="Tahoma"/>
              </a:rPr>
              <a:t>Ломоно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41480" y="0"/>
            <a:ext cx="51404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askerville Old Face"/>
              </a:rPr>
              <a:t>Провер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721 год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оссия стала империе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анкт-Петербург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город на Нев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января - празднование Нового год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унсткамер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рвый музе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едомости - первая русская газет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амое высокое здание в России в Х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еке - Петропавловский собор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троительство Петербурга начиналось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 Петропавловской креп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лександро-Невская лавра – построена в честь Александра Невског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вский проспект - главная улица Петербур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душка русского флот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О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14400" y="5054400"/>
            <a:ext cx="82296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коло 300 лет назад в рыбацкой деревушке на севере России, близ г.Холмогоры рос здоровый и крепкий мальчик. Звали его Михайлой Ломоносовы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57038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Путь Михайло Ломоносова из Холмогор в Москву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259080" cy="5400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31460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Ломоносов в школ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при монастыр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362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Несмотря на его взрослые лета, Михайло определили в самый низший класс, т.к. он не знал латинского язы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ерез полгода он был переведён в следующий клас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За 5 лет он прошёл курс школы, выучился латинскому и греческому язык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Картинка 222 из 3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843280" cy="21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360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Ломоносов стал самым образованным человеком в России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Знал несколько язы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Сочинил множество стих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еподавал в Академии наук русский язык, историю, физику, химию и другие предме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аписал первую русскую грамматику, учебник русской истор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ервым объяснил русским людям, откуда берётся тепло и дожди, что такое планеты и кометы, от чего происходит северное сияние и мн. д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940360" y="0"/>
            <a:ext cx="2232000" cy="2421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580000" y="189000"/>
            <a:ext cx="2820960" cy="21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4902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501300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Императрица Елизавета Петровна пожаловала ему мызу и деревн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09624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541440" y="0"/>
            <a:ext cx="10298160" cy="73407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Основал первый в России университет, который носит его им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7:14:20Z</dcterms:created>
  <dc:creator>User</dc:creator>
  <dc:description/>
  <dc:language>en-US</dc:language>
  <cp:lastModifiedBy>Customer</cp:lastModifiedBy>
  <dcterms:modified xsi:type="dcterms:W3CDTF">2010-04-06T16:32:00Z</dcterms:modified>
  <cp:revision>3</cp:revision>
  <dc:subject/>
  <dc:title>Слайд 1</dc:title>
</cp:coreProperties>
</file>