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63F-291E-4705-925C-73B5E808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1EA-C880-4C77-8DA7-E896CFBD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65B-8425-42F3-8810-2593C04F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76C-FEA5-4AA8-9A33-C9907926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52CB-2AD1-4410-AE3A-843CB35D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8D26-E49B-4E21-998D-E2B1AE67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87C-B8F0-493E-A31A-0B6E041A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F5AC-E11D-4388-A488-EAEDB98F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C03-7BF0-4349-99CA-7420A3F7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79EE-E6FF-4FE2-BFF1-5E40683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DFA-9337-43DD-A7A1-78D9AA9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8BC-EAEF-4477-8B1C-765D3E5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8822-AF57-4AF0-9182-780B517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3831-3286-474B-BF11-DD6509AC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100-D944-4614-9FEB-5BD13145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FA3-08F7-4E5A-95C6-B58FED43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4F2-F67E-4D97-86F3-C48333EE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B120-61DB-4C7C-957D-00D511B8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5AEA-D80D-4A1C-81D5-B1CB4A4A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37AC-A04F-474D-95B3-C95D0E2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A2CC-62E3-472A-9847-A629B08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5A38-D25E-4A1F-B3B5-69FC2410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34E-71C9-4FC9-AE1C-E3A053FB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FB2E-B3FF-49D7-96EA-E6DBCEF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8D05-1D4A-468F-AED6-6070EC5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340C-E51A-426D-9532-5F76AF8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496F-E585-400E-9611-9EE724E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D50D-FBB3-4457-A0AB-F70D748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9703-E3E3-4321-85D9-41C0CF89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EB05-EFB9-4785-8610-A279B61B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6FD-A43F-4276-BB6B-9966E2F4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14C-8DAA-4736-BF98-5AA2519A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139-944E-4A6E-83B0-E463AC24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906-CAAB-4BFF-89F5-118E655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DEF-17AA-4EE8-8E4B-312E34F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02A-D331-4C93-B81C-B4AE74B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DF6-492B-48A0-A009-C7949968F4C1}" type="datetime">
              <a:rPr b="0" lang="en-US" sz="1000" spc="-1" strike="noStrike">
                <a:solidFill>
                  <a:srgbClr val="a1b4b7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СОШ-ГЭН.  Твоя жизнь- твой  выбо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2003-FBB1-49C3-9E3B-45AB4413867A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ounded Rectangle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4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30F-6519-4D67-8C5B-759F0A746C25}" type="datetime">
              <a:rPr b="0" lang="en-US" sz="1000" spc="-1" strike="noStrike">
                <a:solidFill>
                  <a:srgbClr val="a1b4b7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СОШ-ГЭН.  Твоя жизнь- твой  выбо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A34-5C75-473B-9155-A0BBBE231A7E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00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0BF-C080-4BD4-B9C3-45D5154D4525}" type="datetime">
              <a:rPr b="0" lang="en-US" sz="1000" spc="-1" strike="noStrike">
                <a:solidFill>
                  <a:srgbClr val="a1b4b7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СОШ-ГЭН.  Твоя жизнь- твой  выбо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B71-46F7-42EF-885B-F9CCE40A8B15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Целями проекта являются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ктуализация  темы здоровья, здорового образа жизни, ответственного поведения, воспитание  активной  жизненной  позиции, ответственное отношение к своему здоровью; формирование навыков ЗОЖ;  воспитание культуры общения;  формирование чувства ответственности за свое здоровь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5429160" y="6111720"/>
            <a:ext cx="29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214880" y="6357960"/>
            <a:ext cx="785880" cy="357120"/>
          </a:xfrm>
          <a:custGeom>
            <a:avLst/>
            <a:gdLst>
              <a:gd name="textAreaLeft" fmla="*/ 23040 w 785880"/>
              <a:gd name="textAreaRight" fmla="*/ 762840 w 785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507" h="21600">
                <a:moveTo>
                  <a:pt x="0" y="0"/>
                </a:moveTo>
                <a:lnTo>
                  <a:pt x="47507" y="0"/>
                </a:lnTo>
                <a:lnTo>
                  <a:pt x="47507" y="21600"/>
                </a:lnTo>
                <a:lnTo>
                  <a:pt x="0" y="21600"/>
                </a:lnTo>
                <a:close/>
              </a:path>
              <a:path fill="lightenLess" w="47507" h="21600">
                <a:moveTo>
                  <a:pt x="0" y="0"/>
                </a:moveTo>
                <a:lnTo>
                  <a:pt x="47507" y="0"/>
                </a:lnTo>
                <a:lnTo>
                  <a:pt x="46107" y="1400"/>
                </a:lnTo>
                <a:lnTo>
                  <a:pt x="1400" y="1400"/>
                </a:lnTo>
                <a:close/>
              </a:path>
              <a:path fill="darken" w="47507" h="21600">
                <a:moveTo>
                  <a:pt x="47507" y="0"/>
                </a:moveTo>
                <a:lnTo>
                  <a:pt x="47507" y="21600"/>
                </a:lnTo>
                <a:lnTo>
                  <a:pt x="46107" y="20200"/>
                </a:lnTo>
                <a:lnTo>
                  <a:pt x="46107" y="1400"/>
                </a:lnTo>
                <a:close/>
              </a:path>
              <a:path fill="darkenLess" w="47507" h="21600">
                <a:moveTo>
                  <a:pt x="47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7" y="20200"/>
                </a:lnTo>
                <a:close/>
              </a:path>
              <a:path fill="lighten" w="47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7" h="21600">
                <a:moveTo>
                  <a:pt x="16747" y="3794"/>
                </a:moveTo>
                <a:lnTo>
                  <a:pt x="30760" y="10800"/>
                </a:lnTo>
                <a:lnTo>
                  <a:pt x="16747" y="17806"/>
                </a:lnTo>
                <a:close/>
              </a:path>
            </a:pathLst>
          </a:cu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"/>
          <p:cNvPicPr/>
          <p:nvPr/>
        </p:nvPicPr>
        <p:blipFill>
          <a:blip r:embed="rId1"/>
          <a:stretch/>
        </p:blipFill>
        <p:spPr>
          <a:xfrm>
            <a:off x="3132000" y="3363840"/>
            <a:ext cx="2967120" cy="2225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6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56256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85e9"/>
                </a:solidFill>
                <a:latin typeface="Verdana"/>
              </a:rPr>
              <a:t>Каждое утро начинается с зарядки.</a:t>
            </a:r>
            <a:br>
              <a:rPr sz="3200"/>
            </a:br>
            <a:r>
              <a:rPr b="1" lang="ru-RU" sz="32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Наш класс занял первое место в смотре песни и строя!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"/>
          <p:cNvPicPr/>
          <p:nvPr/>
        </p:nvPicPr>
        <p:blipFill>
          <a:blip r:embed="rId2"/>
          <a:stretch/>
        </p:blipFill>
        <p:spPr>
          <a:xfrm>
            <a:off x="468360" y="1133640"/>
            <a:ext cx="3598920" cy="27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560" y="764640"/>
            <a:ext cx="8183880" cy="418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183520" cy="10526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85e9"/>
                </a:solidFill>
                <a:latin typeface="Verdana"/>
              </a:rPr>
              <a:t>Здоровое питание – основа здоровья.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155" name="Объект 4" descr=""/>
          <p:cNvPicPr/>
          <p:nvPr/>
        </p:nvPicPr>
        <p:blipFill>
          <a:blip r:embed="rId1"/>
          <a:stretch/>
        </p:blipFill>
        <p:spPr>
          <a:xfrm>
            <a:off x="5219640" y="1184400"/>
            <a:ext cx="3567240" cy="26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56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5" descr=""/>
          <p:cNvPicPr/>
          <p:nvPr/>
        </p:nvPicPr>
        <p:blipFill>
          <a:blip r:embed="rId2"/>
          <a:stretch/>
        </p:blipFill>
        <p:spPr>
          <a:xfrm>
            <a:off x="1184400" y="2421000"/>
            <a:ext cx="31716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Объект 4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359080" cy="3146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В нашем классе есть призёры районных и республиканских соревнований по лёгкой атлетике, гиревому спорту, борьбе.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5" descr=""/>
          <p:cNvPicPr/>
          <p:nvPr/>
        </p:nvPicPr>
        <p:blipFill>
          <a:blip r:embed="rId2"/>
          <a:stretch/>
        </p:blipFill>
        <p:spPr>
          <a:xfrm>
            <a:off x="1403280" y="1042920"/>
            <a:ext cx="3529080" cy="2646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85e9"/>
                </a:solidFill>
                <a:latin typeface="Verdana"/>
              </a:rPr>
              <a:t>Делу – время, а потехе – час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Наш класс занял 1 место  в конкурсе танцевальных коллективов «Зажигай!»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163" name="Объект 4" descr=""/>
          <p:cNvPicPr/>
          <p:nvPr/>
        </p:nvPicPr>
        <p:blipFill>
          <a:blip r:embed="rId1"/>
          <a:stretch/>
        </p:blipFill>
        <p:spPr>
          <a:xfrm>
            <a:off x="1476360" y="1200240"/>
            <a:ext cx="3533760" cy="2651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64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"/>
          <p:cNvPicPr/>
          <p:nvPr/>
        </p:nvPicPr>
        <p:blipFill>
          <a:blip r:embed="rId2"/>
          <a:stretch/>
        </p:blipFill>
        <p:spPr>
          <a:xfrm>
            <a:off x="5219640" y="1179360"/>
            <a:ext cx="356400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Объект 4" descr=""/>
          <p:cNvPicPr/>
          <p:nvPr/>
        </p:nvPicPr>
        <p:blipFill>
          <a:blip r:embed="rId1"/>
          <a:stretch/>
        </p:blipFill>
        <p:spPr>
          <a:xfrm>
            <a:off x="1835280" y="1611360"/>
            <a:ext cx="3063600" cy="2681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67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2"/>
          <a:stretch/>
        </p:blipFill>
        <p:spPr>
          <a:xfrm>
            <a:off x="5580000" y="2340000"/>
            <a:ext cx="3108240" cy="233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Найди своё дело – и будь самым лучшим!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Наш класс занял 1 место в конкурсе стенгазет по экологии!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5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3490920" cy="26175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solidFill>
            <a:srgbClr val="4fceff"/>
          </a:solidFill>
          <a:ln w="9360">
            <a:solidFill>
              <a:srgbClr val="21b2c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Учёба – наш главный труд!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У нас в классе одна отличница и 8 – ударников учёбы!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172" name="Объект 4" descr=""/>
          <p:cNvPicPr/>
          <p:nvPr/>
        </p:nvPicPr>
        <p:blipFill>
          <a:blip r:embed="rId2"/>
          <a:stretch/>
        </p:blipFill>
        <p:spPr>
          <a:xfrm>
            <a:off x="5292720" y="1389240"/>
            <a:ext cx="3351240" cy="251460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173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85e9"/>
                </a:solidFill>
                <a:latin typeface="Verdana"/>
              </a:rPr>
              <a:t>Наша школа сделала свой выбор</a:t>
            </a:r>
            <a:r>
              <a:rPr b="1" lang="en-US" sz="2800" spc="-1" strike="noStrike">
                <a:solidFill>
                  <a:srgbClr val="4885e9"/>
                </a:solidFill>
                <a:latin typeface="Verdana"/>
              </a:rPr>
              <a:t> -</a:t>
            </a:r>
            <a:r>
              <a:rPr b="1" lang="ru-RU" sz="28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ы за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доровый образ  жизни…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62120" y="685800"/>
            <a:ext cx="3581280" cy="39625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862520" y="831960"/>
            <a:ext cx="3457440" cy="366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аги твоего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050840" y="874800"/>
            <a:ext cx="291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898560" y="798480"/>
            <a:ext cx="30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902880" y="903240"/>
            <a:ext cx="32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ый об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8600" y="2017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За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914400" y="2133720"/>
            <a:ext cx="152280" cy="152280"/>
          </a:xfrm>
          <a:prstGeom prst="flowChartConnec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27160" y="23986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914400" y="2590920"/>
            <a:ext cx="152280" cy="152280"/>
          </a:xfrm>
          <a:prstGeom prst="flowChartConnec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089680" y="1865160"/>
            <a:ext cx="16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243040" y="19414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4952880" y="2057400"/>
            <a:ext cx="152640" cy="152280"/>
          </a:xfrm>
          <a:prstGeom prst="flowChartConnec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135440" y="3008160"/>
            <a:ext cx="17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ы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914400" y="3124080"/>
            <a:ext cx="152280" cy="152640"/>
          </a:xfrm>
          <a:prstGeom prst="flowChartConnec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241960" y="239868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241960" y="2322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ко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>
            <a:off x="4952880" y="2438280"/>
            <a:ext cx="152640" cy="152640"/>
          </a:xfrm>
          <a:prstGeom prst="flowChartConnec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5241960" y="2779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4952880" y="2895480"/>
            <a:ext cx="152640" cy="152640"/>
          </a:xfrm>
          <a:prstGeom prst="flowChartConnec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Управляющая кнопка: далее 21"/>
          <p:cNvSpPr/>
          <p:nvPr/>
        </p:nvSpPr>
        <p:spPr>
          <a:xfrm>
            <a:off x="7929720" y="5429160"/>
            <a:ext cx="785520" cy="357120"/>
          </a:xfrm>
          <a:custGeom>
            <a:avLst/>
            <a:gdLst>
              <a:gd name="textAreaLeft" fmla="*/ 23040 w 785520"/>
              <a:gd name="textAreaRight" fmla="*/ 762480 w 785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485" h="21600">
                <a:moveTo>
                  <a:pt x="0" y="0"/>
                </a:moveTo>
                <a:lnTo>
                  <a:pt x="47485" y="0"/>
                </a:lnTo>
                <a:lnTo>
                  <a:pt x="47485" y="21600"/>
                </a:lnTo>
                <a:lnTo>
                  <a:pt x="0" y="21600"/>
                </a:lnTo>
                <a:close/>
              </a:path>
              <a:path fill="lightenLess" w="47485" h="21600">
                <a:moveTo>
                  <a:pt x="0" y="0"/>
                </a:moveTo>
                <a:lnTo>
                  <a:pt x="47485" y="0"/>
                </a:lnTo>
                <a:lnTo>
                  <a:pt x="46085" y="1400"/>
                </a:lnTo>
                <a:lnTo>
                  <a:pt x="1400" y="1400"/>
                </a:lnTo>
                <a:close/>
              </a:path>
              <a:path fill="darken" w="47485" h="21600">
                <a:moveTo>
                  <a:pt x="47485" y="0"/>
                </a:moveTo>
                <a:lnTo>
                  <a:pt x="47485" y="21600"/>
                </a:lnTo>
                <a:lnTo>
                  <a:pt x="46085" y="20200"/>
                </a:lnTo>
                <a:lnTo>
                  <a:pt x="46085" y="1400"/>
                </a:lnTo>
                <a:close/>
              </a:path>
              <a:path fill="darkenLess" w="47485" h="21600">
                <a:moveTo>
                  <a:pt x="4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5" y="20200"/>
                </a:lnTo>
                <a:close/>
              </a:path>
              <a:path fill="lighten" w="4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85" h="21600">
                <a:moveTo>
                  <a:pt x="16736" y="3794"/>
                </a:moveTo>
                <a:lnTo>
                  <a:pt x="30749" y="10800"/>
                </a:lnTo>
                <a:lnTo>
                  <a:pt x="16736" y="17806"/>
                </a:lnTo>
                <a:close/>
              </a:path>
            </a:pathLst>
          </a:cu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правляющая кнопка: фильм 22"/>
          <p:cNvSpPr/>
          <p:nvPr/>
        </p:nvSpPr>
        <p:spPr>
          <a:xfrm>
            <a:off x="7858080" y="5429160"/>
            <a:ext cx="1000080" cy="500040"/>
          </a:xfrm>
          <a:custGeom>
            <a:avLst/>
            <a:gdLst>
              <a:gd name="textAreaLeft" fmla="*/ 32400 w 1000080"/>
              <a:gd name="textAreaRight" fmla="*/ 967680 w 10000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4" h="21600">
                <a:moveTo>
                  <a:pt x="14586" y="7301"/>
                </a:moveTo>
                <a:lnTo>
                  <a:pt x="15500" y="7301"/>
                </a:lnTo>
                <a:lnTo>
                  <a:pt x="15883" y="7667"/>
                </a:lnTo>
                <a:lnTo>
                  <a:pt x="25091" y="7667"/>
                </a:lnTo>
                <a:lnTo>
                  <a:pt x="25648" y="8224"/>
                </a:lnTo>
                <a:lnTo>
                  <a:pt x="25648" y="8772"/>
                </a:lnTo>
                <a:lnTo>
                  <a:pt x="27493" y="8772"/>
                </a:lnTo>
                <a:lnTo>
                  <a:pt x="27859" y="8224"/>
                </a:lnTo>
                <a:lnTo>
                  <a:pt x="28599" y="8224"/>
                </a:lnTo>
                <a:lnTo>
                  <a:pt x="28599" y="13376"/>
                </a:lnTo>
                <a:lnTo>
                  <a:pt x="27859" y="13376"/>
                </a:lnTo>
                <a:lnTo>
                  <a:pt x="27493" y="12828"/>
                </a:lnTo>
                <a:lnTo>
                  <a:pt x="25648" y="12828"/>
                </a:lnTo>
                <a:lnTo>
                  <a:pt x="25648" y="14107"/>
                </a:lnTo>
                <a:lnTo>
                  <a:pt x="16065" y="14107"/>
                </a:lnTo>
                <a:lnTo>
                  <a:pt x="16065" y="9877"/>
                </a:lnTo>
                <a:lnTo>
                  <a:pt x="15883" y="9877"/>
                </a:lnTo>
                <a:lnTo>
                  <a:pt x="15500" y="10243"/>
                </a:lnTo>
                <a:lnTo>
                  <a:pt x="14586" y="10243"/>
                </a:lnTo>
                <a:close/>
              </a:path>
            </a:pathLst>
          </a:cu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в конец 23">
            <a:hlinkClick r:id="" action="ppaction://hlinkshowjump?jump=lastslide"/>
          </p:cNvPr>
          <p:cNvSpPr/>
          <p:nvPr/>
        </p:nvSpPr>
        <p:spPr>
          <a:xfrm>
            <a:off x="285840" y="607212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43057" y="10800"/>
                </a:moveTo>
                <a:lnTo>
                  <a:pt x="32551" y="17806"/>
                </a:lnTo>
                <a:lnTo>
                  <a:pt x="32551" y="3794"/>
                </a:lnTo>
                <a:close/>
              </a:path>
              <a:path fill="darken" w="79115" h="21600">
                <a:moveTo>
                  <a:pt x="44902" y="3794"/>
                </a:moveTo>
                <a:lnTo>
                  <a:pt x="44902" y="17806"/>
                </a:lnTo>
                <a:lnTo>
                  <a:pt x="46564" y="17806"/>
                </a:lnTo>
                <a:lnTo>
                  <a:pt x="46564" y="3794"/>
                </a:lnTo>
                <a:close/>
              </a:path>
            </a:pathLst>
          </a:cu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5" descr="C:\Documents and Settings\Admin\Рабочий стол\schema3.jpg"/>
          <p:cNvPicPr/>
          <p:nvPr/>
        </p:nvPicPr>
        <p:blipFill>
          <a:blip r:embed="rId1"/>
          <a:stretch/>
        </p:blipFill>
        <p:spPr>
          <a:xfrm>
            <a:off x="2498760" y="1427040"/>
            <a:ext cx="2359080" cy="2217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C:\Documents and Settings\Admin\Рабочий стол\i.jpeg"/>
          <p:cNvPicPr/>
          <p:nvPr/>
        </p:nvPicPr>
        <p:blipFill>
          <a:blip r:embed="rId2"/>
          <a:stretch/>
        </p:blipFill>
        <p:spPr>
          <a:xfrm>
            <a:off x="6072120" y="2498760"/>
            <a:ext cx="2882880" cy="25002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6"/>
          <p:cNvSpPr/>
          <p:nvPr/>
        </p:nvSpPr>
        <p:spPr>
          <a:xfrm>
            <a:off x="5357880" y="6111720"/>
            <a:ext cx="29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27" descr="знак.png"/>
          <p:cNvPicPr/>
          <p:nvPr/>
        </p:nvPicPr>
        <p:blipFill>
          <a:blip r:embed="rId3"/>
          <a:stretch/>
        </p:blipFill>
        <p:spPr>
          <a:xfrm>
            <a:off x="5667480" y="5013360"/>
            <a:ext cx="347652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8:34:44Z</dcterms:created>
  <dc:creator/>
  <dc:description/>
  <dc:language>en-US</dc:language>
  <cp:lastModifiedBy/>
  <dcterms:modified xsi:type="dcterms:W3CDTF">2013-10-11T06:52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902499990</vt:lpwstr>
  </property>
</Properties>
</file>