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F40-8C6A-4D4C-96EE-0AC5CFAE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92A-4FE5-457B-B811-E8D3816A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D68-440B-4E33-B8D7-46B9AAF3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F5A-B654-4C04-9208-FABC6B04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B08AF-2F2B-49FE-8610-029AA67A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DB172-18DE-4C95-A4A5-1995DD76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673DE-B6BF-4A6B-86A8-80C4A63C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FAB48-B266-49B4-9763-A8EA322A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B680B-B3C6-4B8C-833A-17718AF1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FBB14-E3BA-4B82-8CB9-15D896D7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D4460-B012-4D61-9CB3-216CD4D9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857-0129-4691-BEBF-1256CD21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A6939-EABD-4901-8793-FB859694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8009D-C33F-4DFC-B614-3E25753F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5D547-F92E-4978-8AE6-F6F95F3D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36A34-C934-4716-A5C5-34215B1D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A24E0-3E64-4022-851C-6501F957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8DA21-251E-4F87-AA03-92E5364B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F6F24-B30B-4308-8086-563743C2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6EA2D-2249-4984-87CB-7768D154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8808F-3576-44C3-861C-6B36F99F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AA84C-109C-42C3-A11A-2AD949C4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5BE-6708-44BC-9A69-D9CAE29C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4E78-89E5-4F0A-B31D-E9973665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2086D-D239-4E6F-849F-F66FD490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9A9CE-90D4-4F1D-B4CB-42F58E28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8FCBA-666B-479A-8DA3-F277DDD6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48910-BA7A-4E76-A288-76BAC273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EEDE9-DBF4-4D3F-8934-8128C029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BB226-953D-4F62-A1EA-10EDA1F1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C2B79A-5BCC-40B4-AE9D-6DD7635E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72C983-3F66-4142-81C1-BD901A27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A1AE69-817F-4B0F-9973-923B2E07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AD2-E78F-4EF6-92C6-E6784D81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B02E14-1BCD-4EF6-82B8-326079F8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29EF4-1BCA-4ECD-94A4-BD5CC377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1418BB-3B42-4C78-9990-E172A911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689245-A0C8-4D60-B603-7437A73F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1AF225-53DB-4349-B4E0-8F0E221B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D915E9-207E-4EDB-A3C4-491FD43D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86ED8B-9E87-4B3F-AC97-F7EB7DF2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FD939-5E5D-4C0F-A296-CFE9BEEA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129800-5E97-4115-8BD1-59DAF02E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216-C0B3-4B14-A981-867B7351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D28-1A13-46FD-8D68-5F42153D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7D88-05D2-4B70-A6D8-48873F90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071-FBDE-47D4-83BB-D17A4F1E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08C-6B43-4199-83C9-01C9DE64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1975-BB67-4094-8D13-803371A4225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370F-B617-4894-AE5F-DDC020E03C0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B755-FCA8-488A-B32B-D8C526DA50A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8A42-EA05-4DAD-89AC-0E21A475F8F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rcRect l="0" t="0" r="0" b="17224"/>
          <a:stretch/>
        </p:blipFill>
        <p:spPr>
          <a:xfrm>
            <a:off x="1619280" y="1125360"/>
            <a:ext cx="5832360" cy="3456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3391560" y="5416560"/>
            <a:ext cx="21769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Constantia"/>
              </a:rPr>
              <a:t>семья Фаевых и Козловски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Users\user\Desktop\константиновка222\немецкое кладбище\..jpg"/>
          <p:cNvPicPr/>
          <p:nvPr/>
        </p:nvPicPr>
        <p:blipFill>
          <a:blip r:embed="rId1"/>
          <a:stretch/>
        </p:blipFill>
        <p:spPr>
          <a:xfrm>
            <a:off x="1763640" y="1197000"/>
            <a:ext cx="5724720" cy="4103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3798720" y="5432400"/>
            <a:ext cx="14576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Constantia"/>
              </a:rPr>
              <a:t>Старое кладбище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1912320" y="4869000"/>
            <a:ext cx="18205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Фотоархив Ильиной О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653080" cy="39607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1691280" y="4829040"/>
            <a:ext cx="1908720" cy="25920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Фотоархив Борисенко В</a:t>
            </a: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2591280" y="5300640"/>
            <a:ext cx="3932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onstantia"/>
              </a:rPr>
              <a:t>Шрайбер Роберт Егорович, Эльвира Генрих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3246480" y="1160640"/>
            <a:ext cx="2808360" cy="40906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3"/>
          <p:cNvSpPr/>
          <p:nvPr/>
        </p:nvSpPr>
        <p:spPr>
          <a:xfrm>
            <a:off x="3248280" y="5300640"/>
            <a:ext cx="25700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Constantia"/>
              </a:rPr>
              <a:t>Эгоф Г. 1917-1999,Эгоф А.1919-199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3204360" y="4951440"/>
            <a:ext cx="19087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Фотоархив Борисенко В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403280" y="2204640"/>
            <a:ext cx="6400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3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Constantia"/>
              </a:rPr>
              <a:t>Самарской области (1858-1941) - Самара: ООО Издательство «Книга», ГУ СО «Дом дружбы народов», 2009. - 152 с.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3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Constantia"/>
              </a:rPr>
              <a:t>http://www.ulpressa.ru/news/2009/09/10/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3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Constantia"/>
              </a:rPr>
              <a:t>http://www.catholicsamara.narod.ru/hram.html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3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Constantia"/>
              </a:rPr>
              <a:t>http://www.gorodok.samaratday.ru/showNews.php?idnews=959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3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Constantia"/>
              </a:rPr>
              <a:t>Архивные материалы и фотографии краеведческой комнаты с.Логиновка.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3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0" lang="ru-RU" sz="1100" spc="-1" strike="noStrike">
                <a:solidFill>
                  <a:srgbClr val="404040"/>
                </a:solidFill>
                <a:latin typeface="Constantia"/>
              </a:rPr>
              <a:t>Новоузенский уезд в естественно – историческом и хозяйственном отношении. Изд. Новоузенск Типография Общества Трудовой Помощи 1912г.(электронная книга)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3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Constantia"/>
              </a:rPr>
              <a:t>http://www.центр «Возвращённые имена», Нижний Тагил.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3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Constantia"/>
              </a:rPr>
              <a:t>http://www.Красноярское общество «Мемориал».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3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Constantia"/>
              </a:rPr>
              <a:t>Указы Президиума Верховного совета СССР от28 августа 1941г., 7 сентября 1941г., 13 декабря 1955г.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3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420840" y="146160"/>
            <a:ext cx="82724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09:58:36Z</dcterms:created>
  <dc:creator>user</dc:creator>
  <dc:description/>
  <dc:language>en-US</dc:language>
  <cp:lastModifiedBy>user</cp:lastModifiedBy>
  <dcterms:modified xsi:type="dcterms:W3CDTF">2013-10-11T10:04:15Z</dcterms:modified>
  <cp:revision>2</cp:revision>
  <dc:subject/>
  <dc:title>Слайд 1</dc:title>
</cp:coreProperties>
</file>