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2.wmf" ContentType="image/x-wmf"/>
  <Override PartName="/ppt/media/image7.wmf" ContentType="image/x-wmf"/>
  <Override PartName="/ppt/media/image11.gif" ContentType="image/gif"/>
  <Override PartName="/ppt/media/image18.png" ContentType="image/png"/>
  <Override PartName="/ppt/media/image15.wmf" ContentType="image/x-wmf"/>
  <Override PartName="/ppt/media/image14.wmf" ContentType="image/x-wmf"/>
  <Override PartName="/ppt/media/image17.wmf" ContentType="image/x-wmf"/>
  <Override PartName="/ppt/media/image6.gif" ContentType="image/gif"/>
  <Override PartName="/ppt/media/image1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16.wmf" ContentType="image/x-wmf"/>
  <Override PartName="/ppt/media/image5.gif" ContentType="image/gi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9C35-A9D2-4AE6-8C5F-8188AF8880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8F8F-9556-4770-8811-D69A77FBC9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A2F9-6A7B-4405-B19F-177213819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4B3D-F86F-4DFB-955E-CAEF62F4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7DA6-EDED-428A-9981-073AF21B2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201B-3A4A-40F0-93B1-092D6116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645C-F062-4624-B71A-ED61FB2F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A36E-7EBC-40ED-9D3A-E45306FB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AF85-54CE-45D2-8732-4CBFC7D6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90C1-A169-4CA3-8173-6C618AF9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A3CD-E6EA-4CD1-AD7F-B74AEE72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56A2-4B0C-42D8-9CDF-D014B8E7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3102-0173-48F6-AA6F-7AE6A0D0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793F-681B-40D4-9675-9601629F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EFBE-93BC-4FD9-8B36-1C599EE813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antasyflash.ru/anime/index.php?kont=cat&amp;n=1" TargetMode="External"/><Relationship Id="rId2" Type="http://schemas.openxmlformats.org/officeDocument/2006/relationships/hyperlink" Target="http://fantasyflash.ru/anime/index.php?kont=dog&amp;n=1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1" descr=""/>
          <p:cNvPicPr/>
          <p:nvPr/>
        </p:nvPicPr>
        <p:blipFill>
          <a:blip r:embed="rId1"/>
          <a:stretch/>
        </p:blipFill>
        <p:spPr>
          <a:xfrm>
            <a:off x="444600" y="853920"/>
            <a:ext cx="9034200" cy="2882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Documents and Settings\Admin\Local Settings\Temporary Internet Files\Content.IE5\F2OPGBH2\MCj04398190000[1].png"/>
          <p:cNvPicPr/>
          <p:nvPr/>
        </p:nvPicPr>
        <p:blipFill>
          <a:blip r:embed="rId2"/>
          <a:stretch/>
        </p:blipFill>
        <p:spPr>
          <a:xfrm>
            <a:off x="2714760" y="3786120"/>
            <a:ext cx="3786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7"/>
          <p:cNvSpPr/>
          <p:nvPr/>
        </p:nvSpPr>
        <p:spPr>
          <a:xfrm>
            <a:off x="2794320" y="3643200"/>
            <a:ext cx="255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betwee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5"/>
          <p:cNvSpPr/>
          <p:nvPr/>
        </p:nvSpPr>
        <p:spPr>
          <a:xfrm>
            <a:off x="528480" y="5857920"/>
            <a:ext cx="825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..………....…..the lamp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C:\Documents and Settings\Admin\Local Settings\Temporary Internet Files\Content.IE5\F2OPGBH2\MCj03355510000[1].wmf"/>
          <p:cNvPicPr/>
          <p:nvPr/>
        </p:nvPicPr>
        <p:blipFill>
          <a:blip r:embed="rId1"/>
          <a:stretch/>
        </p:blipFill>
        <p:spPr>
          <a:xfrm>
            <a:off x="714240" y="285840"/>
            <a:ext cx="2408400" cy="5019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C:\Documents and Settings\Admin\Local Settings\Temporary Internet Files\Content.IE5\M4K8R7JP\MCj02962030000[1].wmf"/>
          <p:cNvPicPr/>
          <p:nvPr/>
        </p:nvPicPr>
        <p:blipFill>
          <a:blip r:embed="rId2"/>
          <a:stretch/>
        </p:blipFill>
        <p:spPr>
          <a:xfrm>
            <a:off x="6072120" y="500040"/>
            <a:ext cx="2830680" cy="5302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C:\Documents and Settings\Admin\Рабочий стол\cat88.gif"/>
          <p:cNvPicPr/>
          <p:nvPr/>
        </p:nvPicPr>
        <p:blipFill>
          <a:blip r:embed="rId3"/>
          <a:stretch/>
        </p:blipFill>
        <p:spPr>
          <a:xfrm>
            <a:off x="2000160" y="2143080"/>
            <a:ext cx="485784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86 0.06614 L 0.03976 0.31799 E">
                                      <p:cBhvr>
                                        <p:cTn id="48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4"/>
          <p:cNvSpPr/>
          <p:nvPr/>
        </p:nvSpPr>
        <p:spPr>
          <a:xfrm>
            <a:off x="4075560" y="2857680"/>
            <a:ext cx="65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446760" y="5786280"/>
            <a:ext cx="691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.…....…..the </a:t>
            </a:r>
            <a:r>
              <a:rPr b="1" lang="en-US" sz="4800" spc="-1" strike="noStrike">
                <a:solidFill>
                  <a:srgbClr val="0d0d0d"/>
                </a:solidFill>
                <a:latin typeface="Calibri"/>
              </a:rPr>
              <a:t>box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C:\Documents and Settings\Admin\Local Settings\Temporary Internet Files\Content.IE5\M4K8R7JP\MCj02321270000[1].wmf"/>
          <p:cNvPicPr/>
          <p:nvPr/>
        </p:nvPicPr>
        <p:blipFill>
          <a:blip r:embed="rId1"/>
          <a:stretch/>
        </p:blipFill>
        <p:spPr>
          <a:xfrm>
            <a:off x="2071800" y="1285920"/>
            <a:ext cx="5500440" cy="3757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3071880" y="214200"/>
            <a:ext cx="335736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6476 L -0.01302 0.40056 E">
                                      <p:cBhvr>
                                        <p:cTn id="54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Documents and Settings\Admin\Local Settings\Temporary Internet Files\Content.IE5\GEDWP2E8\MCj04323230000[1]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6"/>
          <p:cNvSpPr/>
          <p:nvPr/>
        </p:nvSpPr>
        <p:spPr>
          <a:xfrm>
            <a:off x="0" y="5929200"/>
            <a:ext cx="907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cat is.…....……………………the stree</a:t>
            </a:r>
            <a:r>
              <a:rPr b="1" lang="en-US" sz="4400" spc="-1" strike="noStrike">
                <a:solidFill>
                  <a:srgbClr val="0d0d0d"/>
                </a:solidFill>
                <a:latin typeface="Calibri"/>
              </a:rPr>
              <a:t>t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8"/>
          <p:cNvSpPr/>
          <p:nvPr/>
        </p:nvSpPr>
        <p:spPr>
          <a:xfrm>
            <a:off x="2660400" y="4286160"/>
            <a:ext cx="386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in the middle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C:\Documents and Settings\Admin\Рабочий стол\cat88.gif"/>
          <p:cNvPicPr/>
          <p:nvPr/>
        </p:nvPicPr>
        <p:blipFill>
          <a:blip r:embed="rId2"/>
          <a:stretch/>
        </p:blipFill>
        <p:spPr>
          <a:xfrm>
            <a:off x="2071800" y="2928960"/>
            <a:ext cx="485748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0.02868 L -0.00208 0.23867 E">
                                      <p:cBhvr>
                                        <p:cTn id="60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Your Mark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0(9)/10=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8(7)/10=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6(5)/10=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4-1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ry again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5"/>
          <p:cNvSpPr/>
          <p:nvPr/>
        </p:nvSpPr>
        <p:spPr>
          <a:xfrm>
            <a:off x="4024440" y="300600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7667640" y="6453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dwardian Script ITC"/>
              </a:rPr>
              <a:t>K.L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1428840" y="3000240"/>
            <a:ext cx="7215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презентации использова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fantasyflash.ru/anime/index.php?kont=cat&amp;n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fantasyflash.ru/anime/index.php?kont=dog&amp;n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office.microsoft.com/ru-ru/clipart/results.aspx?CategoryID=CM7900195910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6"/>
          <p:cNvSpPr/>
          <p:nvPr/>
        </p:nvSpPr>
        <p:spPr>
          <a:xfrm>
            <a:off x="2000160" y="43578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office.microsoft.com/ru-ru/clipart/default.aspx?Origin=EC790014051049&amp;CTT=6&amp;ver=12&amp;app=powerpnt.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1500120" y="442908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C:\Documents and Settings\Admin\Рабочий стол\animated_thanks_44_thumb.gif"/>
          <p:cNvPicPr/>
          <p:nvPr/>
        </p:nvPicPr>
        <p:blipFill>
          <a:blip r:embed="rId1"/>
          <a:stretch/>
        </p:blipFill>
        <p:spPr>
          <a:xfrm>
            <a:off x="1785960" y="500040"/>
            <a:ext cx="56437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Прямоугольник 3" descr=""/>
          <p:cNvPicPr/>
          <p:nvPr/>
        </p:nvPicPr>
        <p:blipFill>
          <a:blip r:embed="rId1"/>
          <a:stretch/>
        </p:blipFill>
        <p:spPr>
          <a:xfrm>
            <a:off x="1006560" y="19080"/>
            <a:ext cx="6662520" cy="1249200"/>
          </a:xfrm>
          <a:prstGeom prst="rect">
            <a:avLst/>
          </a:prstGeom>
          <a:ln w="0">
            <a:noFill/>
          </a:ln>
        </p:spPr>
      </p:pic>
      <p:sp>
        <p:nvSpPr>
          <p:cNvPr id="51" name="Волна 15"/>
          <p:cNvSpPr/>
          <p:nvPr/>
        </p:nvSpPr>
        <p:spPr>
          <a:xfrm>
            <a:off x="3714840" y="4429080"/>
            <a:ext cx="1785960" cy="928800"/>
          </a:xfrm>
          <a:custGeom>
            <a:avLst/>
            <a:gdLst>
              <a:gd name="textAreaLeft" fmla="*/ 0 w 1785960"/>
              <a:gd name="textAreaRight" fmla="*/ 1786320 w 1785960"/>
              <a:gd name="textAreaTop" fmla="*/ 232200 h 928800"/>
              <a:gd name="textAreaBottom" fmla="*/ 6966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2f2f2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Волна 16"/>
          <p:cNvSpPr/>
          <p:nvPr/>
        </p:nvSpPr>
        <p:spPr>
          <a:xfrm>
            <a:off x="1143000" y="1571760"/>
            <a:ext cx="2428920" cy="1000080"/>
          </a:xfrm>
          <a:custGeom>
            <a:avLst/>
            <a:gdLst>
              <a:gd name="textAreaLeft" fmla="*/ 0 w 2428920"/>
              <a:gd name="textAreaRight" fmla="*/ 2429280 w 2428920"/>
              <a:gd name="textAreaTop" fmla="*/ 249840 h 1000080"/>
              <a:gd name="textAreaBottom" fmla="*/ 7502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 front 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Волна 13"/>
          <p:cNvSpPr/>
          <p:nvPr/>
        </p:nvSpPr>
        <p:spPr>
          <a:xfrm>
            <a:off x="1285920" y="2714760"/>
            <a:ext cx="2500200" cy="1000080"/>
          </a:xfrm>
          <a:custGeom>
            <a:avLst/>
            <a:gdLst>
              <a:gd name="textAreaLeft" fmla="*/ 0 w 2500200"/>
              <a:gd name="textAreaRight" fmla="*/ 2500560 w 2500200"/>
              <a:gd name="textAreaTop" fmla="*/ 249840 h 1000080"/>
              <a:gd name="textAreaBottom" fmla="*/ 7502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Волна 14"/>
          <p:cNvSpPr/>
          <p:nvPr/>
        </p:nvSpPr>
        <p:spPr>
          <a:xfrm>
            <a:off x="5214960" y="2857680"/>
            <a:ext cx="3000240" cy="857160"/>
          </a:xfrm>
          <a:custGeom>
            <a:avLst/>
            <a:gdLst>
              <a:gd name="textAreaLeft" fmla="*/ 0 w 3000240"/>
              <a:gd name="textAreaRight" fmla="*/ 3000600 w 300024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Волна 18"/>
          <p:cNvSpPr/>
          <p:nvPr/>
        </p:nvSpPr>
        <p:spPr>
          <a:xfrm>
            <a:off x="714240" y="4286160"/>
            <a:ext cx="1928880" cy="1143000"/>
          </a:xfrm>
          <a:custGeom>
            <a:avLst/>
            <a:gdLst>
              <a:gd name="textAreaLeft" fmla="*/ 0 w 1928880"/>
              <a:gd name="textAreaRight" fmla="*/ 1929240 w 19288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Волна 19"/>
          <p:cNvSpPr/>
          <p:nvPr/>
        </p:nvSpPr>
        <p:spPr>
          <a:xfrm>
            <a:off x="6286680" y="4071960"/>
            <a:ext cx="2143080" cy="1214280"/>
          </a:xfrm>
          <a:custGeom>
            <a:avLst/>
            <a:gdLst>
              <a:gd name="textAreaLeft" fmla="*/ 0 w 2143080"/>
              <a:gd name="textAreaRight" fmla="*/ 2143440 w 214308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Волна 20"/>
          <p:cNvSpPr/>
          <p:nvPr/>
        </p:nvSpPr>
        <p:spPr>
          <a:xfrm>
            <a:off x="571680" y="5572080"/>
            <a:ext cx="2786040" cy="1071720"/>
          </a:xfrm>
          <a:custGeom>
            <a:avLst/>
            <a:gdLst>
              <a:gd name="textAreaLeft" fmla="*/ 0 w 2786040"/>
              <a:gd name="textAreaRight" fmla="*/ 2786400 w 2786040"/>
              <a:gd name="textAreaTop" fmla="*/ 267840 h 1071720"/>
              <a:gd name="textAreaBottom" fmla="*/ 8038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Волна 21"/>
          <p:cNvSpPr/>
          <p:nvPr/>
        </p:nvSpPr>
        <p:spPr>
          <a:xfrm>
            <a:off x="5857920" y="5500800"/>
            <a:ext cx="2428920" cy="1214280"/>
          </a:xfrm>
          <a:custGeom>
            <a:avLst/>
            <a:gdLst>
              <a:gd name="textAreaLeft" fmla="*/ 0 w 2428920"/>
              <a:gd name="textAreaRight" fmla="*/ 2429280 w 242892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3"/>
          <p:cNvSpPr/>
          <p:nvPr/>
        </p:nvSpPr>
        <p:spPr>
          <a:xfrm>
            <a:off x="500040" y="5786280"/>
            <a:ext cx="28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n the righ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4"/>
          <p:cNvSpPr/>
          <p:nvPr/>
        </p:nvSpPr>
        <p:spPr>
          <a:xfrm>
            <a:off x="5786280" y="571500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n the lef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Волна 26"/>
          <p:cNvSpPr/>
          <p:nvPr/>
        </p:nvSpPr>
        <p:spPr>
          <a:xfrm>
            <a:off x="5143680" y="1500120"/>
            <a:ext cx="3000240" cy="1214640"/>
          </a:xfrm>
          <a:custGeom>
            <a:avLst/>
            <a:gdLst>
              <a:gd name="textAreaLeft" fmla="*/ 0 w 3000240"/>
              <a:gd name="textAreaRight" fmla="*/ 3000600 w 3000240"/>
              <a:gd name="textAreaTop" fmla="*/ 303480 h 1214640"/>
              <a:gd name="textAreaBottom" fmla="*/ 9111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7"/>
          <p:cNvSpPr/>
          <p:nvPr/>
        </p:nvSpPr>
        <p:spPr>
          <a:xfrm>
            <a:off x="5143680" y="1714680"/>
            <a:ext cx="43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the middl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Волна 28"/>
          <p:cNvSpPr/>
          <p:nvPr/>
        </p:nvSpPr>
        <p:spPr>
          <a:xfrm>
            <a:off x="4000680" y="5786280"/>
            <a:ext cx="1428480" cy="928800"/>
          </a:xfrm>
          <a:custGeom>
            <a:avLst/>
            <a:gdLst>
              <a:gd name="textAreaLeft" fmla="*/ 0 w 1428480"/>
              <a:gd name="textAreaRight" fmla="*/ 1428840 w 1428480"/>
              <a:gd name="textAreaTop" fmla="*/ 232200 h 928800"/>
              <a:gd name="textAreaBottom" fmla="*/ 6966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9"/>
          <p:cNvSpPr/>
          <p:nvPr/>
        </p:nvSpPr>
        <p:spPr>
          <a:xfrm>
            <a:off x="4214880" y="5786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9"/>
          <p:cNvSpPr/>
          <p:nvPr/>
        </p:nvSpPr>
        <p:spPr>
          <a:xfrm>
            <a:off x="1643040" y="5643720"/>
            <a:ext cx="607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…….the sof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3786120" y="4071960"/>
            <a:ext cx="10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C:\Documents and Settings\Admin\Local Settings\Temporary Internet Files\Content.IE5\M4K8R7JP\MCj04304260000[1].wmf"/>
          <p:cNvPicPr/>
          <p:nvPr/>
        </p:nvPicPr>
        <p:blipFill>
          <a:blip r:embed="rId1"/>
          <a:stretch/>
        </p:blipFill>
        <p:spPr>
          <a:xfrm>
            <a:off x="1285920" y="500040"/>
            <a:ext cx="6858000" cy="4800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C:\Documents and Settings\Admin\Рабочий стол\cat88.gif"/>
          <p:cNvPicPr/>
          <p:nvPr/>
        </p:nvPicPr>
        <p:blipFill>
          <a:blip r:embed="rId2"/>
          <a:stretch/>
        </p:blipFill>
        <p:spPr>
          <a:xfrm>
            <a:off x="2428920" y="1785960"/>
            <a:ext cx="428616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62535E-007 L 0.03524 0.2167 E">
                                      <p:cBhvr>
                                        <p:cTn id="6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5"/>
          <p:cNvSpPr/>
          <p:nvPr/>
        </p:nvSpPr>
        <p:spPr>
          <a:xfrm>
            <a:off x="0" y="5857920"/>
            <a:ext cx="950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………....…………. the cha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2571840" y="3071880"/>
            <a:ext cx="550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on the left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C:\Documents and Settings\Admin\Рабочий стол\cat198.gif"/>
          <p:cNvPicPr/>
          <p:nvPr/>
        </p:nvPicPr>
        <p:blipFill>
          <a:blip r:embed="rId1"/>
          <a:stretch/>
        </p:blipFill>
        <p:spPr>
          <a:xfrm>
            <a:off x="2143080" y="1571760"/>
            <a:ext cx="2811600" cy="3697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:\Documents and Settings\Admin\Local Settings\Temporary Internet Files\Content.IE5\GEDWP2E8\MCj04304240000[1].wmf"/>
          <p:cNvPicPr/>
          <p:nvPr/>
        </p:nvPicPr>
        <p:blipFill>
          <a:blip r:embed="rId2"/>
          <a:stretch/>
        </p:blipFill>
        <p:spPr>
          <a:xfrm>
            <a:off x="4071960" y="1143000"/>
            <a:ext cx="364320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49584E-006 L 0.01562 0.40912 E">
                                      <p:cBhvr>
                                        <p:cTn id="12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3"/>
          <p:cNvSpPr/>
          <p:nvPr/>
        </p:nvSpPr>
        <p:spPr>
          <a:xfrm>
            <a:off x="2714760" y="3000240"/>
            <a:ext cx="44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on the right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600480" y="5288040"/>
            <a:ext cx="670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………....…………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upboa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C:\Documents and Settings\Admin\Рабочий стол\cat198.gif"/>
          <p:cNvPicPr/>
          <p:nvPr/>
        </p:nvPicPr>
        <p:blipFill>
          <a:blip r:embed="rId1"/>
          <a:stretch/>
        </p:blipFill>
        <p:spPr>
          <a:xfrm>
            <a:off x="5500800" y="1571760"/>
            <a:ext cx="3052800" cy="3789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C:\Documents and Settings\Admin\Local Settings\Temporary Internet Files\Content.IE5\GEDWP2E8\MCj02151580000[1].wmf"/>
          <p:cNvPicPr/>
          <p:nvPr/>
        </p:nvPicPr>
        <p:blipFill>
          <a:blip r:embed="rId2"/>
          <a:stretch/>
        </p:blipFill>
        <p:spPr>
          <a:xfrm>
            <a:off x="1928880" y="500040"/>
            <a:ext cx="4357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02 0.00255 L 0.05833 0.31985 E">
                                      <p:cBhvr>
                                        <p:cTn id="18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4"/>
          <p:cNvSpPr/>
          <p:nvPr/>
        </p:nvSpPr>
        <p:spPr>
          <a:xfrm>
            <a:off x="3286080" y="3214800"/>
            <a:ext cx="257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un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C:\Documents and Settings\Admin\Local Settings\Temporary Internet Files\Content.IE5\3LK7GO01\MPj04244120000[1]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0"/>
          <p:cNvSpPr/>
          <p:nvPr/>
        </p:nvSpPr>
        <p:spPr>
          <a:xfrm>
            <a:off x="0" y="5786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…....………….. the tab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3"/>
          <p:cNvSpPr/>
          <p:nvPr/>
        </p:nvSpPr>
        <p:spPr>
          <a:xfrm>
            <a:off x="3643200" y="4143240"/>
            <a:ext cx="271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un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3286080" y="3000240"/>
            <a:ext cx="292896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98705E-006 L -0.02968 0.22409 E">
                                      <p:cBhvr>
                                        <p:cTn id="24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6"/>
          <p:cNvSpPr/>
          <p:nvPr/>
        </p:nvSpPr>
        <p:spPr>
          <a:xfrm>
            <a:off x="1030680" y="6027840"/>
            <a:ext cx="702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………....… the b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4000680" y="3500280"/>
            <a:ext cx="257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bo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C:\Documents and Settings\Admin\Local Settings\Temporary Internet Files\Content.IE5\3LK7GO01\MCj03978850000[1].wmf"/>
          <p:cNvPicPr/>
          <p:nvPr/>
        </p:nvPicPr>
        <p:blipFill>
          <a:blip r:embed="rId1"/>
          <a:stretch/>
        </p:blipFill>
        <p:spPr>
          <a:xfrm>
            <a:off x="1320840" y="2428920"/>
            <a:ext cx="682308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C:\Documents and Settings\Admin\Рабочий стол\cat50.gif"/>
          <p:cNvPicPr/>
          <p:nvPr/>
        </p:nvPicPr>
        <p:blipFill>
          <a:blip r:embed="rId2"/>
          <a:stretch/>
        </p:blipFill>
        <p:spPr>
          <a:xfrm>
            <a:off x="3571920" y="0"/>
            <a:ext cx="250020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29 0.03422 L -0.03872 0.34898 E">
                                      <p:cBhvr>
                                        <p:cTn id="30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" descr="C:\Documents and Settings\Admin\Рабочий стол\cat198.gif"/>
          <p:cNvPicPr/>
          <p:nvPr/>
        </p:nvPicPr>
        <p:blipFill>
          <a:blip r:embed="rId1"/>
          <a:stretch/>
        </p:blipFill>
        <p:spPr>
          <a:xfrm>
            <a:off x="2857680" y="0"/>
            <a:ext cx="3922560" cy="515772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3643200" y="421488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behi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4"/>
          <p:cNvSpPr/>
          <p:nvPr/>
        </p:nvSpPr>
        <p:spPr>
          <a:xfrm>
            <a:off x="1173600" y="5857920"/>
            <a:ext cx="698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………....… 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Program Files\Microsoft Office\MEDIA\CAGCAT10\j0299763.wmf"/>
          <p:cNvPicPr/>
          <p:nvPr/>
        </p:nvPicPr>
        <p:blipFill>
          <a:blip r:embed="rId2"/>
          <a:stretch/>
        </p:blipFill>
        <p:spPr>
          <a:xfrm>
            <a:off x="2428920" y="2143080"/>
            <a:ext cx="457200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11 0.05643 L 0.01892 0.23474 E">
                                      <p:cBhvr>
                                        <p:cTn id="36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4"/>
          <p:cNvSpPr/>
          <p:nvPr/>
        </p:nvSpPr>
        <p:spPr>
          <a:xfrm>
            <a:off x="3929040" y="3143160"/>
            <a:ext cx="385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in front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-571680" y="5857920"/>
            <a:ext cx="1028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..………....….…the televi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C:\Documents and Settings\Admin\Local Settings\Temporary Internet Files\Content.IE5\M4K8R7JP\MCj00791820000[1].wmf"/>
          <p:cNvPicPr/>
          <p:nvPr/>
        </p:nvPicPr>
        <p:blipFill>
          <a:blip r:embed="rId1"/>
          <a:stretch/>
        </p:blipFill>
        <p:spPr>
          <a:xfrm>
            <a:off x="2000160" y="214200"/>
            <a:ext cx="5786640" cy="4735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3786120" y="3143160"/>
            <a:ext cx="20289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685 -0.02914 L -0.14844 0.36957 E">
                                      <p:cBhvr>
                                        <p:cTn id="42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иктор</cp:lastModifiedBy>
  <dcterms:modified xsi:type="dcterms:W3CDTF">2012-10-21T16:23:16Z</dcterms:modified>
  <cp:revision>44</cp:revision>
  <dc:subject/>
  <dc:title>Слайд 1</dc:title>
</cp:coreProperties>
</file>