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11C-920A-4477-B053-45590634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FAA-3CB1-48AC-B7AB-35B2E1C9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8C1-B343-4170-B9DC-3F48B865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66C-4588-43DA-BFB2-97EFE8A1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2365-A40F-4C1E-9374-21DC374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9BBE-A97A-4E91-8B04-3C974A3B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F706-3579-42D8-AE3B-4F12FB0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1503-0BBB-4088-A35F-D0DD43EC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A58B-29ED-46EC-9E25-23A3D985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03A2-BCA4-49F2-A485-A199298C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5F7-9AFB-4DAE-9C6D-DB441F2A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3B4-D91B-494F-A9A7-847D7EBE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59A6-6C1E-4BF4-BE5A-5C794A1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37BE-5E8E-4953-9868-11CB961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4C5-0F4C-40AE-A770-8231BC4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C8B-F2BC-4E1B-963A-D4F4BD91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C784-A5E6-4446-8BF3-6BE3F79F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769-8A2A-43FB-B855-0F4FD6E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ADC-1E1B-4911-B5B2-89DA9926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102-9A88-494E-A988-9BC14D5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9D1-73D8-4B89-9999-F73A632D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360-A1A1-4C6E-9942-E7217DA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9FA-C79B-4EF2-B021-BF5765A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6C5-5006-4CEE-93E8-EC990FA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0FB-CC14-4AE0-8365-696E32861D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D2C-A780-4648-A0F4-6B6D0B5A4A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136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Повторение и обобщение по теме «Законы сохранения импульса и энерги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обобщить знания по теме «Законы сохранения импульса и энергии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выявить в чем смысл и ценность законов сохран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выяснить, где на практике применяются законы сохранения импульса и энер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рассмотреть проявления законов сохранения импульса и энергии в окружающей среде с учетом деятельност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общающая табл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84280"/>
          <a:ext cx="8229600" cy="486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Зако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сохране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Математическая запись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Условия вы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Известны ли случаи наруше-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акти-ческое примене-ние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оявле-ние закона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окружающей сре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импуль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механи-ческо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энерг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0013-013-Reaktivnoe-dvizheni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Законы сохранения действуют и тогда, когда законы Ньютона теряют смыс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Законы сохранения применимы ко всем явлениям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В законах сохранения импульса и энергии отражено одно из свойств окружающего нас мира – сохранение движения мате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Итоги главы 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V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VI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5:37:34Z</dcterms:created>
  <dc:creator>Marina</dc:creator>
  <dc:description/>
  <dc:language>en-US</dc:language>
  <cp:lastModifiedBy>XTreme</cp:lastModifiedBy>
  <dcterms:modified xsi:type="dcterms:W3CDTF">2013-10-12T10:54:16Z</dcterms:modified>
  <cp:revision>4</cp:revision>
  <dc:subject/>
  <dc:title>Тема урока:</dc:title>
</cp:coreProperties>
</file>