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73.png" ContentType="image/pn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0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7.jpeg" ContentType="image/jpeg"/>
  <Override PartName="/ppt/media/image51.jpeg" ContentType="image/jpeg"/>
  <Override PartName="/ppt/media/image28.jpeg" ContentType="image/jpeg"/>
  <Override PartName="/ppt/media/image87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77.png" ContentType="image/png"/>
  <Override PartName="/ppt/media/image4.jpeg" ContentType="image/jpeg"/>
  <Override PartName="/ppt/media/image16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29.jpeg" ContentType="image/jpeg"/>
  <Override PartName="/ppt/media/image88.jpeg" ContentType="image/jpeg"/>
  <Override PartName="/ppt/media/image63.jpeg" ContentType="image/jpeg"/>
  <Override PartName="/ppt/media/image97.png" ContentType="image/png"/>
  <Override PartName="/ppt/media/image90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24.png" ContentType="image/png"/>
  <Override PartName="/ppt/media/image68.jpeg" ContentType="image/jpeg"/>
  <Override PartName="/ppt/media/image93.jpeg" ContentType="image/jpeg"/>
  <Override PartName="/ppt/media/image66.jpeg" ContentType="image/jpeg"/>
  <Override PartName="/ppt/media/image76.png" ContentType="image/png"/>
  <Override PartName="/ppt/media/image95.jpeg" ContentType="image/jpeg"/>
  <Override PartName="/ppt/media/image80.jpeg" ContentType="image/jpeg"/>
  <Override PartName="/ppt/media/image21.jpeg" ContentType="image/jpeg"/>
  <Override PartName="/ppt/media/image6.jpeg" ContentType="image/jpeg"/>
  <Override PartName="/ppt/media/image71.png" ContentType="image/png"/>
  <Override PartName="/ppt/media/image91.jpeg" ContentType="image/jpeg"/>
  <Override PartName="/ppt/media/image94.jpeg" ContentType="image/jpeg"/>
  <Override PartName="/ppt/media/image69.jpeg" ContentType="image/jpeg"/>
  <Override PartName="/ppt/media/image83.jpeg" ContentType="image/jpeg"/>
  <Override PartName="/ppt/media/image96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70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22.jpeg" ContentType="image/jpeg"/>
  <Override PartName="/ppt/media/image81.jpeg" ContentType="image/jpeg"/>
  <Override PartName="/ppt/media/image75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12.png" ContentType="image/png"/>
  <Override PartName="/ppt/media/image2.jpeg" ContentType="image/jpeg"/>
  <Override PartName="/ppt/media/image10.png" ContentType="image/pn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1B7-D773-4686-910F-2874E61E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941-E14B-45C7-B107-07A206F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C64-1F0F-402C-904B-7AC9838E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E69-6F98-4B29-B352-54F698F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CC-1F1C-4824-8BC3-8B3E421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3CF-3120-403F-835E-DCDF4DD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D9C-E030-4A2F-8F62-33C9DA9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E18-D342-4BE2-9CDA-7ED2D6D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0B3-6A64-4789-B1B2-B6B9E73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710-A48D-4E85-907C-8A95DBB0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800-224E-43A9-961B-7143BE8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682-C6CB-40E7-A229-E62C9012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069-4002-4DB1-B0EE-C53985787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image" Target="../media/image9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f4cbf1cbb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0" y="1484280"/>
            <a:ext cx="6410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ий проект на тему: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тобы  крепким и здоровым быть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о спорт нам полюбить"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046520" y="18864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97 дошкольное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ского района 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630960" y="602100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 воспитатели ГБОУ школы №297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ева И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9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207240" y="18900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 rot="21094200">
            <a:off x="0" y="4292640"/>
            <a:ext cx="3139920" cy="2367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98" name="Picture 13" descr="DSCF1374"/>
          <p:cNvPicPr/>
          <p:nvPr/>
        </p:nvPicPr>
        <p:blipFill>
          <a:blip r:embed="rId3"/>
          <a:stretch/>
        </p:blipFill>
        <p:spPr>
          <a:xfrm rot="1664400">
            <a:off x="5952600" y="882360"/>
            <a:ext cx="3132360" cy="2338200"/>
          </a:xfrm>
          <a:prstGeom prst="rect">
            <a:avLst/>
          </a:prstGeom>
          <a:ln cap="rnd" w="63360">
            <a:solidFill>
              <a:srgbClr val="333399"/>
            </a:solidFill>
            <a:custDash>
              <a:ds d="100000" sp="1000"/>
            </a:custDash>
            <a:miter/>
          </a:ln>
        </p:spPr>
      </p:pic>
      <p:pic>
        <p:nvPicPr>
          <p:cNvPr id="99" name="Picture 14" descr="p9haOzuGgEg"/>
          <p:cNvPicPr/>
          <p:nvPr/>
        </p:nvPicPr>
        <p:blipFill>
          <a:blip r:embed="rId4"/>
          <a:stretch/>
        </p:blipFill>
        <p:spPr>
          <a:xfrm rot="21129600">
            <a:off x="0" y="764640"/>
            <a:ext cx="3556080" cy="23702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00" name="Picture 15" descr="2jaUkOZ6nrs"/>
          <p:cNvPicPr/>
          <p:nvPr/>
        </p:nvPicPr>
        <p:blipFill>
          <a:blip r:embed="rId5"/>
          <a:stretch/>
        </p:blipFill>
        <p:spPr>
          <a:xfrm rot="1612800">
            <a:off x="5661000" y="3789360"/>
            <a:ext cx="3483000" cy="23223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7741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F1344"/>
          <p:cNvPicPr/>
          <p:nvPr/>
        </p:nvPicPr>
        <p:blipFill>
          <a:blip r:embed="rId2"/>
          <a:stretch/>
        </p:blipFill>
        <p:spPr>
          <a:xfrm rot="641400">
            <a:off x="468000" y="404640"/>
            <a:ext cx="3673440" cy="274320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03" name="Picture 6" descr="DSCF1349"/>
          <p:cNvPicPr/>
          <p:nvPr/>
        </p:nvPicPr>
        <p:blipFill>
          <a:blip r:embed="rId3"/>
          <a:stretch/>
        </p:blipFill>
        <p:spPr>
          <a:xfrm rot="20602200">
            <a:off x="468360" y="3933720"/>
            <a:ext cx="3276720" cy="239400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  <p:sp>
        <p:nvSpPr>
          <p:cNvPr id="104" name="Text Box 7"/>
          <p:cNvSpPr/>
          <p:nvPr/>
        </p:nvSpPr>
        <p:spPr>
          <a:xfrm>
            <a:off x="5078160" y="9079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2139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 rot="1080600">
            <a:off x="5797440" y="434880"/>
            <a:ext cx="3149640" cy="235116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07" name="Picture 6" descr="DSCF1353"/>
          <p:cNvPicPr/>
          <p:nvPr/>
        </p:nvPicPr>
        <p:blipFill>
          <a:blip r:embed="rId3"/>
          <a:stretch/>
        </p:blipFill>
        <p:spPr>
          <a:xfrm rot="20446800">
            <a:off x="269640" y="448920"/>
            <a:ext cx="3313080" cy="247176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08" name="Picture 7" descr="DSCF1357"/>
          <p:cNvPicPr/>
          <p:nvPr/>
        </p:nvPicPr>
        <p:blipFill>
          <a:blip r:embed="rId4"/>
          <a:stretch/>
        </p:blipFill>
        <p:spPr>
          <a:xfrm>
            <a:off x="468360" y="2852640"/>
            <a:ext cx="3079800" cy="229896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09" name="Picture 8" descr="P3290398"/>
          <p:cNvPicPr/>
          <p:nvPr/>
        </p:nvPicPr>
        <p:blipFill>
          <a:blip r:embed="rId5"/>
          <a:stretch/>
        </p:blipFill>
        <p:spPr>
          <a:xfrm>
            <a:off x="5867280" y="2852640"/>
            <a:ext cx="2898720" cy="217332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10" name="Picture 9" descr="DSCF1359"/>
          <p:cNvPicPr/>
          <p:nvPr/>
        </p:nvPicPr>
        <p:blipFill>
          <a:blip r:embed="rId6"/>
          <a:stretch/>
        </p:blipFill>
        <p:spPr>
          <a:xfrm>
            <a:off x="0" y="4906800"/>
            <a:ext cx="2411280" cy="195120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11" name="Picture 10" descr="DSCF1358"/>
          <p:cNvPicPr/>
          <p:nvPr/>
        </p:nvPicPr>
        <p:blipFill>
          <a:blip r:embed="rId7"/>
          <a:stretch/>
        </p:blipFill>
        <p:spPr>
          <a:xfrm>
            <a:off x="1908000" y="4941720"/>
            <a:ext cx="2665440" cy="191628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12" name="Picture 11" descr="P3290393"/>
          <p:cNvPicPr/>
          <p:nvPr/>
        </p:nvPicPr>
        <p:blipFill>
          <a:blip r:embed="rId8"/>
          <a:stretch/>
        </p:blipFill>
        <p:spPr>
          <a:xfrm>
            <a:off x="4572000" y="4900680"/>
            <a:ext cx="2610000" cy="195732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113" name="Picture 12" descr="P3290400"/>
          <p:cNvPicPr/>
          <p:nvPr/>
        </p:nvPicPr>
        <p:blipFill>
          <a:blip r:embed="rId9"/>
          <a:stretch/>
        </p:blipFill>
        <p:spPr>
          <a:xfrm>
            <a:off x="6732720" y="4905360"/>
            <a:ext cx="2411280" cy="1952640"/>
          </a:xfrm>
          <a:prstGeom prst="rect">
            <a:avLst/>
          </a:prstGeom>
          <a:ln cap="rnd" w="63360">
            <a:solidFill>
              <a:srgbClr val="3366ff"/>
            </a:solidFill>
            <a:custDash>
              <a:ds d="100000" sp="1000"/>
            </a:custDash>
            <a:miter/>
          </a:ln>
        </p:spPr>
      </p:pic>
      <p:sp>
        <p:nvSpPr>
          <p:cNvPr id="114" name="Text Box 13"/>
          <p:cNvSpPr/>
          <p:nvPr/>
        </p:nvSpPr>
        <p:spPr>
          <a:xfrm>
            <a:off x="363528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оммун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9107_w465_h260_ff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4"/>
          <p:cNvSpPr/>
          <p:nvPr/>
        </p:nvSpPr>
        <p:spPr>
          <a:xfrm>
            <a:off x="3420720" y="143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Безопас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5" descr="DSCF1393"/>
          <p:cNvPicPr/>
          <p:nvPr/>
        </p:nvPicPr>
        <p:blipFill>
          <a:blip r:embed="rId2"/>
          <a:stretch/>
        </p:blipFill>
        <p:spPr>
          <a:xfrm rot="20511600">
            <a:off x="324000" y="475920"/>
            <a:ext cx="3348000" cy="24987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18" name="Picture 56" descr="DSCF1394"/>
          <p:cNvPicPr/>
          <p:nvPr/>
        </p:nvPicPr>
        <p:blipFill>
          <a:blip r:embed="rId3"/>
          <a:stretch/>
        </p:blipFill>
        <p:spPr>
          <a:xfrm rot="1312800">
            <a:off x="5882760" y="404640"/>
            <a:ext cx="3260880" cy="24339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19" name="Picture 57" descr="DSCF1395"/>
          <p:cNvPicPr/>
          <p:nvPr/>
        </p:nvPicPr>
        <p:blipFill>
          <a:blip r:embed="rId4"/>
          <a:stretch/>
        </p:blipFill>
        <p:spPr>
          <a:xfrm rot="19885800">
            <a:off x="179280" y="3860640"/>
            <a:ext cx="2935440" cy="2637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20" name="Picture 58" descr="DSCF1396"/>
          <p:cNvPicPr/>
          <p:nvPr/>
        </p:nvPicPr>
        <p:blipFill>
          <a:blip r:embed="rId5"/>
          <a:stretch/>
        </p:blipFill>
        <p:spPr>
          <a:xfrm rot="314400">
            <a:off x="5946480" y="4518000"/>
            <a:ext cx="3203640" cy="23925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293046868_smeshariki_vipusk_18_hockey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2487600" y="2880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Чтение художественной литера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DSCF1373"/>
          <p:cNvPicPr/>
          <p:nvPr/>
        </p:nvPicPr>
        <p:blipFill>
          <a:blip r:embed="rId2"/>
          <a:stretch/>
        </p:blipFill>
        <p:spPr>
          <a:xfrm rot="20909400">
            <a:off x="411120" y="1257120"/>
            <a:ext cx="4925880" cy="45892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1293046868_smeshariki_vipusk_18_hockey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068720" y="3592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768760" cy="24145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27" name="Picture 7" descr="DSCF1354"/>
          <p:cNvPicPr/>
          <p:nvPr/>
        </p:nvPicPr>
        <p:blipFill>
          <a:blip r:embed="rId3"/>
          <a:stretch/>
        </p:blipFill>
        <p:spPr>
          <a:xfrm>
            <a:off x="5954760" y="4476600"/>
            <a:ext cx="3189240" cy="23814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6d90142b939b7035ed811ceae63de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67"/>
          <p:cNvSpPr/>
          <p:nvPr/>
        </p:nvSpPr>
        <p:spPr>
          <a:xfrm>
            <a:off x="3637440" y="2149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циа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69" descr="DSCF1360"/>
          <p:cNvPicPr/>
          <p:nvPr/>
        </p:nvPicPr>
        <p:blipFill>
          <a:blip r:embed="rId2"/>
          <a:stretch/>
        </p:blipFill>
        <p:spPr>
          <a:xfrm>
            <a:off x="0" y="0"/>
            <a:ext cx="3132000" cy="23367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31" name="Picture 370" descr="DSCF1361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3385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32" name="Picture 371" descr="P3290378"/>
          <p:cNvPicPr/>
          <p:nvPr/>
        </p:nvPicPr>
        <p:blipFill>
          <a:blip r:embed="rId4"/>
          <a:stretch/>
        </p:blipFill>
        <p:spPr>
          <a:xfrm>
            <a:off x="3203640" y="4778280"/>
            <a:ext cx="2771640" cy="20797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33" name="Picture 372" descr="P3290384"/>
          <p:cNvPicPr/>
          <p:nvPr/>
        </p:nvPicPr>
        <p:blipFill>
          <a:blip r:embed="rId5"/>
          <a:stretch/>
        </p:blipFill>
        <p:spPr>
          <a:xfrm>
            <a:off x="0" y="4792680"/>
            <a:ext cx="2754360" cy="20653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34" name="Picture 373" descr="P3290386"/>
          <p:cNvPicPr/>
          <p:nvPr/>
        </p:nvPicPr>
        <p:blipFill>
          <a:blip r:embed="rId6"/>
          <a:stretch/>
        </p:blipFill>
        <p:spPr>
          <a:xfrm>
            <a:off x="6372360" y="4778280"/>
            <a:ext cx="2771640" cy="20797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d90142b939b7035ed811ceae63de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SCF1350"/>
          <p:cNvPicPr/>
          <p:nvPr/>
        </p:nvPicPr>
        <p:blipFill>
          <a:blip r:embed="rId2"/>
          <a:stretch/>
        </p:blipFill>
        <p:spPr>
          <a:xfrm>
            <a:off x="2987640" y="4332240"/>
            <a:ext cx="3382920" cy="25257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7" name="Rectangle 6"/>
          <p:cNvSpPr/>
          <p:nvPr/>
        </p:nvSpPr>
        <p:spPr>
          <a:xfrm>
            <a:off x="3637440" y="2149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циа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DSCF1482"/>
          <p:cNvPicPr/>
          <p:nvPr/>
        </p:nvPicPr>
        <p:blipFill>
          <a:blip r:embed="rId3"/>
          <a:stretch/>
        </p:blipFill>
        <p:spPr>
          <a:xfrm>
            <a:off x="0" y="404640"/>
            <a:ext cx="3348000" cy="25005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39" name="Picture 8" descr="DSCF1483"/>
          <p:cNvPicPr/>
          <p:nvPr/>
        </p:nvPicPr>
        <p:blipFill>
          <a:blip r:embed="rId4"/>
          <a:stretch/>
        </p:blipFill>
        <p:spPr>
          <a:xfrm>
            <a:off x="5867280" y="404640"/>
            <a:ext cx="3276720" cy="25178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63a72504136851d64a6e875d4fd99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703960" y="28800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Художественное творч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Фото0212"/>
          <p:cNvPicPr/>
          <p:nvPr/>
        </p:nvPicPr>
        <p:blipFill>
          <a:blip r:embed="rId2"/>
          <a:stretch/>
        </p:blipFill>
        <p:spPr>
          <a:xfrm rot="20533200">
            <a:off x="250920" y="620640"/>
            <a:ext cx="2627280" cy="19702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3" name="Picture 7" descr="Фото0220"/>
          <p:cNvPicPr/>
          <p:nvPr/>
        </p:nvPicPr>
        <p:blipFill>
          <a:blip r:embed="rId3"/>
          <a:stretch/>
        </p:blipFill>
        <p:spPr>
          <a:xfrm rot="20659200">
            <a:off x="2484360" y="1052640"/>
            <a:ext cx="2665440" cy="19983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4" name="Picture 8" descr="Фото0222"/>
          <p:cNvPicPr/>
          <p:nvPr/>
        </p:nvPicPr>
        <p:blipFill>
          <a:blip r:embed="rId4"/>
          <a:stretch/>
        </p:blipFill>
        <p:spPr>
          <a:xfrm rot="20343600">
            <a:off x="4716360" y="836640"/>
            <a:ext cx="2665440" cy="20001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5" name="Picture 9" descr="DE1JBJNzSDA"/>
          <p:cNvPicPr/>
          <p:nvPr/>
        </p:nvPicPr>
        <p:blipFill>
          <a:blip r:embed="rId5"/>
          <a:stretch/>
        </p:blipFill>
        <p:spPr>
          <a:xfrm rot="20638800">
            <a:off x="6321240" y="1916280"/>
            <a:ext cx="2822400" cy="20923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6" name="Picture 10" descr="bdJ4XAb4ERQ"/>
          <p:cNvPicPr/>
          <p:nvPr/>
        </p:nvPicPr>
        <p:blipFill>
          <a:blip r:embed="rId6"/>
          <a:stretch/>
        </p:blipFill>
        <p:spPr>
          <a:xfrm rot="19884000">
            <a:off x="179280" y="4005000"/>
            <a:ext cx="2833920" cy="21142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7" name="Picture 11" descr="4wq6dyr_lrM"/>
          <p:cNvPicPr/>
          <p:nvPr/>
        </p:nvPicPr>
        <p:blipFill>
          <a:blip r:embed="rId7"/>
          <a:stretch/>
        </p:blipFill>
        <p:spPr>
          <a:xfrm rot="19956600">
            <a:off x="2195280" y="4220640"/>
            <a:ext cx="2808000" cy="20955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8" name="Picture 12" descr="1OBvEJpfQIw"/>
          <p:cNvPicPr/>
          <p:nvPr/>
        </p:nvPicPr>
        <p:blipFill>
          <a:blip r:embed="rId8"/>
          <a:stretch/>
        </p:blipFill>
        <p:spPr>
          <a:xfrm rot="19466400">
            <a:off x="4284360" y="4220640"/>
            <a:ext cx="2906640" cy="21686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49" name="Picture 13" descr="-hPf5-1rxes"/>
          <p:cNvPicPr/>
          <p:nvPr/>
        </p:nvPicPr>
        <p:blipFill>
          <a:blip r:embed="rId9"/>
          <a:stretch/>
        </p:blipFill>
        <p:spPr>
          <a:xfrm rot="19575000">
            <a:off x="6380280" y="4365360"/>
            <a:ext cx="2763720" cy="20620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7741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D5VS-cTTt7w"/>
          <p:cNvPicPr/>
          <p:nvPr/>
        </p:nvPicPr>
        <p:blipFill>
          <a:blip r:embed="rId2"/>
          <a:stretch/>
        </p:blipFill>
        <p:spPr>
          <a:xfrm>
            <a:off x="3059280" y="0"/>
            <a:ext cx="3122280" cy="23414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2" name="Picture 6" descr="ojgKC-3949Y"/>
          <p:cNvPicPr/>
          <p:nvPr/>
        </p:nvPicPr>
        <p:blipFill>
          <a:blip r:embed="rId3"/>
          <a:stretch/>
        </p:blipFill>
        <p:spPr>
          <a:xfrm>
            <a:off x="0" y="0"/>
            <a:ext cx="3132000" cy="23353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3" name="Picture 7" descr="xuTv033rGQg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3353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4" name="Picture 8" descr="Z9uuKwr7bQo"/>
          <p:cNvPicPr/>
          <p:nvPr/>
        </p:nvPicPr>
        <p:blipFill>
          <a:blip r:embed="rId5"/>
          <a:stretch/>
        </p:blipFill>
        <p:spPr>
          <a:xfrm>
            <a:off x="2556000" y="4437000"/>
            <a:ext cx="3348000" cy="2421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5" name="Picture 9" descr="LKSailkXW_o"/>
          <p:cNvPicPr/>
          <p:nvPr/>
        </p:nvPicPr>
        <p:blipFill>
          <a:blip r:embed="rId6"/>
          <a:stretch/>
        </p:blipFill>
        <p:spPr>
          <a:xfrm>
            <a:off x="5867280" y="4413240"/>
            <a:ext cx="3276720" cy="24447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6" name="Picture 10" descr="Soch2014Talisman"/>
          <p:cNvPicPr/>
          <p:nvPr/>
        </p:nvPicPr>
        <p:blipFill>
          <a:blip r:embed="rId7"/>
          <a:stretch/>
        </p:blipFill>
        <p:spPr>
          <a:xfrm>
            <a:off x="0" y="4437000"/>
            <a:ext cx="2627280" cy="2421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ours_exc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39640" y="911520"/>
            <a:ext cx="8136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Ребёнок  уже отлично справляется с лопаткой, сооружая в сугробах снежные дворцы; восторженно плюхается на лед катка, в попытках удержать равновесие  и уверенно тянется к лыжам ? Не пора ли познакомить его с зимними видами спорта? Даже взрослому порой непросто разобраться во всем разнообразии зимних видов спорта. Сейчас, когда в России  идет подготовка к зимней Олимпиаде в Сочи – 2014, вопрос становится актуальным. Необходимо, чтобы дети понимали, что представляет собой тот или иной вид зимнего спорта, какой спортивный инвентарь нужен для того, чтобы им заниматься, где можно ему обучиться и т.д. А самое главное – усвоили, что любой вид спорта начинается с физической культуры, которой нужно приучать себя заниматься с раннего возраста, что физическая культура – это не только залог возможных спортивных достижений в будущем, но прежде всего залог и гарантия здоровья челове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114720" y="2811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tours_exc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M4jXvAkIpGo"/>
          <p:cNvPicPr/>
          <p:nvPr/>
        </p:nvPicPr>
        <p:blipFill>
          <a:blip r:embed="rId2"/>
          <a:stretch/>
        </p:blipFill>
        <p:spPr>
          <a:xfrm rot="20305800">
            <a:off x="0" y="549000"/>
            <a:ext cx="3419640" cy="25495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59" name="Picture 7" descr="_cyEd2cqgD0"/>
          <p:cNvPicPr/>
          <p:nvPr/>
        </p:nvPicPr>
        <p:blipFill>
          <a:blip r:embed="rId3"/>
          <a:stretch/>
        </p:blipFill>
        <p:spPr>
          <a:xfrm rot="1519200">
            <a:off x="5570280" y="520200"/>
            <a:ext cx="3771720" cy="28148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60" name="Picture 8" descr="9PifFIqYRl4"/>
          <p:cNvPicPr/>
          <p:nvPr/>
        </p:nvPicPr>
        <p:blipFill>
          <a:blip r:embed="rId4"/>
          <a:stretch/>
        </p:blipFill>
        <p:spPr>
          <a:xfrm>
            <a:off x="2916360" y="0"/>
            <a:ext cx="3024000" cy="25160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61" name="Picture 9" descr="GSAE_8Qm7XQ"/>
          <p:cNvPicPr/>
          <p:nvPr/>
        </p:nvPicPr>
        <p:blipFill>
          <a:blip r:embed="rId5"/>
          <a:stretch/>
        </p:blipFill>
        <p:spPr>
          <a:xfrm>
            <a:off x="0" y="4367160"/>
            <a:ext cx="3338640" cy="24908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62" name="Picture 10" descr="KByIneGn7nQ"/>
          <p:cNvPicPr/>
          <p:nvPr/>
        </p:nvPicPr>
        <p:blipFill>
          <a:blip r:embed="rId6"/>
          <a:stretch/>
        </p:blipFill>
        <p:spPr>
          <a:xfrm>
            <a:off x="2916360" y="4367160"/>
            <a:ext cx="3338280" cy="24908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63" name="Picture 11" descr="D36Xio9Hb9U"/>
          <p:cNvPicPr/>
          <p:nvPr/>
        </p:nvPicPr>
        <p:blipFill>
          <a:blip r:embed="rId7"/>
          <a:stretch/>
        </p:blipFill>
        <p:spPr>
          <a:xfrm>
            <a:off x="6012000" y="4365720"/>
            <a:ext cx="3132000" cy="24922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231582989c6321694feb2ab207d456e8cca5d182c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165" name="Diagram 3"/>
          <p:cNvGrpSpPr/>
          <p:nvPr/>
        </p:nvGrpSpPr>
        <p:grpSpPr>
          <a:xfrm>
            <a:off x="-720" y="5040"/>
            <a:ext cx="8956440" cy="6852240"/>
            <a:chOff x="-720" y="5040"/>
            <a:chExt cx="8956440" cy="6852240"/>
          </a:xfrm>
        </p:grpSpPr>
        <p:sp>
          <p:nvSpPr>
            <p:cNvPr id="166" name="_s3076"/>
            <p:cNvSpPr/>
            <p:nvPr/>
          </p:nvSpPr>
          <p:spPr>
            <a:xfrm flipH="1" flipV="1">
              <a:off x="2373840" y="2572200"/>
              <a:ext cx="1028880" cy="43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7"/>
            <p:cNvSpPr/>
            <p:nvPr/>
          </p:nvSpPr>
          <p:spPr>
            <a:xfrm>
              <a:off x="176040" y="1291320"/>
              <a:ext cx="2659680" cy="171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Провед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семейного спортивног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праздник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78"/>
            <p:cNvSpPr/>
            <p:nvPr/>
          </p:nvSpPr>
          <p:spPr>
            <a:xfrm flipH="1">
              <a:off x="2377080" y="3856680"/>
              <a:ext cx="1028880" cy="43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79"/>
            <p:cNvSpPr/>
            <p:nvPr/>
          </p:nvSpPr>
          <p:spPr>
            <a:xfrm>
              <a:off x="-720" y="4005360"/>
              <a:ext cx="2374920" cy="151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Оформ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зимней игротек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0"/>
            <p:cNvSpPr/>
            <p:nvPr/>
          </p:nvSpPr>
          <p:spPr>
            <a:xfrm>
              <a:off x="4424760" y="4279680"/>
              <a:ext cx="0" cy="86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1"/>
            <p:cNvSpPr/>
            <p:nvPr/>
          </p:nvSpPr>
          <p:spPr>
            <a:xfrm>
              <a:off x="2411640" y="5344200"/>
              <a:ext cx="4176000" cy="1513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информационные лист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«Роль зимних видов спорта для детей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« Древнегреческие Олимпийские игры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, «Пьер де Кубертен»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82"/>
            <p:cNvSpPr/>
            <p:nvPr/>
          </p:nvSpPr>
          <p:spPr>
            <a:xfrm>
              <a:off x="5440320" y="3853800"/>
              <a:ext cx="1028880" cy="42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83"/>
            <p:cNvSpPr/>
            <p:nvPr/>
          </p:nvSpPr>
          <p:spPr>
            <a:xfrm>
              <a:off x="6949800" y="4075560"/>
              <a:ext cx="2005920" cy="148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организац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Библиотеч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журналов о спорт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84"/>
            <p:cNvSpPr/>
            <p:nvPr/>
          </p:nvSpPr>
          <p:spPr>
            <a:xfrm flipV="1">
              <a:off x="5440320" y="2569680"/>
              <a:ext cx="1025640" cy="43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85"/>
            <p:cNvSpPr/>
            <p:nvPr/>
          </p:nvSpPr>
          <p:spPr>
            <a:xfrm>
              <a:off x="5785200" y="1288440"/>
              <a:ext cx="2885760" cy="1712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создание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фото- альбом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«Олимпийские надежды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3086"/>
            <p:cNvSpPr/>
            <p:nvPr/>
          </p:nvSpPr>
          <p:spPr>
            <a:xfrm flipV="1">
              <a:off x="4421520" y="1714680"/>
              <a:ext cx="0" cy="859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87"/>
            <p:cNvSpPr/>
            <p:nvPr/>
          </p:nvSpPr>
          <p:spPr>
            <a:xfrm>
              <a:off x="3242880" y="5040"/>
              <a:ext cx="2360520" cy="1712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Оформ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стенгазеты-аншлага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3088"/>
            <p:cNvSpPr/>
            <p:nvPr/>
          </p:nvSpPr>
          <p:spPr>
            <a:xfrm>
              <a:off x="3277440" y="2572560"/>
              <a:ext cx="1940400" cy="1513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Взаимодейств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с родителям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99107_w465_h260_ff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Wg7DtDrSsvg"/>
          <p:cNvPicPr/>
          <p:nvPr/>
        </p:nvPicPr>
        <p:blipFill>
          <a:blip r:embed="rId2"/>
          <a:stretch/>
        </p:blipFill>
        <p:spPr>
          <a:xfrm>
            <a:off x="0" y="0"/>
            <a:ext cx="3203640" cy="23907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1" name="Picture 6" descr="orBJaxjzqgE"/>
          <p:cNvPicPr/>
          <p:nvPr/>
        </p:nvPicPr>
        <p:blipFill>
          <a:blip r:embed="rId3"/>
          <a:stretch/>
        </p:blipFill>
        <p:spPr>
          <a:xfrm>
            <a:off x="0" y="2798640"/>
            <a:ext cx="2340000" cy="405936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2" name="Picture 7" descr="z1f98Con32k"/>
          <p:cNvPicPr/>
          <p:nvPr/>
        </p:nvPicPr>
        <p:blipFill>
          <a:blip r:embed="rId4"/>
          <a:stretch/>
        </p:blipFill>
        <p:spPr>
          <a:xfrm>
            <a:off x="7137360" y="0"/>
            <a:ext cx="2006640" cy="26906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3" name="Picture 8" descr="iYbS3htdeAQ"/>
          <p:cNvPicPr/>
          <p:nvPr/>
        </p:nvPicPr>
        <p:blipFill>
          <a:blip r:embed="rId5"/>
          <a:stretch/>
        </p:blipFill>
        <p:spPr>
          <a:xfrm>
            <a:off x="3605040" y="1125360"/>
            <a:ext cx="2738520" cy="39592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4" name="Picture 9" descr="9LkR_XUOA4w"/>
          <p:cNvPicPr/>
          <p:nvPr/>
        </p:nvPicPr>
        <p:blipFill>
          <a:blip r:embed="rId6"/>
          <a:stretch/>
        </p:blipFill>
        <p:spPr>
          <a:xfrm>
            <a:off x="7156440" y="4194000"/>
            <a:ext cx="1987560" cy="2664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3a72504136851d64a6e875d4fd99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GqwkY2qDvYc"/>
          <p:cNvPicPr/>
          <p:nvPr/>
        </p:nvPicPr>
        <p:blipFill>
          <a:blip r:embed="rId2"/>
          <a:stretch/>
        </p:blipFill>
        <p:spPr>
          <a:xfrm>
            <a:off x="3564000" y="1197000"/>
            <a:ext cx="2289240" cy="30686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7" name="Picture 6" descr="zJl9cPJ04EY"/>
          <p:cNvPicPr/>
          <p:nvPr/>
        </p:nvPicPr>
        <p:blipFill>
          <a:blip r:embed="rId3"/>
          <a:stretch/>
        </p:blipFill>
        <p:spPr>
          <a:xfrm>
            <a:off x="250920" y="0"/>
            <a:ext cx="3051000" cy="22766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8" name="Picture 7" descr="uIJnKSMurKo"/>
          <p:cNvPicPr/>
          <p:nvPr/>
        </p:nvPicPr>
        <p:blipFill>
          <a:blip r:embed="rId4"/>
          <a:stretch/>
        </p:blipFill>
        <p:spPr>
          <a:xfrm>
            <a:off x="6804000" y="3807000"/>
            <a:ext cx="2340000" cy="3051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89" name="Picture 8" descr="IXEOnNUTrtc"/>
          <p:cNvPicPr/>
          <p:nvPr/>
        </p:nvPicPr>
        <p:blipFill>
          <a:blip r:embed="rId5"/>
          <a:stretch/>
        </p:blipFill>
        <p:spPr>
          <a:xfrm>
            <a:off x="395280" y="4259160"/>
            <a:ext cx="3483000" cy="25988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0" name="Picture 9" descr="ERw9YnV0J1M"/>
          <p:cNvPicPr/>
          <p:nvPr/>
        </p:nvPicPr>
        <p:blipFill>
          <a:blip r:embed="rId6"/>
          <a:stretch/>
        </p:blipFill>
        <p:spPr>
          <a:xfrm>
            <a:off x="5940360" y="0"/>
            <a:ext cx="3203640" cy="19526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9" descr="1323163571854403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5-46FU8PeZc"/>
          <p:cNvPicPr/>
          <p:nvPr/>
        </p:nvPicPr>
        <p:blipFill>
          <a:blip r:embed="rId2"/>
          <a:stretch/>
        </p:blipFill>
        <p:spPr>
          <a:xfrm>
            <a:off x="0" y="0"/>
            <a:ext cx="3267000" cy="2178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3" name="Picture 21" descr="8ooRAH1T5jM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4" name="Picture 22" descr="nv3XVW1vBIU"/>
          <p:cNvPicPr/>
          <p:nvPr/>
        </p:nvPicPr>
        <p:blipFill>
          <a:blip r:embed="rId4"/>
          <a:stretch/>
        </p:blipFill>
        <p:spPr>
          <a:xfrm>
            <a:off x="0" y="2492280"/>
            <a:ext cx="2916360" cy="19447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5" name="Picture 23" descr="nt76GYft2AI"/>
          <p:cNvPicPr/>
          <p:nvPr/>
        </p:nvPicPr>
        <p:blipFill>
          <a:blip r:embed="rId5"/>
          <a:stretch/>
        </p:blipFill>
        <p:spPr>
          <a:xfrm>
            <a:off x="468360" y="5064120"/>
            <a:ext cx="2690640" cy="179388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6" name="Picture 24" descr="kKSv_yvHsVw"/>
          <p:cNvPicPr/>
          <p:nvPr/>
        </p:nvPicPr>
        <p:blipFill>
          <a:blip r:embed="rId6"/>
          <a:stretch/>
        </p:blipFill>
        <p:spPr>
          <a:xfrm>
            <a:off x="6237360" y="4919760"/>
            <a:ext cx="2906640" cy="193824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197" name="Picture 25" descr="Fd3oDHxaD5c"/>
          <p:cNvPicPr/>
          <p:nvPr/>
        </p:nvPicPr>
        <p:blipFill>
          <a:blip r:embed="rId7"/>
          <a:stretch/>
        </p:blipFill>
        <p:spPr>
          <a:xfrm>
            <a:off x="6516720" y="2421000"/>
            <a:ext cx="2627280" cy="196992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tours_exc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SCF1391"/>
          <p:cNvPicPr/>
          <p:nvPr/>
        </p:nvPicPr>
        <p:blipFill>
          <a:blip r:embed="rId2"/>
          <a:stretch/>
        </p:blipFill>
        <p:spPr>
          <a:xfrm>
            <a:off x="179280" y="333360"/>
            <a:ext cx="3746520" cy="27972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  <p:pic>
        <p:nvPicPr>
          <p:cNvPr id="200" name="Picture 6" descr="DSCF1392"/>
          <p:cNvPicPr/>
          <p:nvPr/>
        </p:nvPicPr>
        <p:blipFill>
          <a:blip r:embed="rId3"/>
          <a:stretch/>
        </p:blipFill>
        <p:spPr>
          <a:xfrm>
            <a:off x="5435640" y="4248000"/>
            <a:ext cx="3495600" cy="2610000"/>
          </a:xfrm>
          <a:prstGeom prst="rect">
            <a:avLst/>
          </a:prstGeom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1300516845_stendprevy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9"/>
          <p:cNvSpPr/>
          <p:nvPr/>
        </p:nvSpPr>
        <p:spPr>
          <a:xfrm>
            <a:off x="1764000" y="6156360"/>
            <a:ext cx="52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d90142b939b7035ed811ceae63de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2"/>
          <p:cNvSpPr/>
          <p:nvPr/>
        </p:nvSpPr>
        <p:spPr>
          <a:xfrm>
            <a:off x="324000" y="5584320"/>
            <a:ext cx="8651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формировать   знания детей о различных  зимних  видах  спорта, вызвать  интерес  к  спорту, к  здоровому образу  жизн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3"/>
          <p:cNvSpPr/>
          <p:nvPr/>
        </p:nvSpPr>
        <p:spPr>
          <a:xfrm>
            <a:off x="3564000" y="359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6d90142b939b7035ed811ceae63de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4797720"/>
            <a:ext cx="8964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Тип проекта: </a:t>
            </a: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информационно-творчески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Вид  проекта : </a:t>
            </a: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краткосроч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Участники проекта</a:t>
            </a: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: воспитатели, воспитанники подготовительной группы ,родители воспитаннико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Сроки реализации проекта</a:t>
            </a: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:  недел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197880" y="43056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аспорт проек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323163571854403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755640" y="225360"/>
            <a:ext cx="748836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1.Продолжать  формировать  у  детей  познавательную  инициативу, учить  умению  сравнивать  и  устанавливать  простые  связи  между  видами  спорта и сезонными  явлениями природы, умение выбирать основание для классификации  видов спорта  ( по сезону и  числу  участников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2.Развивать творческое  воображение, коммуникативные способности детей, внимание, память, логическое  мышлени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3.Обогатить и активизировать речь  детей словами : командный вид спорта и одиночный вид спор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imes New Roman"/>
              </a:rPr>
              <a:t>4.Воспитывать  чувство гордости за нашу Родину, умение  восхищаться и  радоваться  заслугам и  победам спортсменов Олимпийских  игр, интерес  и желание заниматься  физкультурой  и спортом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7741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Organization Chart 15"/>
          <p:cNvGrpSpPr/>
          <p:nvPr/>
        </p:nvGrpSpPr>
        <p:grpSpPr>
          <a:xfrm>
            <a:off x="0" y="189000"/>
            <a:ext cx="7163280" cy="6367680"/>
            <a:chOff x="0" y="189000"/>
            <a:chExt cx="7163280" cy="6367680"/>
          </a:xfrm>
        </p:grpSpPr>
        <p:cxnSp>
          <p:nvCxnSpPr>
            <p:cNvPr id="58" name="_s1028"/>
            <p:cNvCxnSpPr>
              <a:stCxn id="59" idx="3"/>
              <a:endCxn id="60" idx="2"/>
            </p:cNvCxnSpPr>
            <p:nvPr/>
          </p:nvCxnSpPr>
          <p:spPr>
            <a:xfrm flipV="1">
              <a:off x="4312440" y="1391040"/>
              <a:ext cx="702360" cy="457452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61" name="_s1029"/>
            <p:cNvCxnSpPr>
              <a:stCxn id="62" idx="3"/>
              <a:endCxn id="60" idx="2"/>
            </p:cNvCxnSpPr>
            <p:nvPr/>
          </p:nvCxnSpPr>
          <p:spPr>
            <a:xfrm flipV="1">
              <a:off x="4312440" y="1391400"/>
              <a:ext cx="702360" cy="292752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63" name="_s1030"/>
            <p:cNvCxnSpPr>
              <a:stCxn id="64" idx="3"/>
              <a:endCxn id="60" idx="2"/>
            </p:cNvCxnSpPr>
            <p:nvPr/>
          </p:nvCxnSpPr>
          <p:spPr>
            <a:xfrm flipV="1">
              <a:off x="4307040" y="1391040"/>
              <a:ext cx="707760" cy="11624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865240" y="189000"/>
              <a:ext cx="4298040" cy="118224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</a:rPr>
                <a:t>Подготовительны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</a:rPr>
                <a:t>этап</a:t>
              </a:r>
              <a:r>
                <a:rPr b="0" lang="en-US" sz="39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0" y="1962360"/>
              <a:ext cx="4298040" cy="118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Сбор информации 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необходимого материал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для реализации проекта</a:t>
              </a:r>
              <a:r>
                <a:rPr b="0" lang="en-US" sz="23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0" y="3727800"/>
              <a:ext cx="4298040" cy="118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Вовлечение детей и родителе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в процесс  решени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поставленных задач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0" y="5374440"/>
              <a:ext cx="4298040" cy="118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Разработка пл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333399"/>
                  </a:solidFill>
                  <a:latin typeface="Times New Roman"/>
                </a:rPr>
                <a:t>мероприятий</a:t>
              </a:r>
              <a:r>
                <a:rPr b="1" lang="en-US" sz="23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320056362_Smeshar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3419640" y="148428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Diagram 20"/>
          <p:cNvGrpSpPr/>
          <p:nvPr/>
        </p:nvGrpSpPr>
        <p:grpSpPr>
          <a:xfrm>
            <a:off x="285120" y="705960"/>
            <a:ext cx="8580240" cy="5853600"/>
            <a:chOff x="285120" y="705960"/>
            <a:chExt cx="8580240" cy="5853600"/>
          </a:xfrm>
        </p:grpSpPr>
        <p:sp>
          <p:nvSpPr>
            <p:cNvPr id="68" name="_s2052"/>
            <p:cNvSpPr/>
            <p:nvPr/>
          </p:nvSpPr>
          <p:spPr>
            <a:xfrm flipV="1">
              <a:off x="4572000" y="2056320"/>
              <a:ext cx="0" cy="97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3"/>
            <p:cNvSpPr/>
            <p:nvPr/>
          </p:nvSpPr>
          <p:spPr>
            <a:xfrm>
              <a:off x="3593160" y="705960"/>
              <a:ext cx="1960920" cy="1352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Физическ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культур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54"/>
            <p:cNvSpPr/>
            <p:nvPr/>
          </p:nvSpPr>
          <p:spPr>
            <a:xfrm flipV="1">
              <a:off x="5198760" y="2440800"/>
              <a:ext cx="905400" cy="743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5"/>
            <p:cNvSpPr/>
            <p:nvPr/>
          </p:nvSpPr>
          <p:spPr>
            <a:xfrm>
              <a:off x="5756040" y="1248840"/>
              <a:ext cx="1960920" cy="1352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Здоровь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56"/>
            <p:cNvSpPr/>
            <p:nvPr/>
          </p:nvSpPr>
          <p:spPr>
            <a:xfrm flipV="1">
              <a:off x="5534640" y="3413880"/>
              <a:ext cx="1385640" cy="16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7"/>
            <p:cNvSpPr/>
            <p:nvPr/>
          </p:nvSpPr>
          <p:spPr>
            <a:xfrm>
              <a:off x="6904440" y="2624040"/>
              <a:ext cx="1960920" cy="13528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Позн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5420160" y="4036680"/>
              <a:ext cx="1218600" cy="485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9"/>
            <p:cNvSpPr/>
            <p:nvPr/>
          </p:nvSpPr>
          <p:spPr>
            <a:xfrm>
              <a:off x="6504120" y="4186800"/>
              <a:ext cx="1961640" cy="1352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Коммуникаци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60"/>
            <p:cNvSpPr/>
            <p:nvPr/>
          </p:nvSpPr>
          <p:spPr>
            <a:xfrm>
              <a:off x="4907880" y="4334760"/>
              <a:ext cx="483120" cy="911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61"/>
            <p:cNvSpPr/>
            <p:nvPr/>
          </p:nvSpPr>
          <p:spPr>
            <a:xfrm>
              <a:off x="4741920" y="5206320"/>
              <a:ext cx="1960920" cy="13532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Чт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художествен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литератур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62"/>
            <p:cNvSpPr/>
            <p:nvPr/>
          </p:nvSpPr>
          <p:spPr>
            <a:xfrm flipH="1">
              <a:off x="3759480" y="4334760"/>
              <a:ext cx="479520" cy="913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63"/>
            <p:cNvSpPr/>
            <p:nvPr/>
          </p:nvSpPr>
          <p:spPr>
            <a:xfrm>
              <a:off x="2441160" y="5204520"/>
              <a:ext cx="1960920" cy="13528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Социализац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64"/>
            <p:cNvSpPr/>
            <p:nvPr/>
          </p:nvSpPr>
          <p:spPr>
            <a:xfrm flipH="1">
              <a:off x="2508120" y="4039200"/>
              <a:ext cx="1218600" cy="485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5"/>
            <p:cNvSpPr/>
            <p:nvPr/>
          </p:nvSpPr>
          <p:spPr>
            <a:xfrm>
              <a:off x="681840" y="4182120"/>
              <a:ext cx="1960920" cy="13528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Художестве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творч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66"/>
            <p:cNvSpPr/>
            <p:nvPr/>
          </p:nvSpPr>
          <p:spPr>
            <a:xfrm flipH="1" flipV="1">
              <a:off x="2223000" y="3416040"/>
              <a:ext cx="1388520" cy="16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67"/>
            <p:cNvSpPr/>
            <p:nvPr/>
          </p:nvSpPr>
          <p:spPr>
            <a:xfrm>
              <a:off x="285120" y="2619360"/>
              <a:ext cx="1960920" cy="13528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Безопаснос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68"/>
            <p:cNvSpPr/>
            <p:nvPr/>
          </p:nvSpPr>
          <p:spPr>
            <a:xfrm flipH="1" flipV="1">
              <a:off x="3039480" y="2440800"/>
              <a:ext cx="905400" cy="743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69"/>
            <p:cNvSpPr/>
            <p:nvPr/>
          </p:nvSpPr>
          <p:spPr>
            <a:xfrm>
              <a:off x="1436400" y="1246320"/>
              <a:ext cx="1961640" cy="135288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Музык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70"/>
            <p:cNvSpPr/>
            <p:nvPr/>
          </p:nvSpPr>
          <p:spPr>
            <a:xfrm>
              <a:off x="3593160" y="3027960"/>
              <a:ext cx="1960920" cy="13528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Образователь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обла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40"/>
          <p:cNvSpPr/>
          <p:nvPr/>
        </p:nvSpPr>
        <p:spPr>
          <a:xfrm>
            <a:off x="2843280" y="0"/>
            <a:ext cx="39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2139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24000" y="44280"/>
          <a:ext cx="8820000" cy="6823080"/>
        </p:xfrm>
        <a:graphic>
          <a:graphicData uri="http://schemas.openxmlformats.org/drawingml/2006/table">
            <a:tbl>
              <a:tblPr/>
              <a:tblGrid>
                <a:gridCol w="1769760"/>
                <a:gridCol w="7050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овмест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изкультминутки : «Мы спортсмены»,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 «Вверх и вниз рывки руками», «Как живёшь?», «Лыжники»; пластические этюды «Зимние забавы»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;подвижные игры, эстафеты  с ледянками  и мини-лыжами, спортивные 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альчиковая гимнастика «Зима», «Мороз»; упражнение для коррекции зрения «Снежинка»; артикуляционная  сказка «Зима»; дыхательная  гимнастика «Лёгкие пушинки-белые снежинки», бодрящая  гимнастика , самомасс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седы: «Олимпиада. Олимпийские игры(прошлое, настоящее, будущее)», «Олимпийская  символика: флаг, клятва, огонь, эмблема, награды», «Первый российский олимпийский чемпион-Н. А.Панин -Коломенкин».«Зимние виды спорта», «Спорт в семье», «Роль спорта в здоровом образе жизни», отгадывание загадок о зимних видах спорта, презентации «Зимние виды спорта», «10 малоизвестных ,но увлекательных зимних видов спорта», знакомство с пословицами  и поговорками  про спорт и здоровый образ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 на тему «Зима и зимние забавы детей», альбомов «Зимние виды спорта», составление ситуативного рассказа о зимних  играх и забавах, придумывание сказки по сюжетным картинкам, общение : «За что бы меня похвалили дома», «Чем можно порадовать папу», составление рассказов на тему «Спорт в моей семье» , заучивание наизусть стихотворения Т. Гусаровой «Зимние забав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тение художеств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те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тение стихотворений: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  «На коньках»   Саша Чёрный, А.Усачёв «Каток»,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В. Донникова «На катке»,А.Веонна «Хоккей», Л. Квитко «Лыжники» ,И .Бурсов «Говорила лыжа лыже», «Хитрые санки»; Г .Ладонщиков «Зимние картинки»,С.Городецкий «Первопуток»; чтение  потешки «Как по снегу, по метел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раматизация  на основе сюжетов  стихов, сюжетно-ролевая игра "Репортаж с зимних  Олимпийских игр", д/и «Разрезные картинки», «Отгадай и составь слово- отгадк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удожеств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исование «Талисманы Олимпиады в Сочи-2014»,лепка «Лыжник», аппликация схемы «Зимние виды спорта», ручной труд «Медаль победителя», конструирование «Олимпийская деревня для киндер-герое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а безопасного поведения при катании на лыжах, санках и ледянках; правила катания с горки; опасные ситуации зим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ушание Гимна зимней Олимпиады в Сочи-2014, песен о спорте(аудиозапись),отрывка из муз. сочинения  П.И. Чайковского «Времена г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tours_exc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P3290406"/>
          <p:cNvPicPr/>
          <p:nvPr/>
        </p:nvPicPr>
        <p:blipFill>
          <a:blip r:embed="rId2"/>
          <a:stretch/>
        </p:blipFill>
        <p:spPr>
          <a:xfrm rot="20890200">
            <a:off x="156960" y="3006360"/>
            <a:ext cx="3384360" cy="2538360"/>
          </a:xfrm>
          <a:prstGeom prst="rect">
            <a:avLst/>
          </a:prstGeom>
          <a:ln cap="rnd" w="60480">
            <a:solidFill>
              <a:srgbClr val="3366ff"/>
            </a:solidFill>
            <a:custDash>
              <a:ds d="100000" sp="1000"/>
            </a:custDash>
            <a:miter/>
          </a:ln>
        </p:spPr>
      </p:pic>
      <p:sp>
        <p:nvSpPr>
          <p:cNvPr id="92" name="Text Box 6"/>
          <p:cNvSpPr/>
          <p:nvPr/>
        </p:nvSpPr>
        <p:spPr>
          <a:xfrm>
            <a:off x="3421800" y="1890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2tTwOVBtqGs"/>
          <p:cNvPicPr/>
          <p:nvPr/>
        </p:nvPicPr>
        <p:blipFill>
          <a:blip r:embed="rId3"/>
          <a:stretch/>
        </p:blipFill>
        <p:spPr>
          <a:xfrm rot="1042800">
            <a:off x="4788000" y="691920"/>
            <a:ext cx="3959280" cy="198576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  <p:pic>
        <p:nvPicPr>
          <p:cNvPr id="94" name="Picture 9" descr="Soch2014Talisman"/>
          <p:cNvPicPr/>
          <p:nvPr/>
        </p:nvPicPr>
        <p:blipFill>
          <a:blip r:embed="rId4"/>
          <a:stretch/>
        </p:blipFill>
        <p:spPr>
          <a:xfrm rot="19972800">
            <a:off x="5278320" y="3989520"/>
            <a:ext cx="3670560" cy="2125440"/>
          </a:xfrm>
          <a:prstGeom prst="rect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0:01:57Z</dcterms:created>
  <dc:creator> шн</dc:creator>
  <dc:description/>
  <dc:language>en-US</dc:language>
  <cp:lastModifiedBy>я</cp:lastModifiedBy>
  <dcterms:modified xsi:type="dcterms:W3CDTF">2013-10-11T14:27:57Z</dcterms:modified>
  <cp:revision>39</cp:revision>
  <dc:subject/>
  <dc:title>Слайд 1</dc:title>
</cp:coreProperties>
</file>