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4DCA-9377-4907-B926-D0D1D7312D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5BE5-2D9C-412E-A0E1-7013BCB93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98A-2873-4577-8C3D-60F3C48C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444-2827-4CB4-B956-979AC0B6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C11-25DA-49C5-9795-94017EE3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7D5-449D-4295-A649-5DC3022C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11C-DDE8-4B71-97C4-D0DE35C9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F4B-F96A-4C4D-BD40-C054E509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D1A-C431-4B0B-8CF0-54F1ACA7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980-EED7-4771-A762-EAD38A8D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501-C20F-409A-AFFE-6BCC895E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C81-5043-42E3-A2E5-92841DB2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4E9-134A-42ED-9B75-AB6C0B4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11F-DB24-4E58-92A5-0C3D669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6F20-565C-41AB-B3F6-916F17257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68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олезные и вредные привыч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7640" y="692280"/>
            <a:ext cx="3311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4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спорт4"/>
          <p:cNvPicPr/>
          <p:nvPr/>
        </p:nvPicPr>
        <p:blipFill>
          <a:blip r:embed="rId1"/>
          <a:stretch/>
        </p:blipFill>
        <p:spPr>
          <a:xfrm>
            <a:off x="0" y="0"/>
            <a:ext cx="203184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никотин убивает"/>
          <p:cNvPicPr/>
          <p:nvPr/>
        </p:nvPicPr>
        <p:blipFill>
          <a:blip r:embed="rId2"/>
          <a:stretch/>
        </p:blipFill>
        <p:spPr>
          <a:xfrm>
            <a:off x="5688000" y="3716280"/>
            <a:ext cx="3456000" cy="314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рукты и овощи"/>
          <p:cNvPicPr/>
          <p:nvPr/>
        </p:nvPicPr>
        <p:blipFill>
          <a:blip r:embed="rId3"/>
          <a:stretch/>
        </p:blipFill>
        <p:spPr>
          <a:xfrm>
            <a:off x="5019840" y="0"/>
            <a:ext cx="4124160" cy="27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Zubik"/>
          <p:cNvPicPr/>
          <p:nvPr/>
        </p:nvPicPr>
        <p:blipFill>
          <a:blip r:embed="rId4"/>
          <a:stretch/>
        </p:blipFill>
        <p:spPr>
          <a:xfrm>
            <a:off x="0" y="3429000"/>
            <a:ext cx="27907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ПОНЕНТЫ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Diagram 2"/>
          <p:cNvGrpSpPr/>
          <p:nvPr/>
        </p:nvGrpSpPr>
        <p:grpSpPr>
          <a:xfrm>
            <a:off x="1897560" y="1549440"/>
            <a:ext cx="5207760" cy="5207760"/>
            <a:chOff x="1897560" y="1549440"/>
            <a:chExt cx="5207760" cy="5207760"/>
          </a:xfrm>
        </p:grpSpPr>
        <p:sp>
          <p:nvSpPr>
            <p:cNvPr id="56" name="_s1028"/>
            <p:cNvSpPr/>
            <p:nvPr/>
          </p:nvSpPr>
          <p:spPr>
            <a:xfrm flipH="1" flipV="1">
              <a:off x="3576240" y="3229920"/>
              <a:ext cx="461880" cy="46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29"/>
            <p:cNvSpPr/>
            <p:nvPr/>
          </p:nvSpPr>
          <p:spPr>
            <a:xfrm>
              <a:off x="2468880" y="2122560"/>
              <a:ext cx="1300320" cy="1300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жим д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0"/>
            <p:cNvSpPr/>
            <p:nvPr/>
          </p:nvSpPr>
          <p:spPr>
            <a:xfrm flipH="1">
              <a:off x="3193920" y="4152600"/>
              <a:ext cx="655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1"/>
            <p:cNvSpPr/>
            <p:nvPr/>
          </p:nvSpPr>
          <p:spPr>
            <a:xfrm>
              <a:off x="1897560" y="3503520"/>
              <a:ext cx="1300320" cy="130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 flipH="1">
              <a:off x="3576600" y="4613040"/>
              <a:ext cx="463680" cy="46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3"/>
            <p:cNvSpPr/>
            <p:nvPr/>
          </p:nvSpPr>
          <p:spPr>
            <a:xfrm>
              <a:off x="2468880" y="4884120"/>
              <a:ext cx="1300320" cy="130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одеж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4"/>
            <p:cNvSpPr/>
            <p:nvPr/>
          </p:nvSpPr>
          <p:spPr>
            <a:xfrm>
              <a:off x="4498920" y="4801680"/>
              <a:ext cx="1440" cy="65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3849120" y="5456880"/>
              <a:ext cx="1300320" cy="130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ите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мо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6"/>
            <p:cNvSpPr/>
            <p:nvPr/>
          </p:nvSpPr>
          <p:spPr>
            <a:xfrm>
              <a:off x="4958640" y="4610520"/>
              <a:ext cx="461880" cy="46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7"/>
            <p:cNvSpPr/>
            <p:nvPr/>
          </p:nvSpPr>
          <p:spPr>
            <a:xfrm>
              <a:off x="5231880" y="4885560"/>
              <a:ext cx="1300320" cy="130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каз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 вредн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ивыче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8"/>
            <p:cNvSpPr/>
            <p:nvPr/>
          </p:nvSpPr>
          <p:spPr>
            <a:xfrm>
              <a:off x="5147640" y="4152600"/>
              <a:ext cx="65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9"/>
            <p:cNvSpPr/>
            <p:nvPr/>
          </p:nvSpPr>
          <p:spPr>
            <a:xfrm>
              <a:off x="5805000" y="3503520"/>
              <a:ext cx="1300320" cy="130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циональн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ит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40"/>
            <p:cNvSpPr/>
            <p:nvPr/>
          </p:nvSpPr>
          <p:spPr>
            <a:xfrm flipV="1">
              <a:off x="4956840" y="3229920"/>
              <a:ext cx="463680" cy="46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1"/>
            <p:cNvSpPr/>
            <p:nvPr/>
          </p:nvSpPr>
          <p:spPr>
            <a:xfrm>
              <a:off x="5231880" y="2120760"/>
              <a:ext cx="1300320" cy="130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каливание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здоров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2"/>
            <p:cNvSpPr/>
            <p:nvPr/>
          </p:nvSpPr>
          <p:spPr>
            <a:xfrm flipV="1">
              <a:off x="4498920" y="2847960"/>
              <a:ext cx="0" cy="65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3"/>
            <p:cNvSpPr/>
            <p:nvPr/>
          </p:nvSpPr>
          <p:spPr>
            <a:xfrm>
              <a:off x="3849120" y="1549440"/>
              <a:ext cx="1300320" cy="130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Чистота тела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жилищ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дукто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849120" y="3505320"/>
              <a:ext cx="1300320" cy="130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ДОРОВЬ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вредных привы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"/>
          <p:cNvSpPr/>
          <p:nvPr/>
        </p:nvSpPr>
        <p:spPr>
          <a:xfrm>
            <a:off x="971640" y="1844640"/>
            <a:ext cx="3240000" cy="1800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"/>
          <p:cNvSpPr/>
          <p:nvPr/>
        </p:nvSpPr>
        <p:spPr>
          <a:xfrm>
            <a:off x="5364000" y="1844640"/>
            <a:ext cx="3240360" cy="2089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5"/>
          <p:cNvSpPr/>
          <p:nvPr/>
        </p:nvSpPr>
        <p:spPr>
          <a:xfrm>
            <a:off x="900000" y="4005360"/>
            <a:ext cx="324036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6"/>
          <p:cNvSpPr/>
          <p:nvPr/>
        </p:nvSpPr>
        <p:spPr>
          <a:xfrm>
            <a:off x="5219640" y="4149720"/>
            <a:ext cx="3313080" cy="194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8"/>
          <p:cNvSpPr/>
          <p:nvPr/>
        </p:nvSpPr>
        <p:spPr>
          <a:xfrm>
            <a:off x="4211640" y="2744640"/>
            <a:ext cx="1081080" cy="36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0"/>
          <p:cNvSpPr/>
          <p:nvPr/>
        </p:nvSpPr>
        <p:spPr>
          <a:xfrm flipH="1">
            <a:off x="6875640" y="3933720"/>
            <a:ext cx="109440" cy="216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2"/>
          <p:cNvSpPr/>
          <p:nvPr/>
        </p:nvSpPr>
        <p:spPr>
          <a:xfrm>
            <a:off x="4140360" y="4941720"/>
            <a:ext cx="1079280" cy="179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4"/>
          <p:cNvSpPr/>
          <p:nvPr/>
        </p:nvSpPr>
        <p:spPr>
          <a:xfrm flipH="1">
            <a:off x="2555640" y="3645000"/>
            <a:ext cx="36360" cy="504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Сможешь ли ты устоят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395280" y="-11044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 сказал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больше 3 раз- вот ваш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 умеете управлять своими желаниями. У вас сильная воля и крепкий характер. Вы умеете отказаться от удовольствие, если это может принести вред, помешать вашим планам, нашим отношениям с родителями, уч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395280" y="310932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 сказал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т 4 до 8 ра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аш результат поху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м не всегда удаётся управлять своим желаниями. Не хватает силы воли. Из- за этого можно попасть в зависимость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 сказал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т 9 до 10 раз- тут уже пора задум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м очень трудно справиться со своими желаниями. Вас неудержимо тянет к сиюминутным удовольствиям. Вам нужно оценить свои действия. Вам нужно научиться говорить себ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полезных привы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395280" y="1341360"/>
            <a:ext cx="3889440" cy="215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4788000" y="1557360"/>
            <a:ext cx="3887640" cy="22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6"/>
          <p:cNvSpPr/>
          <p:nvPr/>
        </p:nvSpPr>
        <p:spPr>
          <a:xfrm>
            <a:off x="468360" y="3933720"/>
            <a:ext cx="3672000" cy="208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7"/>
          <p:cNvSpPr/>
          <p:nvPr/>
        </p:nvSpPr>
        <p:spPr>
          <a:xfrm>
            <a:off x="4788000" y="3933720"/>
            <a:ext cx="3960720" cy="1943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ги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9"/>
          <p:cNvSpPr/>
          <p:nvPr/>
        </p:nvSpPr>
        <p:spPr>
          <a:xfrm>
            <a:off x="4284720" y="2421000"/>
            <a:ext cx="647640" cy="144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1"/>
          <p:cNvSpPr/>
          <p:nvPr/>
        </p:nvSpPr>
        <p:spPr>
          <a:xfrm>
            <a:off x="6732720" y="3789360"/>
            <a:ext cx="34920" cy="144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3"/>
          <p:cNvSpPr/>
          <p:nvPr/>
        </p:nvSpPr>
        <p:spPr>
          <a:xfrm flipH="1">
            <a:off x="3995280" y="4905360"/>
            <a:ext cx="792360" cy="252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5"/>
          <p:cNvSpPr/>
          <p:nvPr/>
        </p:nvSpPr>
        <p:spPr>
          <a:xfrm>
            <a:off x="2195640" y="3500280"/>
            <a:ext cx="144360" cy="649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304920" y="5335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РЕШИТЬ РАЗ  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НАВСЕГДА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И НЕ  ОТСТУПАТЬ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здоровье берегу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м себе я помог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DSCF0483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0:35:00Z</dcterms:created>
  <dc:creator>FuckYouBill</dc:creator>
  <dc:description/>
  <dc:language>en-US</dc:language>
  <cp:lastModifiedBy>Кристина</cp:lastModifiedBy>
  <dcterms:modified xsi:type="dcterms:W3CDTF">2013-02-07T17:33:37Z</dcterms:modified>
  <cp:revision>11</cp:revision>
  <dc:subject/>
  <dc:title>Полезные и вредные привычки</dc:title>
</cp:coreProperties>
</file>