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5D8B-C63E-48A2-9222-207EAA99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A3E9-E2D1-46FF-A8E7-592373C6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EF72-48BF-40F9-B196-F2C6489A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4720-2E3E-417D-88D1-78BB68DB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6288-D06F-4356-AB99-5B17A24F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1775-43A8-4F3D-9747-F70870F9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5410-D9B1-4095-AFFE-60D3659B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66E4-E2C0-45F8-969E-56DDEDF8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E2F1-6C49-466C-9E5E-26DC3615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6D05-0EC8-4F74-BA86-C58CF9CF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0C37-972A-4073-9D48-801BD560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10DC-6B03-4CFC-80E4-D44D850E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4A84-3C89-4E8B-B1B5-314D6807C1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99"/>
                </a:solidFill>
                <a:latin typeface="Times New Roman"/>
              </a:rPr>
              <a:t>ПРОЕКТ 3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508720" y="3860640"/>
            <a:ext cx="345600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Автор программы «ПРОЕКТ-365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Ирина Владимировна Евдоченк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24_7_365"/>
          <p:cNvPicPr/>
          <p:nvPr/>
        </p:nvPicPr>
        <p:blipFill>
          <a:blip r:embed="rId1"/>
          <a:stretch/>
        </p:blipFill>
        <p:spPr>
          <a:xfrm>
            <a:off x="179280" y="1197000"/>
            <a:ext cx="554508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08360" y="333360"/>
            <a:ext cx="518472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ОДЕРЖАНИЕ:</a:t>
            </a:r>
            <a:br>
              <a:rPr sz="4000"/>
            </a:b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АСТЬ 1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Характеристика системы ценности времени 365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Поиск неиспользованных резервов времен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Расчет бесцельной утечки единиц времен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Преобразование бесцельного в целевое использование единиц времен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24_7_365"/>
          <p:cNvPicPr/>
          <p:nvPr/>
        </p:nvPicPr>
        <p:blipFill>
          <a:blip r:embed="rId1"/>
          <a:stretch/>
        </p:blipFill>
        <p:spPr>
          <a:xfrm>
            <a:off x="179280" y="260280"/>
            <a:ext cx="3456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0_1e68_9e80fd91_XL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 Евдоченко</cp:lastModifiedBy>
  <dcterms:modified xsi:type="dcterms:W3CDTF">2013-10-11T16:32:06Z</dcterms:modified>
  <cp:revision>112</cp:revision>
  <dc:subject/>
  <dc:title>PowerPoint Presentation</dc:title>
</cp:coreProperties>
</file>