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274760" y="1092240"/>
            <a:ext cx="479592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36520" y="5408280"/>
            <a:ext cx="507528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1274760" y="1092240"/>
            <a:ext cx="480060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1136160" y="5408280"/>
            <a:ext cx="507708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1274760" y="1092240"/>
            <a:ext cx="480060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1136160" y="5408280"/>
            <a:ext cx="507708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1274760" y="1092240"/>
            <a:ext cx="480060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1136160" y="5408280"/>
            <a:ext cx="507708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1274760" y="1092240"/>
            <a:ext cx="480060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1136160" y="5408280"/>
            <a:ext cx="507708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1274760" y="1092240"/>
            <a:ext cx="480060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1136160" y="5408280"/>
            <a:ext cx="507708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1274760" y="1092240"/>
            <a:ext cx="480060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1136160" y="5408280"/>
            <a:ext cx="507708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1274760" y="1092240"/>
            <a:ext cx="480060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1136160" y="5408280"/>
            <a:ext cx="507708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274760" y="1092240"/>
            <a:ext cx="480060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1136160" y="5408280"/>
            <a:ext cx="507708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1274760" y="1092240"/>
            <a:ext cx="480060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1136160" y="5408280"/>
            <a:ext cx="507708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800" y="620640"/>
            <a:ext cx="8602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86025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9800" y="4588200"/>
            <a:ext cx="86025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800" y="620640"/>
            <a:ext cx="8602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8000" y="210132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9800" y="458820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8000" y="458820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800" y="620640"/>
            <a:ext cx="8602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7400" y="210132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9800" y="458820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8600" y="458820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7400" y="458820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800" y="620640"/>
            <a:ext cx="8602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9800" y="2101320"/>
            <a:ext cx="86025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800" y="620640"/>
            <a:ext cx="8602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86025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800" y="620640"/>
            <a:ext cx="8602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8000" y="210132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800" y="620640"/>
            <a:ext cx="8602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800" y="620640"/>
            <a:ext cx="860256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8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800" y="620640"/>
            <a:ext cx="8602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8000" y="210132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9800" y="458820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800" y="620640"/>
            <a:ext cx="8602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000" y="210132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8000" y="458820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800" y="620640"/>
            <a:ext cx="8602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000" y="210132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9800" y="4588200"/>
            <a:ext cx="86025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465120" y="0"/>
            <a:ext cx="961560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fffbf0"/>
              </a:gs>
              <a:gs pos="100000">
                <a:srgbClr val="ffffcc"/>
              </a:gs>
            </a:gsLst>
            <a:lin ang="0"/>
          </a:gradFill>
          <a:ln w="9360">
            <a:solidFill>
              <a:srgbClr val="33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39800" y="620640"/>
            <a:ext cx="8602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9800" y="2101320"/>
            <a:ext cx="86025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584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2400" indent="-21456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4040" indent="-21276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5680" indent="-21420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5680" indent="-21420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5680" indent="-21420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8920" y="755640"/>
            <a:ext cx="856908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996600"/>
                </a:solidFill>
                <a:latin typeface="Times New Roman"/>
              </a:rPr>
              <a:t>ЛИТЕРАТУРНОЕ ЧТЕНИЕ</a:t>
            </a:r>
            <a:br>
              <a:rPr sz="4400"/>
            </a:br>
            <a:r>
              <a:rPr b="1" lang="ru-RU" sz="4400" spc="-1" strike="noStrike">
                <a:solidFill>
                  <a:srgbClr val="996600"/>
                </a:solidFill>
                <a:latin typeface="Times New Roman"/>
              </a:rPr>
              <a:t>2 класс</a:t>
            </a:r>
            <a:br>
              <a:rPr sz="4400"/>
            </a:br>
            <a:br>
              <a:rPr sz="4400"/>
            </a:br>
            <a:r>
              <a:rPr b="1" lang="ru-RU" sz="3200" spc="-1" strike="noStrike">
                <a:solidFill>
                  <a:srgbClr val="996600"/>
                </a:solidFill>
                <a:latin typeface="Times New Roman"/>
              </a:rPr>
              <a:t>Тема:  Русская народная сказка</a:t>
            </a:r>
            <a:br>
              <a:rPr sz="3200"/>
            </a:br>
            <a:r>
              <a:rPr b="1" lang="ru-RU" sz="3200" spc="-1" strike="noStrike">
                <a:solidFill>
                  <a:srgbClr val="996600"/>
                </a:solidFill>
                <a:latin typeface="Times New Roman"/>
              </a:rPr>
              <a:t>«Самое дорогое»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10920" y="5003280"/>
            <a:ext cx="777708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Учитель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МОУ СОШ №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г. Владими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Чуркина Ирина Валерьев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1"/>
          <p:cNvSpPr/>
          <p:nvPr/>
        </p:nvSpPr>
        <p:spPr>
          <a:xfrm>
            <a:off x="5580000" y="1079640"/>
            <a:ext cx="4140360" cy="3060720"/>
          </a:xfrm>
          <a:prstGeom prst="wedgeEllipseCallout">
            <a:avLst>
              <a:gd name="adj1" fmla="val -16976"/>
              <a:gd name="adj2" fmla="val 7771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2"/>
          <p:cNvSpPr/>
          <p:nvPr/>
        </p:nvSpPr>
        <p:spPr>
          <a:xfrm>
            <a:off x="539640" y="2160720"/>
            <a:ext cx="4680000" cy="2520720"/>
          </a:xfrm>
          <a:prstGeom prst="wedgeEllipseCallout">
            <a:avLst>
              <a:gd name="adj1" fmla="val 22300"/>
              <a:gd name="adj2" fmla="val 7607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6300720" y="720720"/>
            <a:ext cx="2879640" cy="3600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1476360" y="1728720"/>
            <a:ext cx="2340000" cy="3232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3"/>
          <a:stretch/>
        </p:blipFill>
        <p:spPr>
          <a:xfrm>
            <a:off x="3060720" y="1979640"/>
            <a:ext cx="1328760" cy="2879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4"/>
          <a:stretch/>
        </p:blipFill>
        <p:spPr>
          <a:xfrm>
            <a:off x="3060720" y="4859280"/>
            <a:ext cx="5219640" cy="25210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7"/>
          <p:cNvSpPr/>
          <p:nvPr/>
        </p:nvSpPr>
        <p:spPr>
          <a:xfrm>
            <a:off x="5940360" y="360360"/>
            <a:ext cx="31575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Много-мног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Freeform 8"/>
          <p:cNvSpPr/>
          <p:nvPr/>
        </p:nvSpPr>
        <p:spPr>
          <a:xfrm>
            <a:off x="6640560" y="1395360"/>
            <a:ext cx="2340000" cy="2521080"/>
          </a:xfrm>
          <a:custGeom>
            <a:avLst/>
            <a:gdLst/>
            <a:ahLst/>
            <a:rect l="l" t="t" r="r" b="b"/>
            <a:pathLst>
              <a:path w="6501" h="7001">
                <a:moveTo>
                  <a:pt x="6500" y="0"/>
                </a:moveTo>
                <a:lnTo>
                  <a:pt x="0" y="7000"/>
                </a:lnTo>
              </a:path>
            </a:pathLst>
          </a:custGeom>
          <a:noFill/>
          <a:ln w="252000">
            <a:solidFill>
              <a:srgbClr val="ff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Freeform 9"/>
          <p:cNvSpPr/>
          <p:nvPr/>
        </p:nvSpPr>
        <p:spPr>
          <a:xfrm>
            <a:off x="6381720" y="1527120"/>
            <a:ext cx="2340000" cy="2340000"/>
          </a:xfrm>
          <a:custGeom>
            <a:avLst/>
            <a:gdLst/>
            <a:ahLst/>
            <a:rect l="l" t="t" r="r" b="b"/>
            <a:pathLst>
              <a:path w="6501" h="6501">
                <a:moveTo>
                  <a:pt x="0" y="0"/>
                </a:moveTo>
                <a:lnTo>
                  <a:pt x="6500" y="6500"/>
                </a:lnTo>
              </a:path>
            </a:pathLst>
          </a:custGeom>
          <a:noFill/>
          <a:ln w="252000">
            <a:solidFill>
              <a:srgbClr val="ff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"/>
          <p:cNvSpPr/>
          <p:nvPr/>
        </p:nvSpPr>
        <p:spPr>
          <a:xfrm>
            <a:off x="3419640" y="5040360"/>
            <a:ext cx="18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2"/>
          <p:cNvSpPr/>
          <p:nvPr/>
        </p:nvSpPr>
        <p:spPr>
          <a:xfrm>
            <a:off x="0" y="720720"/>
            <a:ext cx="9748800" cy="28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800080"/>
                </a:solidFill>
                <a:latin typeface="a_StamperDn"/>
              </a:rPr>
              <a:t> </a:t>
            </a:r>
            <a:r>
              <a:rPr b="0" lang="en-GB" sz="4400" spc="-1" strike="noStrike">
                <a:solidFill>
                  <a:srgbClr val="cc9900"/>
                </a:solidFill>
                <a:latin typeface="a_StamperDn"/>
              </a:rPr>
              <a:t>Русская народная сказ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720720" y="1908000"/>
            <a:ext cx="8807400" cy="49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9600" spc="-1" strike="noStrike">
                <a:solidFill>
                  <a:srgbClr val="996600"/>
                </a:solidFill>
                <a:latin typeface="Arlekino"/>
              </a:rPr>
              <a:t>Самое дорогое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31680" y="1077480"/>
            <a:ext cx="8932680" cy="55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9600" spc="-1" strike="noStrike">
                <a:solidFill>
                  <a:srgbClr val="cc9900"/>
                </a:solidFill>
                <a:latin typeface="Times New Roman"/>
              </a:rPr>
              <a:t>Учимся читать</a:t>
            </a:r>
            <a:br>
              <a:rPr sz="9600"/>
            </a:br>
            <a:r>
              <a:rPr b="0" lang="en-GB" sz="9600" spc="-1" strike="noStrike">
                <a:solidFill>
                  <a:srgbClr val="ffcc66"/>
                </a:solidFill>
                <a:latin typeface="Times New Roman"/>
              </a:rPr>
              <a:t>Читая</a:t>
            </a:r>
            <a:r>
              <a:rPr b="0" lang="ru-RU" sz="9600" spc="-1" strike="noStrike">
                <a:solidFill>
                  <a:srgbClr val="ffcc66"/>
                </a:solidFill>
                <a:latin typeface="Times New Roman"/>
              </a:rPr>
              <a:t>-</a:t>
            </a:r>
            <a:r>
              <a:rPr b="0" lang="en-GB" sz="9600" spc="-1" strike="noStrike">
                <a:solidFill>
                  <a:srgbClr val="ffcc66"/>
                </a:solidFill>
                <a:latin typeface="Times New Roman"/>
              </a:rPr>
              <a:t>думаем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900000" y="360360"/>
            <a:ext cx="8460000" cy="684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1438200" y="2340000"/>
            <a:ext cx="3421080" cy="48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647640" y="374760"/>
            <a:ext cx="9072720" cy="71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ff9900"/>
                </a:solidFill>
                <a:latin typeface="Arial"/>
              </a:rPr>
              <a:t>Почему старик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ff9900"/>
                </a:solidFill>
                <a:latin typeface="Arial"/>
              </a:rPr>
              <a:t>      </a:t>
            </a:r>
            <a:r>
              <a:rPr b="0" lang="ru-RU" sz="9600" spc="-1" strike="noStrike">
                <a:solidFill>
                  <a:srgbClr val="ff9900"/>
                </a:solidFill>
                <a:latin typeface="Arial"/>
              </a:rPr>
              <a:t>изменил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ff9900"/>
                </a:solidFill>
                <a:latin typeface="Arial"/>
              </a:rPr>
              <a:t>свое решение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720720" y="2655720"/>
            <a:ext cx="4680000" cy="21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171000" bIns="171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тонкая ветк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без листьев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809640" y="360360"/>
            <a:ext cx="2251080" cy="18003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5392800" y="900000"/>
            <a:ext cx="341136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0" rIns="216000" tIns="171000" bIns="171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ПРУТИК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5676840" y="2340000"/>
            <a:ext cx="3503520" cy="45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720720" y="2583000"/>
            <a:ext cx="5400720" cy="28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171000" bIns="171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приспособление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для ручного         скручива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шерстяной нит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809640" y="360360"/>
            <a:ext cx="2251080" cy="1800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6300720" y="2340000"/>
            <a:ext cx="2700360" cy="5040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4422600" y="863640"/>
            <a:ext cx="347220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0" rIns="216000" tIns="171000" bIns="171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ПРЯЛК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647640" y="374760"/>
            <a:ext cx="9072720" cy="71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ff9900"/>
                </a:solidFill>
                <a:latin typeface="Arial"/>
              </a:rPr>
              <a:t>Почему старик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ff9900"/>
                </a:solidFill>
                <a:latin typeface="Arial"/>
              </a:rPr>
              <a:t>      </a:t>
            </a:r>
            <a:r>
              <a:rPr b="0" lang="ru-RU" sz="9600" spc="-1" strike="noStrike">
                <a:solidFill>
                  <a:srgbClr val="ff9900"/>
                </a:solidFill>
                <a:latin typeface="Arial"/>
              </a:rPr>
              <a:t>изменил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ff9900"/>
                </a:solidFill>
                <a:latin typeface="Arial"/>
              </a:rPr>
              <a:t>свое решение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1619280" y="179280"/>
            <a:ext cx="2879640" cy="6840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6119640" y="1440000"/>
            <a:ext cx="2784600" cy="48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Ирина</cp:lastModifiedBy>
  <dcterms:modified xsi:type="dcterms:W3CDTF">2013-10-11T12:02:42Z</dcterms:modified>
  <cp:revision>12</cp:revision>
  <dc:subject/>
  <dc:title>Слайд 1</dc:title>
</cp:coreProperties>
</file>