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274760" y="1092240"/>
            <a:ext cx="47959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528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800" y="4588200"/>
            <a:ext cx="8602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8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0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40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80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40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800" y="2101320"/>
            <a:ext cx="8602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800" y="620640"/>
            <a:ext cx="86025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8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00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800" y="4588200"/>
            <a:ext cx="8602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60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800" y="2101320"/>
            <a:ext cx="8602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5580000" y="1079640"/>
            <a:ext cx="4140360" cy="3060720"/>
          </a:xfrm>
          <a:prstGeom prst="wedgeEllipseCallout">
            <a:avLst>
              <a:gd name="adj1" fmla="val -16976"/>
              <a:gd name="adj2" fmla="val 77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539640" y="2160720"/>
            <a:ext cx="4680000" cy="2520720"/>
          </a:xfrm>
          <a:prstGeom prst="wedgeEllipseCallout">
            <a:avLst>
              <a:gd name="adj1" fmla="val 22300"/>
              <a:gd name="adj2" fmla="val 760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060720" y="4859280"/>
            <a:ext cx="5219640" cy="2521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4500720" y="243000"/>
            <a:ext cx="5410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Большое-пребольш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5940360" y="126036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079640" y="1440000"/>
            <a:ext cx="1979640" cy="162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3240000" y="1979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3059280" y="3240000"/>
            <a:ext cx="21621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Freeform 9"/>
          <p:cNvSpPr/>
          <p:nvPr/>
        </p:nvSpPr>
        <p:spPr>
          <a:xfrm>
            <a:off x="6300720" y="1440000"/>
            <a:ext cx="2422440" cy="2428560"/>
          </a:xfrm>
          <a:custGeom>
            <a:avLst/>
            <a:gdLst/>
            <a:ahLst/>
            <a:rect l="l" t="t" r="r" b="b"/>
            <a:pathLst>
              <a:path w="6728" h="6745">
                <a:moveTo>
                  <a:pt x="0" y="0"/>
                </a:moveTo>
                <a:lnTo>
                  <a:pt x="6727" y="6744"/>
                </a:lnTo>
              </a:path>
            </a:pathLst>
          </a:custGeom>
          <a:noFill/>
          <a:ln w="2520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6640560" y="1395360"/>
            <a:ext cx="2340000" cy="2521080"/>
          </a:xfrm>
          <a:custGeom>
            <a:avLst/>
            <a:gdLst/>
            <a:ahLst/>
            <a:rect l="l" t="t" r="r" b="b"/>
            <a:pathLst>
              <a:path w="6501" h="7001">
                <a:moveTo>
                  <a:pt x="6500" y="0"/>
                </a:moveTo>
                <a:lnTo>
                  <a:pt x="0" y="7000"/>
                </a:lnTo>
              </a:path>
            </a:pathLst>
          </a:custGeom>
          <a:noFill/>
          <a:ln w="2520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6"/>
          <a:stretch/>
        </p:blipFill>
        <p:spPr>
          <a:xfrm>
            <a:off x="1079640" y="2629080"/>
            <a:ext cx="28796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>
            <a:off x="5580000" y="1079640"/>
            <a:ext cx="4140360" cy="3060720"/>
          </a:xfrm>
          <a:prstGeom prst="wedgeEllipseCallout">
            <a:avLst>
              <a:gd name="adj1" fmla="val -16976"/>
              <a:gd name="adj2" fmla="val 77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539640" y="2160720"/>
            <a:ext cx="4680000" cy="2520720"/>
          </a:xfrm>
          <a:prstGeom prst="wedgeEllipseCallout">
            <a:avLst>
              <a:gd name="adj1" fmla="val 22300"/>
              <a:gd name="adj2" fmla="val 760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60720" y="4859280"/>
            <a:ext cx="5219640" cy="252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6676920" y="243000"/>
            <a:ext cx="190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Тысяч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580000" y="360360"/>
            <a:ext cx="431964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900000" y="1619280"/>
            <a:ext cx="1621080" cy="16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2340000" y="2160720"/>
            <a:ext cx="2879640" cy="2520720"/>
          </a:xfrm>
          <a:prstGeom prst="rect">
            <a:avLst/>
          </a:prstGeom>
          <a:ln w="0">
            <a:noFill/>
          </a:ln>
        </p:spPr>
      </p:pic>
      <p:sp>
        <p:nvSpPr>
          <p:cNvPr id="62" name="Freeform 8"/>
          <p:cNvSpPr/>
          <p:nvPr/>
        </p:nvSpPr>
        <p:spPr>
          <a:xfrm>
            <a:off x="6640560" y="1395360"/>
            <a:ext cx="2340000" cy="2521080"/>
          </a:xfrm>
          <a:custGeom>
            <a:avLst/>
            <a:gdLst/>
            <a:ahLst/>
            <a:rect l="l" t="t" r="r" b="b"/>
            <a:pathLst>
              <a:path w="6501" h="7001">
                <a:moveTo>
                  <a:pt x="6500" y="0"/>
                </a:moveTo>
                <a:lnTo>
                  <a:pt x="0" y="7000"/>
                </a:lnTo>
              </a:path>
            </a:pathLst>
          </a:custGeom>
          <a:noFill/>
          <a:ln w="2520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6300720" y="1440000"/>
            <a:ext cx="2422440" cy="2428560"/>
          </a:xfrm>
          <a:custGeom>
            <a:avLst/>
            <a:gdLst/>
            <a:ahLst/>
            <a:rect l="l" t="t" r="r" b="b"/>
            <a:pathLst>
              <a:path w="6728" h="6745">
                <a:moveTo>
                  <a:pt x="0" y="0"/>
                </a:moveTo>
                <a:lnTo>
                  <a:pt x="6727" y="6744"/>
                </a:lnTo>
              </a:path>
            </a:pathLst>
          </a:custGeom>
          <a:noFill/>
          <a:ln w="2520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260360" y="2882880"/>
            <a:ext cx="7559640" cy="450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7559640" y="1079640"/>
            <a:ext cx="1800360" cy="45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720720" y="179280"/>
            <a:ext cx="2879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63640" y="893880"/>
            <a:ext cx="8623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00"/>
                </a:solidFill>
                <a:latin typeface="Arial"/>
              </a:rPr>
              <a:t>Какая пословица подходит к этой сказ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76360" y="3780000"/>
            <a:ext cx="8928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Скучен день до вечер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коли делать нече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19280" y="2160720"/>
            <a:ext cx="78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Где труд, там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счасть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47640" y="5580000"/>
            <a:ext cx="892980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Деньги потерял – ничего не потерял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время потерял – многое потеря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здоровье потерял – все потеря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800360" y="2533680"/>
            <a:ext cx="18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31880" y="1633680"/>
            <a:ext cx="181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79640" y="539640"/>
            <a:ext cx="486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440000" y="1619280"/>
            <a:ext cx="48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00360" y="2160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720720" y="179280"/>
            <a:ext cx="750240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Arlekino"/>
              </a:rPr>
              <a:t>Я сегодня узнал..</a:t>
            </a:r>
            <a:r>
              <a:rPr b="0" lang="en-GB" sz="7200" spc="-1" strike="noStrike">
                <a:solidFill>
                  <a:srgbClr val="ff0000"/>
                </a:solidFill>
                <a:latin typeface="Arlekino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79440" y="3600360"/>
            <a:ext cx="466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ae00"/>
                </a:solidFill>
                <a:latin typeface="Arlekino"/>
              </a:rPr>
              <a:t>Мне было..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20720" y="5398920"/>
            <a:ext cx="360036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99ff"/>
                </a:solidFill>
                <a:latin typeface="Arlekino"/>
              </a:rPr>
              <a:t>Я рад..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9640" y="1800360"/>
            <a:ext cx="56642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e6e64c"/>
                </a:solidFill>
                <a:latin typeface="Arlekino"/>
              </a:rPr>
              <a:t>Я научился..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539640" y="1979640"/>
            <a:ext cx="954108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340000" y="2879640"/>
            <a:ext cx="12960360" cy="2521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20720" y="399960"/>
            <a:ext cx="85993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171000" bIns="171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Домашняя работа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Напиши мини-сочинение на тему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3-10-11T12:03:31Z</dcterms:modified>
  <cp:revision>13</cp:revision>
  <dc:subject/>
  <dc:title>Слайд 1</dc:title>
</cp:coreProperties>
</file>