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8BF-A01E-41BC-AA52-5716A837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D34-983B-4948-A047-6BC9B8FA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CA0-0D7F-4930-8BC7-83F3F55F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5CA-0A76-42CE-8DB4-3E4D3DC5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396-D2A7-4DF9-BE29-298CC3C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204-AB53-49E9-B8E8-B1338DE6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E1E-2A18-4AAA-AA16-E1B7F18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837-2F1C-4A13-840A-947EFECA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1B2-DF5E-420C-89D0-6DC2DEE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F45-9894-405D-8947-E5F15CC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34C-D34B-454E-89E0-5DBA562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DB7-D823-4690-BAFE-34E7EC7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8F3F-6A0A-4694-9C62-0E1110372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дительское собрание «Как помочь ребенку в приготовлении уро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Запривода Ан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468360" y="549360"/>
            <a:ext cx="8064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держивайте старание ребёнка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755640" y="2349360"/>
            <a:ext cx="7272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сказывайте уверенность, чт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1042920" y="4292640"/>
            <a:ext cx="64105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ё у него получитс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8" descr="j0281970"/>
          <p:cNvPicPr/>
          <p:nvPr/>
        </p:nvPicPr>
        <p:blipFill>
          <a:blip r:embed="rId1"/>
          <a:stretch/>
        </p:blipFill>
        <p:spPr>
          <a:xfrm>
            <a:off x="7342200" y="3429000"/>
            <a:ext cx="1801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539640" y="1557360"/>
            <a:ext cx="763272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6" name="Picture 5" descr="j0232988"/>
          <p:cNvPicPr/>
          <p:nvPr/>
        </p:nvPicPr>
        <p:blipFill>
          <a:blip r:embed="rId1"/>
          <a:stretch/>
        </p:blipFill>
        <p:spPr>
          <a:xfrm>
            <a:off x="6084720" y="3576600"/>
            <a:ext cx="25909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332000" y="333360"/>
            <a:ext cx="6840360" cy="37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ительское собр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71360" y="4076640"/>
            <a:ext cx="89726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омочь ребёнку в приготовлении уро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6" descr="j0292122"/>
          <p:cNvPicPr/>
          <p:nvPr/>
        </p:nvPicPr>
        <p:blipFill>
          <a:blip r:embed="rId1"/>
          <a:stretch/>
        </p:blipFill>
        <p:spPr>
          <a:xfrm>
            <a:off x="6227640" y="5148360"/>
            <a:ext cx="2105280" cy="17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Родители, которые предоставл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детям полную самосто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 приготовлении уроков, так 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неправы, как и те, которые сра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начинают чрезмерно опе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232133"/>
          <p:cNvPicPr/>
          <p:nvPr/>
        </p:nvPicPr>
        <p:blipFill>
          <a:blip r:embed="rId1"/>
          <a:stretch/>
        </p:blipFill>
        <p:spPr>
          <a:xfrm>
            <a:off x="5364000" y="1916280"/>
            <a:ext cx="3508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Присутствуя при приготовлении первоклассником домашних заданий, родители подбадривают его, объясняют, если ребёнок что-то не понял или забыл, но не подменяют его деятельность сво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роверьте, правильно ли организовано рабочее место ребё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све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икаких лишних предметов на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 выполнению домашнего задания лучше всего приступить через 1-2 часа после возвращения из школы (чтобы ребёнок успел отдохнуть от занятий, но ещё не устал и не перевозбудился от домашних развлечений и игр с товарищ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j0188663"/>
          <p:cNvPicPr/>
          <p:nvPr/>
        </p:nvPicPr>
        <p:blipFill>
          <a:blip r:embed="rId1"/>
          <a:stretch/>
        </p:blipFill>
        <p:spPr>
          <a:xfrm>
            <a:off x="6649920" y="4890960"/>
            <a:ext cx="18273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Помните про перерывы во время выполнения домашнего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7-летнего ребёнка время непрерывной работы – 15-20 м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онцу начальной школы – 30-4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(для перерыва достаточно 5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232051"/>
          <p:cNvPicPr/>
          <p:nvPr/>
        </p:nvPicPr>
        <p:blipFill>
          <a:blip r:embed="rId1"/>
          <a:stretch/>
        </p:blipFill>
        <p:spPr>
          <a:xfrm>
            <a:off x="5913360" y="3456000"/>
            <a:ext cx="2014560" cy="228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232067"/>
          <p:cNvPicPr/>
          <p:nvPr/>
        </p:nvPicPr>
        <p:blipFill>
          <a:blip r:embed="rId2"/>
          <a:stretch/>
        </p:blipFill>
        <p:spPr>
          <a:xfrm>
            <a:off x="1938240" y="4390920"/>
            <a:ext cx="1389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Не рекомендуется давать ребёнку         дополнительных домашних заданий, кроме тех, которые дали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Не заставляйте переделывать плохо выполненную классную работу (лучше её проверить и исправить ошиб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0232128"/>
          <p:cNvPicPr/>
          <p:nvPr/>
        </p:nvPicPr>
        <p:blipFill>
          <a:blip r:embed="rId1"/>
          <a:stretch/>
        </p:blipFill>
        <p:spPr>
          <a:xfrm>
            <a:off x="3916440" y="4176720"/>
            <a:ext cx="1881000" cy="1730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j0292134"/>
          <p:cNvPicPr/>
          <p:nvPr/>
        </p:nvPicPr>
        <p:blipFill>
          <a:blip r:embed="rId2"/>
          <a:stretch/>
        </p:blipFill>
        <p:spPr>
          <a:xfrm>
            <a:off x="6488280" y="3079800"/>
            <a:ext cx="1433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Приучить сына или дочь вовремя садиться за уро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подсказать, когда пришло время сделать перерыв и когда его надо закон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0" y="260280"/>
            <a:ext cx="91915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ое правило для родителей первоклассника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j0292086"/>
          <p:cNvPicPr/>
          <p:nvPr/>
        </p:nvPicPr>
        <p:blipFill>
          <a:blip r:embed="rId1"/>
          <a:stretch/>
        </p:blipFill>
        <p:spPr>
          <a:xfrm>
            <a:off x="6588000" y="3789360"/>
            <a:ext cx="2054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от ребёнок сел за стол, достал тетрад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если это первоклассник, то маме или папе нужно быть около н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необходимо следить, чтобы он не отвлекался, не начинал посреди работы что-то рис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Ребёнок должен сразу же работать, не отвлека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если ребёнок не понял задачи, которую объясняли на уроке, повторите объяснение дома.(Но, конечно, нельзя за ребёнка решать задачу, проводить вычислен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292084"/>
          <p:cNvPicPr/>
          <p:nvPr/>
        </p:nvPicPr>
        <p:blipFill>
          <a:blip r:embed="rId1"/>
          <a:stretch/>
        </p:blipFill>
        <p:spPr>
          <a:xfrm>
            <a:off x="6019920" y="4221000"/>
            <a:ext cx="2800080" cy="240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95480"/>
          <p:cNvPicPr/>
          <p:nvPr/>
        </p:nvPicPr>
        <p:blipFill>
          <a:blip r:embed="rId2"/>
          <a:stretch/>
        </p:blipFill>
        <p:spPr>
          <a:xfrm>
            <a:off x="1278000" y="4621320"/>
            <a:ext cx="236376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остепенно нужно снижать степень контро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деть рядом с ребёнком не всё время выполнения им домашнего задания, а только первые минуты, пока он достанет всё, что нужно из портф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 можно подойти пару раз: постоять рядом несколько минут и снова ото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у начальной школы ребёнок должен научиться делать уроки самостоятельно, показывая родителям только готовый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292112"/>
          <p:cNvPicPr/>
          <p:nvPr/>
        </p:nvPicPr>
        <p:blipFill>
          <a:blip r:embed="rId1"/>
          <a:stretch/>
        </p:blipFill>
        <p:spPr>
          <a:xfrm>
            <a:off x="6838920" y="498168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j0294973"/>
          <p:cNvPicPr/>
          <p:nvPr/>
        </p:nvPicPr>
        <p:blipFill>
          <a:blip r:embed="rId2"/>
          <a:stretch/>
        </p:blipFill>
        <p:spPr>
          <a:xfrm>
            <a:off x="3611520" y="5173560"/>
            <a:ext cx="14511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3:32:14Z</dcterms:created>
  <dc:creator>Хозяин</dc:creator>
  <dc:description/>
  <dc:language>en-US</dc:language>
  <cp:lastModifiedBy>User</cp:lastModifiedBy>
  <dcterms:modified xsi:type="dcterms:W3CDTF">2013-10-11T05:12:27Z</dcterms:modified>
  <cp:revision>6</cp:revision>
  <dc:subject/>
  <dc:title>Слайд 1</dc:title>
</cp:coreProperties>
</file>