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A357-7288-4428-9C7F-7A2B3052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8056-4F3E-4D7D-BC42-1D78B061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3631-5FF4-49E9-9276-1E261721E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B9C6-B901-46AD-84E7-590A4DCF7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A5E5-37FB-480F-B872-E8B28A45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94B3-4936-454B-8575-102FA826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7DB5-E6BF-4AAD-82DF-AC244372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AB2B-94FC-4903-BF47-59222395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4B18-3929-44B9-A36C-AEA86161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6DD2-03A2-462A-8B67-43CCCE54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B8ED-7A55-4D14-B5C4-72E7AB24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136D-44E8-47C4-B16F-3E7C5CD4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659E-4CAF-4918-9885-B5FD6F19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8F1A-7C06-4F33-8A08-E8B4F837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852F-C83F-4758-9FDA-DFCD10A4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4FDB-CF8B-43EF-99CE-F3B64752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BAB4-6C98-419C-9213-48E607555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92EB-C8DD-4A80-AEC1-83FFB46A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3E93-48EB-4A77-A2D5-F1F0F2DF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75B2-E682-4836-BB0A-C7D681C0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B676-ED7B-4286-818E-DF842927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0495-E3CB-4023-AD1A-FE5CF057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76F7-FD0B-4119-953C-1D995B39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9A0D-5C87-49F8-8BD0-39003AAF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e1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A9A7-20A7-4DF0-A4C5-77A8F693425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e1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685B-6426-4A0D-AF92-E583448A946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15640" y="3468240"/>
            <a:ext cx="7488360" cy="226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600a6"/>
                </a:solidFill>
                <a:latin typeface="Arial"/>
              </a:rPr>
              <a:t>ПРЕЗЕНТАЦ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a600a6"/>
                </a:solidFill>
                <a:latin typeface="Arial"/>
              </a:rPr>
              <a:t>подготовила Касатова Ирина Александ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1979640" y="907920"/>
            <a:ext cx="698508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434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бытые старинные русские игры</a:t>
            </a:r>
            <a:endParaRPr b="0" lang="en-US" sz="18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434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434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(с предметами)</a:t>
            </a:r>
            <a:endParaRPr b="0" lang="en-US" sz="18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434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18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Большой мяч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грающие становятся в круг и берутся за руки. Водящий с мячом находится в середине круга. Он старается выкатить мяч из круга ногами, и тот, кто пропустил мяч между ног, становится водящим. Но он встает за кру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грающие поворачиваются спиной к центру. Теперь водящему нужно вкатить мяч в круг. Когда же мяч попадает в круг, играющие опять поворачиваются лицом друг к другу, а в середину встает тот, кто пропустил мяч. Игра повторя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равила игры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грающие не берут в руки мяч в течение всей игры, они перекатывают его только ног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C:\Documents and Settings\Admin\Мои документы\Мои рисунки\картинки к играм\веселый мяч.jpg"/>
          <p:cNvPicPr/>
          <p:nvPr/>
        </p:nvPicPr>
        <p:blipFill>
          <a:blip r:embed="rId1"/>
          <a:stretch/>
        </p:blipFill>
        <p:spPr>
          <a:xfrm>
            <a:off x="6518160" y="4307040"/>
            <a:ext cx="1657440" cy="1679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25040" y="179280"/>
            <a:ext cx="26053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Волчок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8" name="Содержимое 4" descr="волчок.jpg"/>
          <p:cNvPicPr/>
          <p:nvPr/>
        </p:nvPicPr>
        <p:blipFill>
          <a:blip r:embed="rId1"/>
          <a:stretch/>
        </p:blipFill>
        <p:spPr>
          <a:xfrm>
            <a:off x="5832360" y="3760920"/>
            <a:ext cx="2857680" cy="2533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8840" y="1479240"/>
            <a:ext cx="81342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гра Волчок имеет самые разнообразные и интереснейшие варианты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вый вариант игры в Волчок: играющие одновременно запускают все волчки. Чей волчок вращается дольше всех, тот и выигрыв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торой вариант: на столе расставляют любые имеющиеся предметы: шарики, чурочки, кубики и прочее. Волчки запускают по очереди. Чей волчок собьет наибольшее число предметов, тот и выигрыв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ретий: волчки запускают по очереди в ворот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ли между предметами, расставленными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ол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игрывает тот, чей волчок их не заде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твёртый: из цветной бумаги вырез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руги или квадраты — игровое пол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грающие одновременно пускают волч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ждый на своем игровом пол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й волчок не сойдет с игрового поля, т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игрывает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9040" y="272880"/>
            <a:ext cx="73962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Заря-заряниц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1" name="Содержимое 4" descr="платочек для Зари-заряницы.jpg"/>
          <p:cNvPicPr/>
          <p:nvPr/>
        </p:nvPicPr>
        <p:blipFill>
          <a:blip r:embed="rId1"/>
          <a:stretch/>
        </p:blipFill>
        <p:spPr>
          <a:xfrm>
            <a:off x="7072200" y="4638600"/>
            <a:ext cx="1627200" cy="1695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9200" y="1437840"/>
            <a:ext cx="8121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грающие участники садятся в один круг на корточ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дящий («заря-заряница») ходит вне круга и прячет за своей спиной «ключи» – небольшой платочек с завязанным узелком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Ходит вокруг «заря-заряница» и вместе со всеми приговаривает: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Заря-заряниц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расная девиц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небу ходил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лючи обронил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сяц видел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лнце скрало!»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дящий всегда пытается незаметно положить кому-нибудь из игроков сзади «ключи»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грающим строго запрещено оглядываться и поворачивать голов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от участник, кому подложили «ключи», сразу же быстр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ежит за водящим и бьет его платочком, приговарива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Не теряй ключей, не теряй ключей!»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йманный водящий садится в общий круг на его мест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 «запятнавший» теперь становится «зарею».</a:t>
            </a:r>
            <a:br>
              <a:rPr sz="14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2040" y="272520"/>
            <a:ext cx="6388200" cy="90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Малечина - калечин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12440" y="1533240"/>
            <a:ext cx="44910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тавив палочку на палец, ладонь, ногу и т.д., нужно держать ее в равновесии, пока произносят слова: «Малечина-калечина» сколько часов до вечера? Раз, два, …десять. !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гда палка падает, ее следует подхватить второй рукой, не допуская полного падения на землю. Счет ведется только до подхвата второй рукой, а не до падения на землю. Выигрывает тот, кто дольше продержит палочку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алку можно держать по-разному: на тыльной стороне ладони, на локте, на плече, на голо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особы удержания палки на руке, а также трудность заданий определяются возрастом и возможностями дет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C:\Documents and Settings\Admin\Рабочий стол\игры\картинки к играм\30-300x382.jpg"/>
          <p:cNvPicPr/>
          <p:nvPr/>
        </p:nvPicPr>
        <p:blipFill>
          <a:blip r:embed="rId1"/>
          <a:stretch/>
        </p:blipFill>
        <p:spPr>
          <a:xfrm>
            <a:off x="5234040" y="2151000"/>
            <a:ext cx="3456000" cy="4400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8800" y="326880"/>
            <a:ext cx="49212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Котел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7" name="Содержимое 4" descr="котел.jpg"/>
          <p:cNvPicPr/>
          <p:nvPr/>
        </p:nvPicPr>
        <p:blipFill>
          <a:blip r:embed="rId1"/>
          <a:stretch/>
        </p:blipFill>
        <p:spPr>
          <a:xfrm>
            <a:off x="3454560" y="2298600"/>
            <a:ext cx="5462280" cy="40928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39800" y="1425240"/>
            <a:ext cx="2712960" cy="46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дящий гонит клюшкой шар, стараясь закатить его в «котел» (ямка, находящаяся в середине круга), или занять концом своей клюшки одну из лунок вокруг «котла», хотя каждую охраняет игрок с клюш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47440" y="272880"/>
            <a:ext cx="54450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Гонок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0" name="Содержимое 4" descr="гонок игра.jpg"/>
          <p:cNvPicPr/>
          <p:nvPr/>
        </p:nvPicPr>
        <p:blipFill>
          <a:blip r:embed="rId1"/>
          <a:srcRect l="0" t="0" r="23881" b="0"/>
          <a:stretch/>
        </p:blipFill>
        <p:spPr>
          <a:xfrm>
            <a:off x="4075200" y="1828800"/>
            <a:ext cx="4732200" cy="44784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8400" y="1479240"/>
            <a:ext cx="32148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вижная игра, которая уже несколько столетий известна и в Европе и в Азии. На картине Питера Брейгеля «Детские игры» (1560 г.) мальчик бежит за обручем, подталкивая его специальной погонялкой-гонком. Это большое удовольствие и для детей и для взрослых управлять «послушным» обручем и выделывать различные трю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39440" y="260280"/>
            <a:ext cx="4151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Закрутих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8800" y="1438200"/>
            <a:ext cx="28065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вид очень простая, но захватывающая и азартная игра. Двое игроков с помощью ракеток стараются закрутить привязанный на веревке мячик, каждый в свою сторону, пока вся веревка не намоталась. В чью сторону больше витков, тот и победил. Можно играть на вре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Содержимое 6" descr="закрутиха.jpg"/>
          <p:cNvPicPr/>
          <p:nvPr/>
        </p:nvPicPr>
        <p:blipFill>
          <a:blip r:embed="rId1"/>
          <a:stretch/>
        </p:blipFill>
        <p:spPr>
          <a:xfrm>
            <a:off x="3454560" y="2502000"/>
            <a:ext cx="5294160" cy="3975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3200" y="272880"/>
            <a:ext cx="2792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Репк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6" name="Содержимое 4" descr="репка к игре.jpg"/>
          <p:cNvPicPr/>
          <p:nvPr/>
        </p:nvPicPr>
        <p:blipFill>
          <a:blip r:embed="rId1"/>
          <a:stretch/>
        </p:blipFill>
        <p:spPr>
          <a:xfrm>
            <a:off x="3925800" y="3227400"/>
            <a:ext cx="4935600" cy="33066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2400" y="1533240"/>
            <a:ext cx="30528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гра у столба. Один из играющих держится за столб (он репа), остальные становятся за ним в цепочку, обхватывают друг друга за талию и пытаются отцепить его от столба. Если играющим это удается, то все они теряют равновесие и падают на землю, только самые ловкие участники забавы могут удержаться на ногах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сли ряд оборвался, а репку не вытащили, все смеются: «Не поели репки»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7440" y="272880"/>
            <a:ext cx="51498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Моталы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9" name="Содержимое 4" descr="кто быстрее скрутит.jpg"/>
          <p:cNvPicPr/>
          <p:nvPr/>
        </p:nvPicPr>
        <p:blipFill>
          <a:blip r:embed="rId1"/>
          <a:stretch/>
        </p:blipFill>
        <p:spPr>
          <a:xfrm>
            <a:off x="2651040" y="2017800"/>
            <a:ext cx="6040440" cy="40543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2400" y="1518840"/>
            <a:ext cx="271296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дача проста - кто быстрее смотает веревочку 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редин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2840" y="272520"/>
            <a:ext cx="8188200" cy="81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ГИГАНТСКИЕ  МОТАЛЬЩИКИ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2" name="Содержимое 4" descr="Мотальщики.jpg"/>
          <p:cNvPicPr/>
          <p:nvPr/>
        </p:nvPicPr>
        <p:blipFill>
          <a:blip r:embed="rId1"/>
          <a:stretch/>
        </p:blipFill>
        <p:spPr>
          <a:xfrm>
            <a:off x="2817720" y="2259000"/>
            <a:ext cx="5869080" cy="39132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398600"/>
            <a:ext cx="277956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дача проста - кто быстрее смотает веревочку 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редины, но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и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тальщик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равиться т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двоем или да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четве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4800" y="390240"/>
            <a:ext cx="763920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Цель: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8580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знакомить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 описанием и правил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таринных русских игр с предметам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93800" y="272880"/>
            <a:ext cx="73692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ИГРОВОЙ СТОЛ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5" name="Содержимое 4" descr="игровой стол.jpg"/>
          <p:cNvPicPr/>
          <p:nvPr/>
        </p:nvPicPr>
        <p:blipFill>
          <a:blip r:embed="rId1"/>
          <a:srcRect l="16066" t="0" r="9646" b="0"/>
          <a:stretch/>
        </p:blipFill>
        <p:spPr>
          <a:xfrm>
            <a:off x="3630600" y="2120760"/>
            <a:ext cx="5176800" cy="44816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39440" y="1464840"/>
            <a:ext cx="2725560" cy="46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гровая площадка для тех, кто хочет показать свою ловкость, но не очень любит бегать и прыгать. На игровом столе собраны русские народные игры: малечина, закидушки, накидущки, мотальщики, юлы на ракетке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5400" y="277560"/>
            <a:ext cx="57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Законы: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грайте честно, дружно, соблюдая правила. Правила в игре – законы, которые надо соблюд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игре проявляйте побольше выдумки, смекалки (не нарушая принятых прави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грая с товарищами, помни, что ты не один (не выставляй всюду себя, давай играть другим, нарочно подолгу не вод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играх-поединках выбирайте противников, равных по сил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райтесь всё время выручать товарищей по команде. Закон каждой команды в игре: один за всех и все за од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горячитесь понапрасну! Так вернее прийти к побе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8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Задачи: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82640" y="2319120"/>
            <a:ext cx="801864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паганда здорового образа жиз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пуляризация старинных русских иг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азвитие физических и морально-волевых  качест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4040" y="304560"/>
            <a:ext cx="48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Лапт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4" name="Picture 5" descr="Рисунок17"/>
          <p:cNvPicPr/>
          <p:nvPr/>
        </p:nvPicPr>
        <p:blipFill>
          <a:blip r:embed="rId1"/>
          <a:srcRect l="1226" t="4930" r="2162" b="0"/>
          <a:stretch/>
        </p:blipFill>
        <p:spPr>
          <a:xfrm>
            <a:off x="2462040" y="4165560"/>
            <a:ext cx="4699080" cy="25574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701640" y="1593720"/>
            <a:ext cx="812016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лапту играют на большой площадке, лужайке в летнее время. Участвуют в ней дети, молодежь и взрослые, от 8 до 30 человек. Игра проводится самостоятельно. Судьями в игре обычно бывают капитаны команд, или матки, как их часто называют в этой иг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ля игры требуются небольшой тряпичный, резиновый или теннисный мяч и лапта— круглая палка длиной 70—80 см и толщиной 3—3,5 см. С одного конца ее немного стесывают, чтобы легче было держать в руках; на другом конце она остается круглой (для начинающих можно сделать ее лопатообразно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84080" y="1647720"/>
            <a:ext cx="8359920" cy="54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двух сторонах площадки — «поля» — на расстоянии 40—80 м чертят или отмечают ветками или другими предметами две линии — линию кона и линию «города». Выбирают двух капитанов (маток) и разделяются на две команды любым способом (обычно путем сговаривания). По жребию одна команда становится за линию «города»; другая размещается произвольно в «поле». Капитан полевой команды посылает одного игрока в «город» для подачи мяч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очереди первый метальщик — игрок «города» — берет лапту и становится у линии «города», напротив него находится подающий, который подбрасывает мяч, а метальщик отбивает его лаптой в «поле» как можно выше и дальше. Полевые игроки стараются поймать его с воздуха или схватить с земли. Пробивший удачно по мячу бежит на кон и возвращается в «город», за что зарабатывает 1 очко. Игроки «поля», схватив мяч с земли, пытаются осалить мячом перебегающих. Если кого-либо осалят, сами бегут в «город», а игроки из «города» бегут в «поле» и стремятся попасть мячом в игрока, не успевшего убежать в «город» (т. е. стремятся «отсалиться»). Команда, успевшая в полном составе занять «город», остается там и начинает отбивать мяч в «поле». Если полевой игрок поймает его с воздуха («свечу»), вся его команда переходит в «город», а бывшие в «городе» идут в «поле». И так идет борьба за овладение «городо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грают до определенного количества очков или на условленное время. Команда, получившая больше очков, выигрыв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72240" y="382680"/>
            <a:ext cx="519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Описание иг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03360" y="1585800"/>
            <a:ext cx="854064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гроки «города» отбивают мяч в «поле» по очереди, установленной капита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ждый игрок бьет по мячу 1 раз, а капитан имеет право на 3 уда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ающий должен подбрасывать мяч так, чтобы было легко ударить по нему, иначе он обязан повторить подбрасывание. И так до 3 раз, Если 3 раза он подбросит плохо, его сменя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ебегающий должен оставить лапту в «городе», иначе обязан возвратиться за 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падание мячом засчитывается лишь в том случае, если он попадет в игрока непосредственно, а не отскочив от чего-либ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сли игрок пробил мяч слабо, он может не бежать на кон, а ждать хорошего удара, выполненного затем кем-либо из других игроков, Поэтому одновременно могут бежать несколько игроков, пробивших мяч неудач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ающий имеет право осаливать перебегающих, как и игроки «поля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ебегать можно только до тех пор, пока мяч находится вне «гор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ернувшийся в «город» игрок имеет право отбивать мяч в «поле» в порядке очере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98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Правила игры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4240" y="27756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Штандер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1" name="Picture 5" descr="Рисунок18"/>
          <p:cNvPicPr/>
          <p:nvPr/>
        </p:nvPicPr>
        <p:blipFill>
          <a:blip r:embed="rId1"/>
          <a:srcRect l="0" t="0" r="3427" b="4814"/>
          <a:stretch/>
        </p:blipFill>
        <p:spPr>
          <a:xfrm>
            <a:off x="5572080" y="4683240"/>
            <a:ext cx="3495600" cy="2124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860400" y="1654200"/>
            <a:ext cx="390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650880" y="1598760"/>
            <a:ext cx="8493120" cy="37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 algn="just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грающие становятся в круг и рассчитываются по порядку номеров. Один из них (водящий) получает маленький мяч и выходит на середину кру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дящий сильно ударяет мячом о землю и называет чей-нибудь номер. Вызванный бежит за мячом, а остальные играющие разбегаются в разные стороны. Вызванный (новый водящий), схватив мяч, кричит "Штандер" или "Стой!" Все останавливаются и стоят неподвижно там, где их застала команда. Водящий стремится попасть мячом в ближайшего игрока, который может увертываться от мяча, не сходя с места (наклоняться, приседать, подпрыгивать). Если водящий промахнется, то бежит за мячом, а остальные разбегаются. Взяв мяч, водящий кричит "Штандер" или "Стой!" и кидает мяч в кого-либо из играющих. Осаленный мячом игрок становится новым водящим. Играющие окружают его, и игра начинается снач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725400" y="4853160"/>
            <a:ext cx="481356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авила запрещают кому-либо сходить с места после команды "Стой!", но пока мяч не в руках водящего, можно как угодно перемещаться по площа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3656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Удочк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6" name="Picture 5" descr="Рисунок19"/>
          <p:cNvPicPr/>
          <p:nvPr/>
        </p:nvPicPr>
        <p:blipFill>
          <a:blip r:embed="rId1"/>
          <a:stretch/>
        </p:blipFill>
        <p:spPr>
          <a:xfrm>
            <a:off x="5675400" y="4183200"/>
            <a:ext cx="3352680" cy="24667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698400" y="1609560"/>
            <a:ext cx="7705800" cy="28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 algn="just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ля игры нужна веревочка длиной 3 - 4 м, на конце которой привязан мешочек, наполненный горохом или песком. Иногда для игры используют обычную скакалку. Это удочка, с помощью которой рыбак (водящий) ловит рыбок (остальных играющи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се играющие становятся в круг, а водящий - в середине круга с веревкой в руках. Он вращает веревочку с мешочком так, чтобы тот скользил по полу, делая круг за кругом под ногами играющих. Они внимательно следят за движением мешочка, подпрыгивают, чтобы он не задел кого-либо из них. Тот, кто заденет мешочек или веревку, становится в середину и начинает вращать веревку, а бывший водящий идет на его место в кр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739800" y="4626000"/>
            <a:ext cx="4707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666720" y="4459320"/>
            <a:ext cx="4869000" cy="26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 algn="just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йманным игрок считается в том случае, если веревочка коснулась его ноги не выше голеностопа. Не разрешается игрокам во время прыжков приближаться к водящ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 втором варианте простой удочки задевший веревку выбывает из игры. Выигрывают два-три игрока, оставшиеся последн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277560"/>
            <a:ext cx="736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Палочка</a:t>
            </a:r>
            <a:r>
              <a:rPr b="0" lang="ru-RU" sz="4200" spc="-1" strike="noStrike">
                <a:solidFill>
                  <a:srgbClr val="330033"/>
                </a:solidFill>
                <a:latin typeface="Garamond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- выручалочк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620640" y="1609560"/>
            <a:ext cx="81201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дин из играющих,    закрыв глаза, стоит у палочки-выручалочки и громко, но медленно считает до двадцати. В это время остальные дети разбегаются и прячутся. Окончив счет, водящий открывает глаза, стучит палочкой, говорит: «Палочка пришла, никого не нашла» - и идет искать спрятавшихся. Заметив первого из них, он громко произносит: «Палочка-выручалочка нашла...» (называет имя найденного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бежит к палочке. Найденный также бежит к палочке. Если он добежит первым и успеет сказать: «Палочка-выручалочка, выручи меня!», то считается вырученным, если же опоздает, то выходит из игры. Водящий старается найти спрятавшихся и вывести их из игры. Но это сделать трудно. После того как первый игрок найден, любой из остальных участников игры может быстро или незаметно для водящего подбежать к палочке-выручалочке и со словами: «Палочка-выручалочка, выручи всех!» четыре раза стукнуть палочкой о земл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Рисунок21"/>
          <p:cNvPicPr/>
          <p:nvPr/>
        </p:nvPicPr>
        <p:blipFill>
          <a:blip r:embed="rId1"/>
          <a:stretch/>
        </p:blipFill>
        <p:spPr>
          <a:xfrm>
            <a:off x="5703840" y="4570560"/>
            <a:ext cx="3394080" cy="21999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9"/>
          <p:cNvSpPr/>
          <p:nvPr/>
        </p:nvSpPr>
        <p:spPr>
          <a:xfrm>
            <a:off x="622440" y="4692600"/>
            <a:ext cx="4962240" cy="24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сли это игроку удается сделать до того, как водящий подбежит к палочке и схватит ее, то все ранее найденные игроки считаются вырученными, а водящий водит снова. Если же водящий, заметив подбегающего к палочке игрока, опередит его и первым схватит палочку, то такой игрок выходит из игры, как и все найденные до него, а водящий отправляется на пои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10:37:01Z</dcterms:created>
  <dc:creator>Bashta</dc:creator>
  <dc:description/>
  <dc:language>en-US</dc:language>
  <cp:lastModifiedBy>Admin</cp:lastModifiedBy>
  <dcterms:modified xsi:type="dcterms:W3CDTF">2013-10-11T07:08:40Z</dcterms:modified>
  <cp:revision>65</cp:revision>
  <dc:subject/>
  <dc:title>Забытые старинные русские игры (с предметами)</dc:title>
</cp:coreProperties>
</file>