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3.wmf" ContentType="image/x-wmf"/>
  <Override PartName="/ppt/media/image25.wmf" ContentType="image/x-wmf"/>
  <Override PartName="/ppt/media/image24.jpeg" ContentType="image/jpeg"/>
  <Override PartName="/ppt/media/image19.jpeg" ContentType="image/jpeg"/>
  <Override PartName="/ppt/media/image22.wmf" ContentType="image/x-wmf"/>
  <Override PartName="/ppt/media/image21.png" ContentType="image/png"/>
  <Override PartName="/ppt/media/image20.jpeg" ContentType="image/jpeg"/>
  <Override PartName="/ppt/media/image1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2.png" ContentType="image/png"/>
  <Override PartName="/ppt/media/image9.jpeg" ContentType="image/jpeg"/>
  <Override PartName="/ppt/media/image2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E1D-E65D-4FC0-AA6A-20373FD7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82B-A794-4DA6-8491-DC7BCB19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6C3-209E-4C24-9FE1-A24982CC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A1D-34AC-43F6-A953-78B0C243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AF0-4695-49C2-B8EF-71F78E2F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B46-CFE3-4F1B-BD1B-3D50EBE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F41-F8C7-4E98-AB24-E5C3EF15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CF3-7C9D-48F4-8941-BD277D5C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75A-4584-49D0-9A21-C467805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60B-48DD-4EA9-A1E4-DB9CA26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B84-C2D8-42BB-9B08-BBF4096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EAA-A8EE-43A8-AC81-F77156ED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0647-99BB-40E8-9FED-2BECF85C2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04920"/>
            <a:ext cx="853416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876920"/>
            <a:ext cx="8534160" cy="167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38188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Средняя общеобразовательная школа № 17»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Старый Оско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8534160" cy="25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18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презентация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 опыта работы учителя-логопе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второй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ильцовой Елены Ивановны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90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истема взаимодейств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учителя-логопеда  и род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 целях эффективного реш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коррекционных задач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3886200"/>
          <a:ext cx="126360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86200"/>
                    <a:ext cx="1263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68360" y="476280"/>
            <a:ext cx="2382840" cy="14540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57200"/>
            <a:ext cx="8686800" cy="12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457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ДЕРЖАНИЕ СТЕН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ГОТОВЛЕННОГО УЧИТЕЛЕМ-ЛОГОПЕД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ЛЯ РОДИТЕЛЕЙ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060640"/>
            <a:ext cx="5867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шц мелкой моторик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нимания детей младшего школьного возрас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осприятия детей младшего школьного возрас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лексико-грамматических категор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по закреплению лексико-грамматических категорий. (Для работы родителей с детьми в домашних условиях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автоматизации и дифференциации поставленных звук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01120" y="8380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4-200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ый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240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13000"/>
          <a:ext cx="892980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8929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2666520"/>
            <a:ext cx="762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286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,6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2362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,6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6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2743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286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572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Анализ уровня развития реч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-4572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77440" y="6858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5-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ый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240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1268280"/>
          <a:ext cx="833436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268280"/>
                    <a:ext cx="8334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2666520"/>
            <a:ext cx="762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048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590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.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01120" y="6094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6-2007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ый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240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3840" y="1298520"/>
          <a:ext cx="8334360" cy="429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298520"/>
                    <a:ext cx="83343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.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048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.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590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91440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380880"/>
            <a:ext cx="8367840" cy="627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380880"/>
            <a:ext cx="807696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УРОВНИ СОТРУДНИЧЕСТВА С СЕМЬ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семьи, выявление её способностей, интересов, потребностей- как основы создания доверительных отно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и уважение уже сложившегося стиля взаимоотношений в сем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 семье через привлечение её к педагогическому процесс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возможности для семьи участвовать в режиме работы логопедической группы и формах работы по развитию речи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 воспитания и развития ребёнка в семье и в школе за счёт участия семьи в реализации программы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304920"/>
          <a:ext cx="12193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04920"/>
                    <a:ext cx="1219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06668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File"/>
          <p:cNvSpPr/>
          <p:nvPr/>
        </p:nvSpPr>
        <p:spPr>
          <a:xfrm>
            <a:off x="3270240" y="473040"/>
            <a:ext cx="2309760" cy="122724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Формы и методы взаимодействия логопеда с семь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Document"/>
          <p:cNvSpPr/>
          <p:nvPr/>
        </p:nvSpPr>
        <p:spPr>
          <a:xfrm>
            <a:off x="755640" y="2117880"/>
            <a:ext cx="2592360" cy="174276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50000">
                <a:srgbClr val="93ff93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Встречи с р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Совместные с детьми, родителями занятия, развлечения, празд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Выставки совместных раб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Конфе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Document"/>
          <p:cNvSpPr/>
          <p:nvPr/>
        </p:nvSpPr>
        <p:spPr>
          <a:xfrm>
            <a:off x="3276720" y="5008680"/>
            <a:ext cx="2514600" cy="1528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d5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99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Бес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Домашние зад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иобщение к жизни логопедической группы, помощь в изготовлении пособ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ubChord"/>
          <p:cNvSpPr/>
          <p:nvPr/>
        </p:nvSpPr>
        <p:spPr>
          <a:xfrm rot="8580000">
            <a:off x="3628800" y="3168720"/>
            <a:ext cx="1827000" cy="141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ubChord"/>
          <p:cNvSpPr/>
          <p:nvPr/>
        </p:nvSpPr>
        <p:spPr>
          <a:xfrm rot="8691600">
            <a:off x="794880" y="779400"/>
            <a:ext cx="1868760" cy="13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41" y="3287"/>
                </a:moveTo>
                <a:arcTo wR="10800" hR="10800" stAng="-8155388" swAng="-10743712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12880" y="1639800"/>
            <a:ext cx="239760" cy="382680"/>
          </a:xfrm>
          <a:prstGeom prst="downArrow">
            <a:avLst>
              <a:gd name="adj1" fmla="val 50000"/>
              <a:gd name="adj2" fmla="val 3990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71920" y="874800"/>
            <a:ext cx="479160" cy="191880"/>
          </a:xfrm>
          <a:prstGeom prst="leftArrow">
            <a:avLst>
              <a:gd name="adj1" fmla="val 50000"/>
              <a:gd name="adj2" fmla="val 624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65680" y="874800"/>
            <a:ext cx="478080" cy="191880"/>
          </a:xfrm>
          <a:prstGeom prst="rightArrow">
            <a:avLst>
              <a:gd name="adj1" fmla="val 50000"/>
              <a:gd name="adj2" fmla="val 6228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5545080" y="1927080"/>
            <a:ext cx="2772000" cy="164628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Логопедический угол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Тематические выстав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Реклама книг, газет, журналов по проблеме речев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Выпуск газеты «Дружная семь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2080" y="1449360"/>
            <a:ext cx="239760" cy="380880"/>
          </a:xfrm>
          <a:prstGeom prst="downArrow">
            <a:avLst>
              <a:gd name="adj1" fmla="val 50000"/>
              <a:gd name="adj2" fmla="val 397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198900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67240" y="4124160"/>
            <a:ext cx="239760" cy="573120"/>
          </a:xfrm>
          <a:prstGeom prst="downArrow">
            <a:avLst>
              <a:gd name="adj1" fmla="val 50000"/>
              <a:gd name="adj2" fmla="val 597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ubChord"/>
          <p:cNvSpPr/>
          <p:nvPr/>
        </p:nvSpPr>
        <p:spPr>
          <a:xfrm rot="7641600">
            <a:off x="6337440" y="382680"/>
            <a:ext cx="1496880" cy="18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25" y="3004"/>
                </a:moveTo>
                <a:arcTo wR="10800" hR="10800" stAng="-8027733" swAng="-10872267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350028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8366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аглядно-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98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5335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5181480" y="914400"/>
            <a:ext cx="3810240" cy="3733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СОДЕРЖАНИЕ КОРРЕКЦИОННО-РАЗВИВАЮЩЕЙ РАБОТ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04920"/>
            <a:ext cx="7315200" cy="3808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066680" y="914400"/>
            <a:ext cx="3962520" cy="5562720"/>
            <a:chOff x="1066680" y="914400"/>
            <a:chExt cx="3962520" cy="5562720"/>
          </a:xfrm>
        </p:grpSpPr>
        <p:grpSp>
          <p:nvGrpSpPr>
            <p:cNvPr id="82" name=""/>
            <p:cNvGrpSpPr/>
            <p:nvPr/>
          </p:nvGrpSpPr>
          <p:grpSpPr>
            <a:xfrm>
              <a:off x="1070640" y="916200"/>
              <a:ext cx="3953880" cy="5557680"/>
              <a:chOff x="1070640" y="916200"/>
              <a:chExt cx="3953880" cy="555768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070640" y="916200"/>
                <a:ext cx="3953880" cy="1809000"/>
                <a:chOff x="1070640" y="916200"/>
                <a:chExt cx="3953880" cy="180900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1130040" y="916200"/>
                  <a:ext cx="3834720" cy="862920"/>
                  <a:chOff x="1130040" y="916200"/>
                  <a:chExt cx="3834720" cy="86292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1130040" y="916200"/>
                    <a:ext cx="3834720" cy="79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130040" y="1414440"/>
                    <a:ext cx="3834720" cy="36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1070640" y="916920"/>
                  <a:ext cx="3953880" cy="180828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070640" y="2723760"/>
                <a:ext cx="3953880" cy="1932120"/>
                <a:chOff x="1070640" y="2723760"/>
                <a:chExt cx="3953880" cy="19321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130040" y="2723760"/>
                  <a:ext cx="3834720" cy="761040"/>
                  <a:chOff x="1130040" y="2723760"/>
                  <a:chExt cx="3834720" cy="761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130040" y="2723760"/>
                    <a:ext cx="383472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130040" y="3120120"/>
                    <a:ext cx="3834720" cy="36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"/>
                <p:cNvSpPr/>
                <p:nvPr/>
              </p:nvSpPr>
              <p:spPr>
                <a:xfrm>
                  <a:off x="1070640" y="2725560"/>
                  <a:ext cx="3953880" cy="19303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070640" y="4656240"/>
                <a:ext cx="3953880" cy="1817640"/>
                <a:chOff x="1070640" y="4656240"/>
                <a:chExt cx="3953880" cy="181764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1130040" y="4656240"/>
                  <a:ext cx="3834720" cy="759600"/>
                  <a:chOff x="1130040" y="4656240"/>
                  <a:chExt cx="3834720" cy="7596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1130040" y="4656240"/>
                    <a:ext cx="383472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130040" y="5050800"/>
                    <a:ext cx="38347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1070640" y="4656240"/>
                  <a:ext cx="3953880" cy="18176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066680" y="914400"/>
              <a:ext cx="3962520" cy="5562720"/>
            </a:xfrm>
            <a:prstGeom prst="rect">
              <a:avLst/>
            </a:prstGeom>
            <a:noFill/>
            <a:ln w="38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143000" y="990720"/>
            <a:ext cx="37162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Фронтальные занят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ррекция звукопроизнош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звитие фонематических процессов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вершенствование лексико-семантической сф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языка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ирование навыков грамматического анализ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вершенствование умений моделирования связного высказывани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819520"/>
            <a:ext cx="373392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одгрупповые зан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сихических процессов: внимание, память, мыш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окружающ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сло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релаксацию, игры на развитие мелкой общей моторики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724280"/>
            <a:ext cx="373392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ндивидуальные зан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ртикуляционной мотор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звукопроизно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поставленных звуков в активную реч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нализу звукового состава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нематического восприятия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952880"/>
            <a:ext cx="396252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33cc"/>
                </a:solidFill>
                <a:latin typeface="Lucida Sans"/>
                <a:ea typeface="Times New Roman"/>
              </a:rPr>
              <a:t>Много звуков есть на свете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33cc"/>
                </a:solidFill>
                <a:latin typeface="Lucida Sans"/>
                <a:ea typeface="Times New Roman"/>
              </a:rPr>
              <a:t>Шелест листьев, плеск волны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33cc"/>
                </a:solidFill>
                <a:latin typeface="Lucida Sans"/>
                <a:ea typeface="Times New Roman"/>
              </a:rPr>
              <a:t>А бывают звуки речи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33cc"/>
                </a:solidFill>
                <a:latin typeface="Lucida Sans"/>
                <a:ea typeface="Times New Roman"/>
              </a:rPr>
              <a:t>Мы их точно знать должны!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914400"/>
            <a:ext cx="761760" cy="55627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16200000">
            <a:off x="-426600" y="3551040"/>
            <a:ext cx="2149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Учитель-логопед</a:t>
            </a:r>
            <a:endParaRPr b="0" lang="en-US" sz="1800" spc="1" strike="noStrike">
              <a:ln w="324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533520" y="5943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838080" y="3505320"/>
          <a:ext cx="792504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505320"/>
                    <a:ext cx="792504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2574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74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447920"/>
          <a:ext cx="8077320" cy="21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447920"/>
                    <a:ext cx="80773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574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бота с родителя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водится, опираясь на социальный паспорт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7200" y="91440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з 35 семе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 15.09.2005 год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4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74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447920"/>
          <a:ext cx="807732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447920"/>
                    <a:ext cx="80773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574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429000"/>
          <a:ext cx="7925040" cy="28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429000"/>
                    <a:ext cx="792504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860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бота с родителя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водится, опираясь на социальный паспорт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7560" y="974880"/>
            <a:ext cx="37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з 2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еме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 15.09.20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74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74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447920"/>
          <a:ext cx="807732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447920"/>
                    <a:ext cx="80773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574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429000"/>
          <a:ext cx="7925040" cy="28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429000"/>
                    <a:ext cx="792504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2860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бота с родителя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водится, опираясь на социальный паспорт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1600" y="974880"/>
            <a:ext cx="37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з 30 семе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 15.09.20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03280" y="126828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Дружная семья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3357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 год объявлен годом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совместно с родителями и детьми выпускает газету «Дружная семья», где в доступной форме можно узнать о занятиях с детьми  д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матика собраний, консультаций, семинаров, </a:t>
            </a:r>
            <a:br>
              <a:rPr sz="2200"/>
            </a:b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нятий в период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с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04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по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007 уч. год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-53352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71600" y="1143000"/>
            <a:ext cx="655308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«Познавательно-речевое развитие ребенка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«Реализация программных задач по развитию речи детей в семье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«Задачи, основные направления и содержание работы логопедической службы в школе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«Особенности педагогической работы с детьми, имеющими нарушения письменной речи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«Развитие слухового восприятия у детей с ОНР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«Система работы по автоматизации поставленных звуков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«Речевой режим в семье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 для родителей «Взаимосвязь уровня развития устной речи и мелкой моторики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066680"/>
            <a:ext cx="6477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0:00:53Z</dcterms:created>
  <dc:creator>Жильцова Е.И.</dc:creator>
  <dc:description>Система взаимодействия учителя-логопеда  и родителей 
в целях эффективного решения 
коррекционных задач. </dc:description>
  <dc:language>en-US</dc:language>
  <cp:lastModifiedBy>Sonya</cp:lastModifiedBy>
  <dcterms:modified xsi:type="dcterms:W3CDTF">2008-03-31T11:21:05Z</dcterms:modified>
  <cp:revision>85</cp:revision>
  <dc:subject>Система взаимодействия учителя-логопеда и родителей</dc:subject>
  <dc:title>Презентация из опыта работы</dc:title>
</cp:coreProperties>
</file>