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3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tudent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<Relationship Id="rId49" Type="http://schemas.openxmlformats.org/officeDocument/2006/relationships/commentAuthors" Target="commentAuthors.xml"/>
</Relationships>
</file>

<file path=ppt/comments/comment30.xml><?xml version="1.0" encoding="utf-8"?>
<p:cmLst xmlns:p="http://schemas.openxmlformats.org/presentationml/2006/main">
  <p:cm authorId="0" dt="2008-04-25T13:21:22.390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305-99DA-4887-8C3B-7055730CA144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C00-B509-4AB7-83C3-4BD3C42F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CDE-9553-4CD9-B7EA-8C76FEFB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6ED2D-BEA9-4000-BF1A-F3248DB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58AFF-9CC3-457C-8B1B-DFA153A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D6EDC-B81C-441E-8427-CD62C122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32B05-5848-4DDF-8CE6-82EDBC08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F7603-6AE2-4522-A44E-00D751A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6BB04-AEBD-42AC-9049-6E89FF8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3D81A-7A9B-4354-926D-9585152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97B9F-CED8-49C1-9B68-D8FE0D5F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634EE-310F-4E92-8C2D-294F9C4C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5ECB4-03D0-4796-8B58-2172B9BD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E77-9F08-4B35-B301-0B540B15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3AD86-9699-4831-9486-688BDA7A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8C8BB-A64C-4F8C-8053-AA7DD041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7EB3D-FC0D-41C9-B97F-50F6EAF1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F5AFD-8B42-4CB6-89A6-1792030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26C5E-6A41-4FE5-82F9-A2CA7EE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90AE5-E977-4170-9209-895094A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7A8C2-A263-491A-B7C4-BCED2249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D3CA4-5494-4BA6-9DC6-5441694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70E6D-B5BF-4AF2-8085-94B5619C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877B4-6EC9-4CA7-BC97-883A981D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5DD-DF50-40A2-99FB-27235EC6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BD04E-DC04-4185-A62F-3B4F5558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8277-E408-42BF-97DB-727B1EAA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E775-766F-402C-BC55-7033606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72049-E70F-419C-B4AC-305EB97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728C-B16B-4A37-8C1B-156EC55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5129C-7B71-4830-9AC5-6D248CB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F23B-6EE3-4E04-83B7-E8E5C2D3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D2BF-7F7C-413E-9A71-71FA1A7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2A19A-5309-4D8A-A20C-BFAFF465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6C6DF-793A-4010-B874-E5630D1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7F4-8DF4-4B14-8DD8-67A718B4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B9F6F-4BDD-42AF-8B4C-7470B95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D03D7-8772-480C-8CC4-5E813C17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D6E4-425C-458F-9A62-55ABA5F0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A6AE8-0706-4CB7-A955-10F85846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47931-15C1-4B46-9FE6-6653ADA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A65AB-DA7C-458B-9323-302FDAE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E1D71-D4AF-472F-A624-ACC6594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B1CAF-69AE-4F1C-9066-AF13035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14F89-6A61-401D-A8A0-AF9FC20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03839-3606-4E3C-B923-ED9331B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4DD-C682-418D-A9D8-861554E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EF520-4F58-4893-8631-0149726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8A17A-7606-4B0F-9852-D2A9886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84175-A007-4D69-9A10-06F220F2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4E3E9-B6C0-49CA-AD6C-D45B519B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065B1-F45C-4A93-8D7E-2454A923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8BA7-C374-4C4A-8A9A-B5CE262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9FBF-2847-4B0F-A3EB-06655442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0DE5-9CE1-4DEF-8B83-3AE8E8F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6F4C-0F99-48AC-8B19-47FE604B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811D-D856-48A9-8D3A-D4ACB94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987-A411-47C0-BF28-A385C50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986-0796-47D3-AF0D-4158F8F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D29-A67B-4EAF-A035-88D2055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D60-9719-456A-9346-041BE4FE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CA2-FAE1-4CE3-A8C4-40427ED4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B967-0B45-4AB0-8233-F734E01B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6425-07E3-4BEC-A9DD-7B822A07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1045-AC7C-44FA-A9DE-1D56A90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043C-229F-4402-8659-33D2F33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4131-F3D6-4016-AC6E-82A26C4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C961-A978-4422-AACC-DCD13E3A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D2B-65CC-4C1D-9012-5C6ED43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FC57-C431-486B-A174-5FBE304A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F2E2-35EB-44B4-ADC2-F47CD5D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15E6-C21C-44C2-8F4F-19791CF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9383-B7B4-4A13-955B-ECCB115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97F0-1A4E-4BF3-B20F-D473BB3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4069-8A70-474B-8E48-6E969A29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53DE-6EAA-4EEE-A730-B521176A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50CD-3693-4ED6-809A-6011BD91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8C16-E8AA-4132-9984-24282A9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A3C4-37F5-42BF-917A-0D76532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164-A91B-4749-ACC5-BAE539F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68DD-FD65-43A5-9111-0C25793B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1676-1194-41F3-B54E-EABB697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6E58-738B-4AC8-AC0C-5E681E7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D14D-0F2A-4538-BBB7-C37D96C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B893-2697-452E-B66E-562F9ED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6BB8-820D-482C-B0BC-EF425A9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F391-F3F9-4993-AF84-DECC8E05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0267-FB14-4510-8375-79F6547A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4775-C1A7-4B67-AD19-E3E930C0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FC3C-DB4E-4BB1-9B85-D54E172C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82E-3973-40CA-A586-FFAD92B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D937-04C9-403A-8828-0F29510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A015-BD50-4EF8-8851-F39FB49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C04B-ADD7-4E9D-A0D3-DA91B02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83508-0ABE-4544-B695-A8C18025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D8D0-BBC2-48CC-88ED-842815E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0ACA-E425-46A0-A6C8-7E97412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0B80-E1E6-4D09-ACB2-7A24A9E8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760B-0934-48D2-9894-305342F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4FDA-ACE2-4C70-B99F-CB359DC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BF88-8ABB-465E-9BC7-C0859612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1BD-73DA-487C-AE24-DFBC4BDD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B7839-DF47-49FD-99CB-B578D979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51C9-8011-49BF-A32A-249FCF0D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80B9-B4CA-4AFE-8735-586C1FF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7883-7463-4958-9415-004B7F0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792C-8C17-4C6C-859D-37B6150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8963-9214-4B0F-89F4-5B4716BF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8788-D4D1-42B2-B2B7-1BC0CFD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FB23-11CA-46C6-A6ED-983C4EE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AAE3-818B-4D7B-B84D-03006AF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0147E-1C4A-4EE5-8D78-6DF7E6E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FD-CB78-4FC4-8225-AB01CE7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078A-EDC1-4A39-87E8-A7F0B447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FA13-8E64-45DD-AFE6-8EAB4E24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E038-17B5-4FBA-AF9A-06A86EB3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728B8-7BC7-4E28-9543-B4573C5F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D6F4D-E93B-4D4F-878E-0E2D980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77F34-6BD2-4786-B1C2-333A5FA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2C8A-4F25-40DE-BB00-E243BCB8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F70C-990A-4BB3-9C46-FA272AA6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84BB-DDD7-4698-A90F-AF9D9CB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18346-BAD6-41C7-B3FC-C8046F0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01A-C642-4C05-9237-FBEE2A0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1B40-5679-4F60-90AE-D68C6F5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6D7B-557B-48DF-8EA8-3175D1C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E948-FF5E-4E3D-8ED8-B1B4D24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F1F1-C83E-4169-928F-45BA0A10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F0251-7E4A-4950-8665-5AED1187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28734-E116-48BE-A850-21549A5C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1F895-4D07-4579-B65A-D7FC9ED8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582D-3127-49E7-9202-9102D51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6103-28F0-446D-BD67-15D49FF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0D06-9F16-4BAC-A08C-BD908DF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8CD-BAE5-4081-9002-F044EC0F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BFD39-B843-41B3-B3E8-659E16D5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9498-EDC3-4ECF-9F0A-292E15B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4A815-D2FA-48F8-A4A6-4B8C020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A33C-5D38-4183-AA8F-BBF2236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ACEAE-455B-477A-9984-A31C13B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433F-29B7-4122-8247-84DC1BDF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AD5AE-D1F5-4547-A758-A94DDAA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7AAB5-C733-4147-B4D1-0B895DC8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790A6-EB82-4793-9472-AD97C38F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D4AAF-9A6C-4AA7-B0C2-AC6B6C0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B4F-CEB7-4EB9-A02F-4573B95A650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C24-9723-437D-9D6C-7C40538FFD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DB7-81A2-43F3-9D14-03B6BAFD86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178-9DFF-41B7-8E90-10362F37902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1DE-B95C-42C5-88F7-EB2968446A9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F3A-AF39-431D-A076-F3EDB7C057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889-065A-4E64-9172-4DF6800BF1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677-7790-4F09-965B-247AC9B599E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9FCF-8008-48EA-B003-01513FB242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586-1335-4A9A-8F65-EF2FEF6CCB6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1FE-535C-474D-ABD5-2397CA04A70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841-FE76-4200-99AD-DDBE0140E6F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57200" y="328572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2d1c"/>
                </a:solidFill>
                <a:latin typeface="Arial"/>
                <a:ea typeface="Arial"/>
              </a:rPr>
              <a:t>ВЫПОЛНИЛА: ИСАЕВА ИМ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2d1c"/>
                </a:solidFill>
                <a:latin typeface="Arial"/>
                <a:ea typeface="Arial"/>
              </a:rPr>
              <a:t>РУКОВОДИТЕЛЬ: САМОЙЛОВА Л.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СИСТЕМАТИЗАЦИЯ ЗНАНИЙ за курс 10-го класса.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Arial"/>
                <a:ea typeface="Arial"/>
              </a:rPr>
              <a:t>Решение тригонометрических уравнений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6760"/>
            <a:ext cx="85042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простить уравнение, применив известные формул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 вид уравне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) простейшие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sx=0, cosx=1, cosx=-1, sinx=0, sinx=1, sinx=-1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 др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б) уравнения, сводящиеся к квадратному и др.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и от вида применить формулу корней или заменить его квадратным уравнением или выполнить др. преобразова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Arial"/>
                <a:ea typeface="Arial"/>
              </a:rPr>
              <a:t>Решение тригонометрических неравенств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чертить единичную окруж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метить на ней точки, в которой значение указанной в неравенстве тригонометрической функции равно данному в неравенстве числу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метить точки окружности, удовлетворяющее неравенство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писать множество чисел, удовлетворяющих неравенст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ТЕМА № 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a9432b"/>
                </a:solidFill>
                <a:latin typeface="Arial"/>
                <a:ea typeface="Arial"/>
              </a:rPr>
              <a:t>ПРОИЗВОДНАЯ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11185"/>
                </a:solidFill>
                <a:latin typeface="Arial"/>
                <a:ea typeface="Arial"/>
              </a:rPr>
              <a:t>Нахождение производной по формулам и правилам дифференцирования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еть формулу и определить структуру ее правой ча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йти производную каждой из состоящих час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и от структуры правой части (суммы, частного…) применить известные правила дифференцирова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йти производную функции у = 4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 Правая часть формулы, задающей функцию, представляет собой сумму двух выражений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 = 4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 Производная первой функции имеет вид: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! 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а второй    у! 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Sin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Применяя правило нахождения производной суммы, находим производную заданной функции как сумму найденных производных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y/= 4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 x   -  Sin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 Производная заданной функции имеет вид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! 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 x   -  Sin 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ТЕМА № 4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5400" spc="-1" strike="noStrike">
                <a:solidFill>
                  <a:srgbClr val="a9432b"/>
                </a:solidFill>
                <a:latin typeface="Arial"/>
                <a:ea typeface="Arial"/>
              </a:rPr>
              <a:t>Применение непрерывности и производной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648c61"/>
                </a:solidFill>
                <a:latin typeface="Arial"/>
                <a:ea typeface="Arial"/>
              </a:rPr>
              <a:t>Решение неравенств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ведите функцию, которая задается с помощью формулы из выражения данного в неравенстве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нули данной функции (у=0)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зобразите числовую прямую и отметьте на ней нули функци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знак на каждом промежутке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на каких промежутках функция  принимает знак, соответствующий неравенству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в ответ те значения аргумента, которые удовлетворяют неравенст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24000" y="1214280"/>
            <a:ext cx="85341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ешить неравенство  (х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– 4)(х +3)(х-4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Введем функцию у = (х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– 4)(х +3)(х-4)=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Найдем нули этой функции, используя условие равенства нулю произведения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лучим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-4) = 0   или (х+3) =0      или (х-4)= 0, отсюд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=2 или х=-2,  или х=-3, или х = 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м числовую прямую и отметим на ней точк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, -2, -3, 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На промежутке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;-3) возьмем, например, число -4, вычислим значение функции при этом значении аргумент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(-4) =96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промежутке ( -3 ;-2) возьмем, например, число -2,5, вычислим значение функции при этом значении аргумент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(-2,5) = 2,25 *0,5 (-6,25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промежутке ( -2 ;2) возьмем, например, число 0, вычислим значение функции при этом значении аргумент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(0) =48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промежутке ( 2 ;4 )возьмем, например, число 3, вычислим значение функции при этом значении аргум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(3) =   -3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промежутке (4  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) возьмем, например, число 5, вычислим значение функции при этом значении аргумент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(5) =21*15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0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На числовой прямой отметим, какие значения принимает функция на каждом из промежутк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Решением неравенства будут те значения  аргумента, при которых функция принимает отрицательные значения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.е.  (-3; -2)     (2; 4)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8c61"/>
                </a:solidFill>
                <a:latin typeface="Arial"/>
                <a:ea typeface="Arial"/>
              </a:rPr>
              <a:t>Нахождение углового коэффициента касательной к графику функции в точке с заданной абсциссо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785600"/>
            <a:ext cx="850428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йти производную функци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числить значение производной в х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=f 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) + f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’(x)*(x-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Овал 5"/>
          <p:cNvSpPr/>
          <p:nvPr/>
        </p:nvSpPr>
        <p:spPr>
          <a:xfrm>
            <a:off x="6786720" y="2857680"/>
            <a:ext cx="71280" cy="71280"/>
          </a:xfrm>
          <a:prstGeom prst="ellipse">
            <a:avLst/>
          </a:pr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да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ти угловой коэффициент касательной к графику функции  у = 1/х +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 точке с абсциссой Х = -2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Производная функции имеет вид: у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- 1/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2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Значение производной функции в точке х -2 равно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-2) = - ¼ + 2(-2) = -4,25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Угловой коэффициент касательной к графику функции в точке с абсциссой х = -2 равен найденному значению производной  в точке х =-2, т.е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у(-2) =-4,25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ТЕМА  №  1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Содержимое 2" descr=""/>
          <p:cNvPicPr/>
          <p:nvPr/>
        </p:nvPicPr>
        <p:blipFill>
          <a:blip r:embed="rId1"/>
          <a:stretch/>
        </p:blipFill>
        <p:spPr>
          <a:xfrm>
            <a:off x="133200" y="1542960"/>
            <a:ext cx="8802720" cy="432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8c61"/>
                </a:solidFill>
                <a:latin typeface="Arial"/>
                <a:ea typeface="Arial"/>
              </a:rPr>
              <a:t>Исследование функции  с помощью производно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85480" y="1214280"/>
            <a:ext cx="85042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ти область определения функци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ти  производную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ти критические точки  функции ( т.е. решить уравнени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’(x)=0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зить числовую прямую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числовой  прямой отметьте критические точки функц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знак значений  производной на каждом из полученных промежутков числовой прямо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 о промежутках возрастания и убывания функц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яснить,  изменяется  ли  знак производной  при прохождении  через найденные  критические точки 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 о наличие точек максимума или минимум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следуйте функцию у = х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-2х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с помощью производной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шение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.Правая часть функции представляет собой многочлен, поэтому областью  определения функции будет любое действительное число, т.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. Производная функции имеет вид: у/ = -4х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-4х (определена  на всей области определения)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3.Найдем критические точки функции. Для этого решим уравнение у/ =0.  Получим -4х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-4х.=0, значит х=0, или х=1, или х=-1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4.Изобразим числовую прямую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5. На числовой прямой отметим найденные критические точки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6. Определим знаки значений производной на каждом из четырех промежутков. Для этого на каждом промежутке выберем произвольное значение аргумента и определим знак производной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).на промежутке (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_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;-1) возьмем число -2, тогда у/(-2) = -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&lt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0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).на промежутке (  -1 ;0) возьмем число -0,5, тогда у/(-0,5) = 4(-0,125) +2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0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).на промежутке ( 0  ;1) возьмем число 0,5, тогда у/(о,5 = 4 *0,125 -2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  0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).на промежутке (1 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R+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) возьмем число 2, тогда у/(2) = 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&gt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0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7 На основе признака возрастания (убывания) функции имеем:  Функция возрастает на промежутке (-1; 0) и (1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+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), а убывает на промежутке(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; -1) и (0; 1)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8. Проходя через точку -1, производная меняет свой знак с »-» на «+», значит х = -1 является точкой минимума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9. Аналогичными  рассуждениями получаем выводы о том, что х=0 является точкой максимума, а х=1 является точкой минимума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11 класс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истематизаци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общение знани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 алгебре и началам анализ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Нахождение общего вида первообразной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нструкц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Выявите структуру правой части формулы, задающей функци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Примените известные правила нахождения первообразных в зависимости от выявленной структуры, используйте таблицу первообразны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Запишите общий вид первообразны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общий вид первообразных функ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1 /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авая часть формулы, задающей функцию, представляет собой сумму двух выражений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у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Для поиска первообразных нужно применять правило нахождения первообразной суммы двух функции, первообразную каждой из которых можно найти из известной таблицы первообразных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бразная первой функции имеет в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-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ервообразная второй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sin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первообразная суммы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щий вид первообразных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С, где С – любое числ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4312440" y="32464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Arial"/>
              </a:rPr>
              <a:t>Вычисление площади фигуры, ограниченной заданными линиям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струкц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Схематично изобразите заданные линии на координатной плоск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 Выделите фигуру, ограниченную этими линиям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Определите, является ли полученная фигура криволинейной трапецией или не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 Если фигура является криволинейной трапецией, то вычислите ее площадь  как определенный интеграл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сли фигура не является криволинейной трапецией , то подумайте, сумму (или разность) площадей каких криволинейных трапеций или других фигур нужно рассмотреть для получения ответ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baseline="30000">
                <a:solidFill>
                  <a:srgbClr val="7b9899"/>
                </a:solidFill>
                <a:latin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площадь  фигуры ограниченной линиями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= х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1, у = 10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хематически изобразите заданные линии на координатной плоскости, т.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= х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1, у =10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Выделите фигуры, ограниченные этими линиям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Определите, является ли полученная фигура криволинейной трапецией или нет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Если фигура является криволинейной трапецией, то вычислите ее площадь как  интеграл 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»а» до»в» )от функции у(х) п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x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не является, то выясни через площади каких фигур ее можно найт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енная вами фигура не является криволинейной трапецией, но ее площадь легко вычисляется как разность площадей: из площади прямоугольника нужно вычесть  площадь криволинейной трапеции, ограниченной сверху графиком функции у = х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1 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Для вычисления указанных площадей найдем абсциссы точек пересечения графиков заданных нам функции. Для этого решим уравнение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1 =10, х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9, х=-3 или х=3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1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x =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3 + х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-3, 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24 кв.ед.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=10 *6   =60 (кв. ед.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 = S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ап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S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ямоуг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 -   24  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6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в. ед.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Arial"/>
              </a:rPr>
              <a:t>Вычисление значения числового выражения , содержащего радикал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струкц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Определите структуру выражения, стоящего под знаком корня (произведение, частное, степень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Примените известные правила извлечения корня из произведения, частного  и другие в зависимости от структуры заданного выражен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Найдите корень из каждой структурной единицы, составляющей выражение. (В отдельных случаях можно сначала представить выражение , стоящее под знаком корня, в виде произведения степеней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Запишите отве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значение вы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1/125 * 8/343 * 6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Данное в условии  выражение представляет собой произведение трех множителей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/125 * √8/343 * √6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Для нахождения значения  выражения применим теорему о вычислении корня из произведения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/125 * √8/343 * √64=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1/125 * √8/343 * √6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Вычислим три полученных корня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/125; √8/343 и √6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корень можно рассмотреть как дробь(частное), применив к его вычислению правило нахождения  корня из дроби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/125= √1 / √125 = 1/5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огично находим оставшиеся два корня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/343 = √8 / √343 =2/7; √64 =4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Чтобы получить окончательный ответ, перемножим промежуточные результаты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√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/125 * √8/343 * √64 = 1/5 * 2/7 * 48/35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Line 4"/>
          <p:cNvSpPr/>
          <p:nvPr/>
        </p:nvSpPr>
        <p:spPr>
          <a:xfrm>
            <a:off x="6012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615636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2627280" y="537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3995640" y="537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5364000" y="537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1"/>
          <p:cNvGrpSpPr/>
          <p:nvPr/>
        </p:nvGrpSpPr>
        <p:grpSpPr>
          <a:xfrm>
            <a:off x="8622360" y="4564080"/>
            <a:ext cx="532800" cy="2305080"/>
            <a:chOff x="8622360" y="4564080"/>
            <a:chExt cx="532800" cy="2305080"/>
          </a:xfrm>
        </p:grpSpPr>
        <p:grpSp>
          <p:nvGrpSpPr>
            <p:cNvPr id="677" name="Group 12"/>
            <p:cNvGrpSpPr/>
            <p:nvPr/>
          </p:nvGrpSpPr>
          <p:grpSpPr>
            <a:xfrm>
              <a:off x="8742240" y="4564080"/>
              <a:ext cx="169560" cy="2030400"/>
              <a:chOff x="8742240" y="4564080"/>
              <a:chExt cx="169560" cy="2030400"/>
            </a:xfrm>
          </p:grpSpPr>
          <p:sp>
            <p:nvSpPr>
              <p:cNvPr id="678" name="Rectangle 13" hidden="1"/>
              <p:cNvSpPr/>
              <p:nvPr/>
            </p:nvSpPr>
            <p:spPr>
              <a:xfrm rot="15960000">
                <a:off x="7810200" y="5565240"/>
                <a:ext cx="2033280" cy="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4"/>
              <p:cNvSpPr/>
              <p:nvPr/>
            </p:nvSpPr>
            <p:spPr>
              <a:xfrm rot="15960000">
                <a:off x="8883000" y="6566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5"/>
              <p:cNvSpPr/>
              <p:nvPr/>
            </p:nvSpPr>
            <p:spPr>
              <a:xfrm rot="15960000">
                <a:off x="8874720" y="6449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 rot="15960000">
                <a:off x="8866440" y="6330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7"/>
              <p:cNvSpPr/>
              <p:nvPr/>
            </p:nvSpPr>
            <p:spPr>
              <a:xfrm rot="15960000">
                <a:off x="8858520" y="6213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8"/>
              <p:cNvSpPr/>
              <p:nvPr/>
            </p:nvSpPr>
            <p:spPr>
              <a:xfrm rot="15960000">
                <a:off x="8850240" y="6095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9"/>
              <p:cNvSpPr/>
              <p:nvPr/>
            </p:nvSpPr>
            <p:spPr>
              <a:xfrm rot="15960000">
                <a:off x="8841960" y="5977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20"/>
              <p:cNvSpPr/>
              <p:nvPr/>
            </p:nvSpPr>
            <p:spPr>
              <a:xfrm rot="15960000">
                <a:off x="8833680" y="5860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21"/>
              <p:cNvSpPr/>
              <p:nvPr/>
            </p:nvSpPr>
            <p:spPr>
              <a:xfrm rot="15960000">
                <a:off x="8825400" y="5742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22"/>
              <p:cNvSpPr/>
              <p:nvPr/>
            </p:nvSpPr>
            <p:spPr>
              <a:xfrm rot="15960000">
                <a:off x="8817120" y="5624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23"/>
              <p:cNvSpPr/>
              <p:nvPr/>
            </p:nvSpPr>
            <p:spPr>
              <a:xfrm rot="15960000">
                <a:off x="8808840" y="550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24"/>
              <p:cNvSpPr/>
              <p:nvPr/>
            </p:nvSpPr>
            <p:spPr>
              <a:xfrm rot="15960000">
                <a:off x="8800560" y="5389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25"/>
              <p:cNvSpPr/>
              <p:nvPr/>
            </p:nvSpPr>
            <p:spPr>
              <a:xfrm rot="15960000">
                <a:off x="8792640" y="5271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26"/>
              <p:cNvSpPr/>
              <p:nvPr/>
            </p:nvSpPr>
            <p:spPr>
              <a:xfrm rot="15960000">
                <a:off x="8784360" y="5153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27"/>
              <p:cNvSpPr/>
              <p:nvPr/>
            </p:nvSpPr>
            <p:spPr>
              <a:xfrm rot="15960000">
                <a:off x="8776080" y="5036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28"/>
              <p:cNvSpPr/>
              <p:nvPr/>
            </p:nvSpPr>
            <p:spPr>
              <a:xfrm rot="15960000">
                <a:off x="8767800" y="4918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29"/>
              <p:cNvSpPr/>
              <p:nvPr/>
            </p:nvSpPr>
            <p:spPr>
              <a:xfrm rot="15960000">
                <a:off x="8759520" y="4800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30"/>
              <p:cNvSpPr/>
              <p:nvPr/>
            </p:nvSpPr>
            <p:spPr>
              <a:xfrm rot="15960000">
                <a:off x="8751240" y="4682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31"/>
              <p:cNvSpPr/>
              <p:nvPr/>
            </p:nvSpPr>
            <p:spPr>
              <a:xfrm rot="15960000">
                <a:off x="8742960" y="4564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AutoShape 32"/>
            <p:cNvSpPr/>
            <p:nvPr/>
          </p:nvSpPr>
          <p:spPr>
            <a:xfrm flipV="1" rot="21444000">
              <a:off x="8632800" y="6368400"/>
              <a:ext cx="511200" cy="4892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Arial"/>
                <a:ea typeface="Arial"/>
              </a:rPr>
              <a:t>Схематическое изображение графиков показательной и логарифмической функци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.Определите вид функции (выясните, является функция показательной или логарифмической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2. На координатной плоскости отметьте ту характеристическую точку, через которую проходит график всех данного вид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3.Определите, является ли функция возрастающей или убывающей (сравните значения основания «а» с единицей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4. Через обозначенную точку с учетом характера изменения функции  (возрастающая функция или убывающая) проведите линию, схематично изображающую график заданной функци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45c26"/>
                </a:solidFill>
                <a:latin typeface="Arial"/>
                <a:ea typeface="Arial"/>
              </a:rPr>
              <a:t>Нахождение </a:t>
            </a:r>
            <a:r>
              <a:rPr b="0" lang="en-US" sz="3300" spc="-1" strike="noStrike">
                <a:solidFill>
                  <a:srgbClr val="d45c26"/>
                </a:solidFill>
                <a:latin typeface="Arial"/>
                <a:ea typeface="Arial"/>
              </a:rPr>
              <a:t>D(f)</a:t>
            </a:r>
            <a:r>
              <a:rPr b="0" lang="ru-RU" sz="3300" spc="-1" strike="noStrike">
                <a:solidFill>
                  <a:srgbClr val="d45c26"/>
                </a:solidFill>
                <a:latin typeface="Arial"/>
                <a:ea typeface="Arial"/>
              </a:rPr>
              <a:t> функ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еть функцию и разделить ее на 2 части по структурной составляющ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римените условия существования дроби или радикала в зависимости от формул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адани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хематично изобразите график функции у = 0,8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.Функция является показательной, так как она задается формулой вида у = а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х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2.На  координатной плоскости отметим точку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(0;1), так как график всех показательных функции проходит через эту точку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3. Функция у = 0,8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монотонно убывающей, так как 0,8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4.Через точку М(о;1) проведем кривую линию, расположенную над осью абсцисс. Ординаты точек этой кривой (значения функции) уменьшаются с ростом абсцисс (с ростом значений аргумента) 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да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хематично изобразите график логарифмической функции у =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og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х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Решение показательных неравенств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Рассмотрите неравенство, выберите основание показательной функции, с помощью которого удобно записать левую и правую части неравенств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Представте левую и правую части неравенства как значения показательной функции с выбранным основани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Определите, является ли функция  (с выбранным вами основанием)возрастающей или убывающ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Перейдите от показательного неравенства к неравенству алгебраическому (линейному, квадратичному и т.д.), учитывая характер изменения функции (возрастающей или убывающей она являетс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Решите полученное алгебраическое неравенство (линейное, квадратичное и т.д.) и запишите отв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неравенство 3 *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х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1/27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х-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качестве основания показательной функции удобно взять число 3 (можно взять и число 1/3), так как все члены неравенства можно представить как степени с основанием «3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Левая и правая части неравенства, как значения показательной функции с основанием «3», будут иметь вид: 3 * 9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х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=3* (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х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=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4х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/27)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=(3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=3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9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венство принимает вид: 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4х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9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оказательная функция у = 3   с основание «3» является возрастающей, так как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Так как  у = 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- возрастающая функция, то 4х –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9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Решаем линейное неравенство:4х + 9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, 13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,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/13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м показательного неравенства будет множество чисел из промежутка (1/13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=х+3/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 x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ешение: 1) правую часть формулы представляет дробь, знаменателем которой являетс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s x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2) Дробь имеет смысл, если ее знаменатель отличен от нуля. Найдем значения Х, при которых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s x=0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s x=0,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если х=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/2 +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, n € z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45c26"/>
                </a:solidFill>
                <a:latin typeface="Arial"/>
                <a:ea typeface="Arial"/>
              </a:rPr>
              <a:t>Нахождение Е(</a:t>
            </a:r>
            <a:r>
              <a:rPr b="0" lang="en-US" sz="3300" spc="-1" strike="noStrike">
                <a:solidFill>
                  <a:srgbClr val="d45c26"/>
                </a:solidFill>
                <a:latin typeface="Arial"/>
                <a:ea typeface="Arial"/>
              </a:rPr>
              <a:t>f</a:t>
            </a:r>
            <a:r>
              <a:rPr b="0" lang="ru-RU" sz="3300" spc="-1" strike="noStrike">
                <a:solidFill>
                  <a:srgbClr val="d45c26"/>
                </a:solidFill>
                <a:latin typeface="Arial"/>
                <a:ea typeface="Arial"/>
              </a:rPr>
              <a:t>) функ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еть формулу, определить структуру ее правой ча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ценить границы изменения каждой из составляющих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ценить правую часть в целом, как сумму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писать 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  <a:ea typeface="Arial"/>
              </a:rPr>
              <a:t>Пример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=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cosx – 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2 ≤ 2cosx ≤ 2,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ак как -1 ≤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sx ≤ 1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2-3 ≤ 2cosx ≤ 2-3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5 ≤ 2cosx-3 ≤ -1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вет: Е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) € [-5; -1]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45c26"/>
                </a:solidFill>
                <a:latin typeface="Arial"/>
                <a:ea typeface="Arial"/>
              </a:rPr>
              <a:t>Нахождение промежутков знакопостоянства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1) определить возможности преобразования  данной функци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2) схематично изобразить график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3) отметить ту часть графика, которая расположена ниже оси абсцисс (Ох)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4) указать те значения Х, которым соответствует выделенная часть график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5) записать отв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45c26"/>
                </a:solidFill>
                <a:latin typeface="Arial"/>
                <a:ea typeface="Arial"/>
              </a:rPr>
              <a:t>Нахождение точек максимума и минимума функци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какие преобразования графика можно получить при рассмотрении функ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хематично изобразить график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метить те точки графика, в котором убывание сменяется возрастание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зать значения аргумента, которым соответствуют выделенные точ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Тема № 2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Содержимое 2" descr=""/>
          <p:cNvPicPr/>
          <p:nvPr/>
        </p:nvPicPr>
        <p:blipFill>
          <a:blip r:embed="rId1"/>
          <a:stretch/>
        </p:blipFill>
        <p:spPr>
          <a:xfrm>
            <a:off x="182520" y="1468440"/>
            <a:ext cx="8839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2:28:15Z</dcterms:created>
  <dc:creator>FoM</dc:creator>
  <dc:description/>
  <dc:language>en-US</dc:language>
  <cp:lastModifiedBy>777</cp:lastModifiedBy>
  <dcterms:modified xsi:type="dcterms:W3CDTF">2013-10-11T17:51:49Z</dcterms:modified>
  <cp:revision>40</cp:revision>
  <dc:subject/>
  <dc:title>СИСТЕМАТИЗАЦИЯ ЗНАНИЙ за курс 10-го класса.</dc:title>
</cp:coreProperties>
</file>