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9.gif" ContentType="image/gif"/>
  <Override PartName="/ppt/media/image22.wmf" ContentType="image/x-wmf"/>
  <Override PartName="/ppt/media/image13.gif" ContentType="image/gif"/>
  <Override PartName="/ppt/media/image8.gif" ContentType="image/gif"/>
  <Override PartName="/ppt/media/image19.wmf" ContentType="image/x-wmf"/>
  <Override PartName="/ppt/media/image21.wmf" ContentType="image/x-wmf"/>
  <Override PartName="/ppt/media/image17.wmf" ContentType="image/x-wmf"/>
  <Override PartName="/ppt/media/image16.gif" ContentType="image/gif"/>
  <Override PartName="/ppt/media/image1.wmf" ContentType="image/x-wmf"/>
  <Override PartName="/ppt/media/image15.wmf" ContentType="image/x-wmf"/>
  <Override PartName="/ppt/media/image14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gif" ContentType="image/gif"/>
  <Override PartName="/ppt/media/image10.gif" ContentType="image/gif"/>
  <Override PartName="/ppt/media/image6.wmf" ContentType="image/x-wmf"/>
  <Override PartName="/ppt/media/image7.gif" ContentType="image/gif"/>
  <Override PartName="/ppt/media/image20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4FC-D48A-4393-92FC-8DF6F465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EC7-AC5C-4B05-8575-0E85A87C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EB0-BB9B-4025-A71D-43EB87E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233-CE90-439A-85E5-051BA5D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4D29-1C5C-46D3-8FDF-1B58FA9A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D80-F53E-4F61-A94D-36EE602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D68-57D7-442B-8AEB-B076D0C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667-5DC6-40D8-A8DC-042B97D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AC0-B737-43B7-B954-D714193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3A9-B3DF-4A49-9962-5DC61FD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A78-A7D1-4DBF-AF9F-E952CB3A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2E5-8B09-4539-AE8C-6D2D4AA4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7DC4-8079-478C-9093-0E29968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F90-3809-4BAB-9FE3-187E694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F54-866D-4946-88ED-7CCFED2A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5E8D-020D-4E18-B79F-6B41A515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EDA4-FC74-42BC-AE71-2B2B0CF8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D23-D3DE-4B6A-ACE0-F2761FF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8E2-7593-4E6E-9835-3CC897E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7FA-BF6D-40AC-B4D8-B67C992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75B-51E4-4BB1-BA0E-4DDEB77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5A6-16CC-4467-B178-4D58E9F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C9F-898F-4A0B-8C82-684F175F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D2D-2A34-4A0F-8375-0CAC760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0036-4668-4396-84FB-03231D33A1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D15-45D1-49C9-A9CF-02499ABBF63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7345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Урок – основная форма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организации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   учебно -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оспитательного 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процесс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8" descr="PE07265_"/>
          <p:cNvPicPr/>
          <p:nvPr/>
        </p:nvPicPr>
        <p:blipFill>
          <a:blip r:embed="rId1"/>
          <a:stretch/>
        </p:blipFill>
        <p:spPr>
          <a:xfrm>
            <a:off x="5219640" y="3500280"/>
            <a:ext cx="3924360" cy="3106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G00040_"/>
          <p:cNvPicPr/>
          <p:nvPr/>
        </p:nvPicPr>
        <p:blipFill>
          <a:blip r:embed="rId2"/>
          <a:stretch/>
        </p:blipFill>
        <p:spPr>
          <a:xfrm>
            <a:off x="468360" y="0"/>
            <a:ext cx="2160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69501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овременный урок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нятие учащегося таким какой он е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заимодействие по типу «учитель- ученик» и «уче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чител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AG00223_"/>
          <p:cNvPicPr/>
          <p:nvPr/>
        </p:nvPicPr>
        <p:blipFill>
          <a:blip r:embed="rId1"/>
          <a:stretch/>
        </p:blipFill>
        <p:spPr>
          <a:xfrm>
            <a:off x="5003640" y="3716280"/>
            <a:ext cx="4140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овременный урок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читель не единственное действующее лицо на уро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логическое объяснение и требование воспроизвести сказанное –не основной метод в обучен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ученик существует для предмета, а предмет для учени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AG00052_"/>
          <p:cNvPicPr/>
          <p:nvPr/>
        </p:nvPicPr>
        <p:blipFill>
          <a:blip r:embed="rId1"/>
          <a:stretch/>
        </p:blipFill>
        <p:spPr>
          <a:xfrm>
            <a:off x="5580000" y="4797360"/>
            <a:ext cx="324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333360"/>
            <a:ext cx="71661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Организация урока возможна только при соблюдении определенных правил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64360" cy="446544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ервое - определение целей уро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торое – уточнение типа уро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етье – уточнение вида уро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етвертое – выбор методов и приемов обуч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ятое  - определение структуры уро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ДЦ – триединая дидактическая цель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ТЦУ  - триединая цель уро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1.Цель обуч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2.Цель развит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3.Цель воспита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j0315816[2]"/>
          <p:cNvPicPr/>
          <p:nvPr/>
        </p:nvPicPr>
        <p:blipFill>
          <a:blip r:embed="rId1"/>
          <a:stretch/>
        </p:blipFill>
        <p:spPr>
          <a:xfrm>
            <a:off x="6300720" y="4437000"/>
            <a:ext cx="2448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064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бинированный уро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ок усвоения новых знаний учащими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ок закрепления изучаемого материа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ок повто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ок систематизации и обобщения нового материа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ок проверки и оценки знаний (учета и контроля знан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26920" y="189000"/>
            <a:ext cx="7848720" cy="143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Типология урок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Однообразие в построении урока приводит к серьезным последствиям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оянное повторение одной и той же схемы урока вызывает у учеников реакцию, тормозящую активность мыш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ологическое однообразие в построении уроков учителем способствует формированию малоинициативной личности, не способной остро оценивать событ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Однообразие в построении урока приводит к серьезным последствиям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В-третьих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ая стандартизированная схема построения урока далеко не всегда отвечает задачам обучения и воспитания, сужая образовательные, воспитательные и развивающие возможности урока как основной формы обу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7" descr="AG00013_"/>
          <p:cNvPicPr/>
          <p:nvPr/>
        </p:nvPicPr>
        <p:blipFill>
          <a:blip r:embed="rId1"/>
          <a:stretch/>
        </p:blipFill>
        <p:spPr>
          <a:xfrm>
            <a:off x="5867280" y="422100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50880" y="396720"/>
            <a:ext cx="5034240" cy="10972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ы уро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684360" y="2637000"/>
            <a:ext cx="2160360" cy="136836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 -лек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3492360" y="2060640"/>
            <a:ext cx="2448000" cy="1512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 - бесе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443640" y="2708280"/>
            <a:ext cx="2232000" cy="136836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- зач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24000" y="4797360"/>
            <a:ext cx="2736720" cy="16560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- семина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987640" y="3933720"/>
            <a:ext cx="3600360" cy="1440000"/>
          </a:xfrm>
          <a:prstGeom prst="cloudCallout">
            <a:avLst>
              <a:gd name="adj1" fmla="val -1324"/>
              <a:gd name="adj2" fmla="val 107995"/>
            </a:avLst>
          </a:prstGeom>
          <a:solidFill>
            <a:srgbClr val="00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 - дискусс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6443640" y="4941720"/>
            <a:ext cx="2448000" cy="151164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к- бриф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"/>
          <p:cNvSpPr/>
          <p:nvPr/>
        </p:nvSpPr>
        <p:spPr>
          <a:xfrm>
            <a:off x="324000" y="260280"/>
            <a:ext cx="8820000" cy="1873440"/>
          </a:xfrm>
          <a:prstGeom prst="leftRightArrow">
            <a:avLst>
              <a:gd name="adj1" fmla="val 50000"/>
              <a:gd name="adj2" fmla="val 93722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етрадиционные формы урока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39640" y="2060640"/>
            <a:ext cx="8064720" cy="453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левые игры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спектакль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полнение сказочного сюжет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отр зн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 - фантаз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игр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ловая игр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заче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турнир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левая деловая игр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эврика;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предметный интегрированный уро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рок-конкурс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AG00029_"/>
          <p:cNvPicPr/>
          <p:nvPr/>
        </p:nvPicPr>
        <p:blipFill>
          <a:blip r:embed="rId1"/>
          <a:stretch/>
        </p:blipFill>
        <p:spPr>
          <a:xfrm>
            <a:off x="5003640" y="2852640"/>
            <a:ext cx="338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Monotype Corsiva"/>
              </a:rPr>
              <a:t>Слово «метод» происходит от греческого «methodos» –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Monotype Corsiva"/>
              </a:rPr>
              <a:t> «путь к чему-то»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57920" y="2146680"/>
            <a:ext cx="4051080" cy="10519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 источнику по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755640" y="407664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1.Словесны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2.Наглядны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3.Практиче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21" descr="PE07266_"/>
          <p:cNvPicPr/>
          <p:nvPr/>
        </p:nvPicPr>
        <p:blipFill>
          <a:blip r:embed="rId1"/>
          <a:stretch/>
        </p:blipFill>
        <p:spPr>
          <a:xfrm>
            <a:off x="6084720" y="3573360"/>
            <a:ext cx="2770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37450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Эпиграф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688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Урок – клеточка педагогического процесса. В нем, как солнце в капле воды, отражаются все его стороны. Если не вся, то значительная часть педагогики концентрируется в урок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6" descr="j0417332[1]"/>
          <p:cNvPicPr/>
          <p:nvPr/>
        </p:nvPicPr>
        <p:blipFill>
          <a:blip r:embed="rId1"/>
          <a:stretch/>
        </p:blipFill>
        <p:spPr>
          <a:xfrm>
            <a:off x="5651640" y="2924280"/>
            <a:ext cx="34923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55640" y="3141720"/>
            <a:ext cx="633744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Излож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Бесе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476360" y="404640"/>
            <a:ext cx="6264360" cy="2953080"/>
          </a:xfrm>
          <a:custGeom>
            <a:avLst/>
            <a:gdLst>
              <a:gd name="textAreaLeft" fmla="*/ 1429920 w 6264360"/>
              <a:gd name="textAreaRight" fmla="*/ 4834440 w 626436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 степени взаимодействия учителя и  учащего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AG00010_"/>
          <p:cNvPicPr/>
          <p:nvPr/>
        </p:nvPicPr>
        <p:blipFill>
          <a:blip r:embed="rId1"/>
          <a:stretch/>
        </p:blipFill>
        <p:spPr>
          <a:xfrm>
            <a:off x="5796000" y="3500280"/>
            <a:ext cx="2916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939040" y="786600"/>
            <a:ext cx="4215960" cy="134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 принципу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асчленения или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единения знаний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2014920"/>
            <a:ext cx="662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Аналитическ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интетическ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равнительн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Обобщающ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Классификацион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BD07205_"/>
          <p:cNvPicPr/>
          <p:nvPr/>
        </p:nvPicPr>
        <p:blipFill>
          <a:blip r:embed="rId1"/>
          <a:stretch/>
        </p:blipFill>
        <p:spPr>
          <a:xfrm>
            <a:off x="250920" y="3789360"/>
            <a:ext cx="3314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939040" y="753480"/>
            <a:ext cx="4215960" cy="1271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о характеру движения мысли от незнания к знанию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24000" y="240444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Индуктивны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Дедуктивны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Традуктивны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6" descr="PE07261_"/>
          <p:cNvPicPr/>
          <p:nvPr/>
        </p:nvPicPr>
        <p:blipFill>
          <a:blip r:embed="rId1"/>
          <a:stretch/>
        </p:blipFill>
        <p:spPr>
          <a:xfrm>
            <a:off x="5076720" y="2997360"/>
            <a:ext cx="37702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611280" y="189000"/>
            <a:ext cx="8136000" cy="129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епени активности познаватель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ятель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2924280"/>
            <a:ext cx="2881080" cy="158436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ъяснительно-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ллюстративн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2771640" y="1628640"/>
            <a:ext cx="3888000" cy="158436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роблемн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012000" y="2997360"/>
            <a:ext cx="2881080" cy="1439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исков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1476360" y="5013360"/>
            <a:ext cx="3241800" cy="1655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следовательск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4572000" y="5013360"/>
            <a:ext cx="3456000" cy="15858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Репродуктив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H="1">
            <a:off x="1979640" y="1341360"/>
            <a:ext cx="144000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6012000" y="1341360"/>
            <a:ext cx="122400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619280" y="45086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7093080" y="4437000"/>
            <a:ext cx="3585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19" descr="AG00317_"/>
          <p:cNvPicPr/>
          <p:nvPr/>
        </p:nvPicPr>
        <p:blipFill>
          <a:blip r:embed="rId1"/>
          <a:stretch/>
        </p:blipFill>
        <p:spPr>
          <a:xfrm>
            <a:off x="3708360" y="2708280"/>
            <a:ext cx="2016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712980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Ф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1" lang="ru-RU" sz="4800" spc="-1" strike="noStrike">
                <a:solidFill>
                  <a:srgbClr val="009900"/>
                </a:solidFill>
                <a:latin typeface="Tahoma"/>
              </a:rPr>
              <a:t>П</a:t>
            </a:r>
            <a:r>
              <a:rPr b="1" lang="ru-RU" sz="4800" spc="-1" strike="noStrike">
                <a:solidFill>
                  <a:srgbClr val="cc00ff"/>
                </a:solidFill>
                <a:latin typeface="Tahoma"/>
              </a:rPr>
              <a:t>Д</a:t>
            </a: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   - формы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организации познавательной деятельности учащихс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BD07151_"/>
          <p:cNvPicPr/>
          <p:nvPr/>
        </p:nvPicPr>
        <p:blipFill>
          <a:blip r:embed="rId1"/>
          <a:stretch/>
        </p:blipFill>
        <p:spPr>
          <a:xfrm>
            <a:off x="6732720" y="3592440"/>
            <a:ext cx="2160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/>
          <p:cNvSpPr/>
          <p:nvPr/>
        </p:nvSpPr>
        <p:spPr>
          <a:xfrm>
            <a:off x="1547640" y="333360"/>
            <a:ext cx="612144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Формы обучения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24000" y="2205000"/>
            <a:ext cx="4679640" cy="9367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39640" y="3645000"/>
            <a:ext cx="431964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руппов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50920" y="5229360"/>
            <a:ext cx="4824360" cy="93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оллектив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3276720" y="1413000"/>
            <a:ext cx="15825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11" descr="PE07265_"/>
          <p:cNvPicPr/>
          <p:nvPr/>
        </p:nvPicPr>
        <p:blipFill>
          <a:blip r:embed="rId1"/>
          <a:stretch/>
        </p:blipFill>
        <p:spPr>
          <a:xfrm>
            <a:off x="5148360" y="3500280"/>
            <a:ext cx="3816360" cy="3105360"/>
          </a:xfrm>
          <a:prstGeom prst="rect">
            <a:avLst/>
          </a:prstGeom>
          <a:ln w="0">
            <a:noFill/>
          </a:ln>
        </p:spPr>
      </p:pic>
      <p:sp>
        <p:nvSpPr>
          <p:cNvPr id="180" name="Line 13"/>
          <p:cNvSpPr/>
          <p:nvPr/>
        </p:nvSpPr>
        <p:spPr>
          <a:xfrm flipH="1">
            <a:off x="2843280" y="3141720"/>
            <a:ext cx="15112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1618920" y="4581360"/>
            <a:ext cx="18730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5364000" y="2133720"/>
            <a:ext cx="3529080" cy="1152360"/>
          </a:xfrm>
          <a:prstGeom prst="ellipse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4932360" y="1413000"/>
            <a:ext cx="187164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уктура урока – это сочетание, взимосвязь элементов и частей урок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Cloud"/>
          <p:cNvSpPr/>
          <p:nvPr/>
        </p:nvSpPr>
        <p:spPr>
          <a:xfrm>
            <a:off x="611280" y="2060640"/>
            <a:ext cx="4608360" cy="2232000"/>
          </a:xfrm>
          <a:prstGeom prst="pie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тап уро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loud"/>
          <p:cNvSpPr/>
          <p:nvPr/>
        </p:nvSpPr>
        <p:spPr>
          <a:xfrm>
            <a:off x="3851280" y="3141720"/>
            <a:ext cx="4968720" cy="266364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М – дидактический момент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9" descr="j0290502[1]"/>
          <p:cNvPicPr/>
          <p:nvPr/>
        </p:nvPicPr>
        <p:blipFill>
          <a:blip r:embed="rId1"/>
          <a:stretch/>
        </p:blipFill>
        <p:spPr>
          <a:xfrm>
            <a:off x="395280" y="4365720"/>
            <a:ext cx="360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Механизм» достижения це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68360" y="3357720"/>
            <a:ext cx="1871640" cy="1150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Д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Цель ур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843280" y="1989000"/>
            <a:ext cx="1800000" cy="12956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держ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ог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риа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771640" y="5013360"/>
            <a:ext cx="1871640" cy="122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500720" y="3357720"/>
            <a:ext cx="2016000" cy="1223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ПД фор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7380360" y="3284640"/>
            <a:ext cx="1368360" cy="122400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1258920" y="2781360"/>
            <a:ext cx="165744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258920" y="4508640"/>
            <a:ext cx="1584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4572000" y="2565360"/>
            <a:ext cx="1224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 flipV="1">
            <a:off x="4643280" y="4581000"/>
            <a:ext cx="115272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6516720" y="393372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4" descr="BD05012_"/>
          <p:cNvPicPr/>
          <p:nvPr/>
        </p:nvPicPr>
        <p:blipFill>
          <a:blip r:embed="rId1"/>
          <a:stretch/>
        </p:blipFill>
        <p:spPr>
          <a:xfrm>
            <a:off x="6372360" y="4797360"/>
            <a:ext cx="25002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16920" cy="1461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блюдение правил, обеспечивающих успешное проведение урока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ыть собранным, четко и ясно ставить задачи перед учащимися, соблюдать логику изложения материа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ыть доброжелательным, не оскорблять учеников, не возмущаться их незнанием или непонимание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перебивать ученика, дать ему договорить. Нечеткий ответ может быть следствием неясного вопро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7064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ния и инструктаж давать четко, кратко, с обязательным выяснением того, как ученики поняли треб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стально следить за тем, как учащиеся слушают учителя. Потеря внимания — сигнал о том, что надо изменить темп, повторить изложенное или включить в ход урока дополнительный матери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ть время, вовремя начинать урок, заканчивать его со звонком, не допускать длительных проработок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Учитель, — говори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. А. Сухомлинский,—готовится к хорошему уроку всю жизнь... Такова духовная и философская основа нашей профессии и технологии нашего труда: чтобы открыть перед учениками искорку знаний, учителю надо впитать море света, ни на минуту не уходя от лучей вечно сияющего солнца знаний, человеческой мудрост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BD07155_"/>
          <p:cNvPicPr/>
          <p:nvPr/>
        </p:nvPicPr>
        <p:blipFill>
          <a:blip r:embed="rId1"/>
          <a:stretch/>
        </p:blipFill>
        <p:spPr>
          <a:xfrm>
            <a:off x="6227640" y="4149720"/>
            <a:ext cx="24289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биваться выполнения каждого своего требования. Ни одно требование на уроке не должно быть просто продекларированным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мп урока поддерживать интенсивным, но посильным для большин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имулировать вопросы учащихся, поддерживать их инициативу, одобрять их активность и осведомлен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4" descr="bd05102_[1]"/>
          <p:cNvPicPr/>
          <p:nvPr/>
        </p:nvPicPr>
        <p:blipFill>
          <a:blip r:embed="rId1"/>
          <a:stretch/>
        </p:blipFill>
        <p:spPr>
          <a:xfrm>
            <a:off x="4500720" y="4338720"/>
            <a:ext cx="439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j0415490[1]"/>
          <p:cNvPicPr/>
          <p:nvPr/>
        </p:nvPicPr>
        <p:blipFill>
          <a:blip r:embed="rId1"/>
          <a:stretch/>
        </p:blipFill>
        <p:spPr>
          <a:xfrm>
            <a:off x="6012000" y="3213000"/>
            <a:ext cx="2894040" cy="3443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7875720" y="2830680"/>
            <a:ext cx="0" cy="116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ное содержание разделов поурочного план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468360" y="1916280"/>
            <a:ext cx="70563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ема урок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Дидактическая цель и задачи уро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Тип, структура уро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бщие методы,  прием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Средства наглядност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источники информаци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ТСО, ЭВ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  <a:ea typeface="Arial"/>
              </a:rPr>
              <a:t>Структура уро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BD07210_"/>
          <p:cNvPicPr/>
          <p:nvPr/>
        </p:nvPicPr>
        <p:blipFill>
          <a:blip r:embed="rId1"/>
          <a:stretch/>
        </p:blipFill>
        <p:spPr>
          <a:xfrm>
            <a:off x="395280" y="549360"/>
            <a:ext cx="8569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10920" y="476280"/>
            <a:ext cx="756108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у отводится не мене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98 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чебного вре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в среднем даёт боле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25 тыся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урок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ждый школьник за годы своего ученичества посещает поч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10 000 урок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8" descr="AG00322_"/>
          <p:cNvPicPr/>
          <p:nvPr/>
        </p:nvPicPr>
        <p:blipFill>
          <a:blip r:embed="rId1"/>
          <a:stretch/>
        </p:blipFill>
        <p:spPr>
          <a:xfrm>
            <a:off x="6443640" y="4149720"/>
            <a:ext cx="2087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рок является живой клеткой    учебно - воспитательного процесса, всё самое важное и самое главное для школьника совершается на уро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сё остальное в школе играет важную, но вспомогательную рол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AG00040_"/>
          <p:cNvPicPr/>
          <p:nvPr/>
        </p:nvPicPr>
        <p:blipFill>
          <a:blip r:embed="rId1"/>
          <a:stretch/>
        </p:blipFill>
        <p:spPr>
          <a:xfrm>
            <a:off x="5940360" y="441000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932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40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олько на уроке можно увидеть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овы отношения учителя и учащих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убоко или поверхностно он знает свой предм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то он: примитивный информатор или организатор процесса учения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еспечивает ли он прочные знания, умения и навык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заключает в себе исходная идея современных научных представлений об уроке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кой идеей является представление о единств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оспитан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развит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j0088956[1]"/>
          <p:cNvPicPr/>
          <p:nvPr/>
        </p:nvPicPr>
        <p:blipFill>
          <a:blip r:embed="rId1"/>
          <a:stretch/>
        </p:blipFill>
        <p:spPr>
          <a:xfrm>
            <a:off x="4500720" y="3573360"/>
            <a:ext cx="439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Tahoma"/>
              </a:rPr>
              <a:t>ОСНОВНЫЕ КОМПОНЕНТЫ СОВРЕМЕННОГО УРОК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. Организацион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рганизация класса в течение всего урока, готовность учащихся к уроку, порядок и дисципли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Целевой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остановка целей учения перед учащимися, как на весь урок, так и на отдельные его эта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пределение значимости изучаемого материала как в данной теме, так и во всем курс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тив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уровень общения учителя с класс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ОСНОВНЫЕ КОМПОНЕНТЫ СОВРЕМЕННОГО УРОК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держательн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одбор материала для изучения, закрепления, повторения, самостоятельной работы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хнологическ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выбор форм, методов и приемов обучения, оптимальных для данного типа урока, для данной темы, для данного класса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трольно-оценочн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использование оценки деятельности ученика на уроке для стимулирования его активности и развития познавательного интере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.Аналитическ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одведение итогов урока, анализ деятельности учащихся на уроке, анализ результатов собственной деятельности по организации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6:08:53Z</dcterms:created>
  <dc:creator>Франк</dc:creator>
  <dc:description/>
  <dc:language>en-US</dc:language>
  <cp:lastModifiedBy>админ</cp:lastModifiedBy>
  <dcterms:modified xsi:type="dcterms:W3CDTF">2013-10-11T09:13:36Z</dcterms:modified>
  <cp:revision>51</cp:revision>
  <dc:subject/>
  <dc:title>Использование педагогических технологий в процессе обучения. Опыт работы использования персонального компьютера  на уроках истории, обществознания и МХК.</dc:title>
</cp:coreProperties>
</file>