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1DA2-CDF8-4A44-A020-F8C2FEE2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550-BF77-4D54-9491-E9D09D2D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4EB2-3935-4F12-8CEB-60F40E3C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FC13-9D28-439A-A7CF-B30D1670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5CC-77A1-444D-A64D-B7273FD8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98A-3345-4C3C-868B-D3FF5D1E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7557-B515-4309-A63C-32F1BEBB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843C-550F-4AD7-B940-31EE1258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25B-0DE4-4E28-99F7-407120DE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AD3D-68B9-4467-9FF5-773CD9BE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E6D-71FF-4481-8B9B-0DA101DB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4DC2-A003-4651-8C6B-2FB6EA7F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52A0-525B-4EE5-B2A2-F2EA294C0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836640"/>
            <a:ext cx="889308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эты и писатели о русском язы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3257640" cy="4000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419640" y="189000"/>
            <a:ext cx="53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т слова, которое было бы так замашисто, бойко, так вырывалось бы из-под самого сердца, так бы кипело и животрепетало, как метко сказанное русское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494172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ликий украинский писатель Николай Васильевич Гог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333360"/>
            <a:ext cx="5400720" cy="51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92520"/>
            <a:ext cx="8424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ивишься драгоценности нашего языка: что ни звук, то и подарок: все зернис-то, крупно, как сам жемчуг, и, право, иное названье еще драгоценней самой вещи. / Великий украин-ский писатель Николай Васильевич Гого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89000"/>
            <a:ext cx="842472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76720" y="292680"/>
            <a:ext cx="3888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 бы я был царь, я бы издал закон, что писатель, который употребит слово, значения которого он не может объяснить, лишается права писать и получает 100 ударов розог. / Великий русский писатель, автор романа "Война и мир" Л. Н. 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91240" cy="6827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76720" y="333360"/>
            <a:ext cx="3888000" cy="619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55640" y="1037520"/>
            <a:ext cx="7777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равственность человека видна в его отношении к слову. / Великий русский писатель, автор романа "Война и мир" Л. Н. Толст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765000"/>
            <a:ext cx="7848720" cy="532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51280" y="1463040"/>
            <a:ext cx="504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т таких звуков, красок, образов и мыслей - сложных и простых, - для которых не нашлось бы в нашем языке точного выраж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930400" cy="3240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635280" y="620640"/>
            <a:ext cx="5329440" cy="576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292640"/>
            <a:ext cx="2786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усский писатель Константин Пауст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932360" y="1071000"/>
            <a:ext cx="38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Язык есть вековой тр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ого покол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 Толковый словарь Даля 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971880" cy="523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5826240"/>
            <a:ext cx="48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димир Иванович  Д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404640"/>
            <a:ext cx="4033800" cy="518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55640" y="95760"/>
            <a:ext cx="7920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Употреблять иностранное слово, когда есть равносильное ему русское слово, - значит оскорблять и здравый смысл, и здравый вкус». / Великий российский критик В. Бели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148280" cy="4608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43280" y="333360"/>
            <a:ext cx="316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й язык в умелых руках и в опытных устах - красив, певуч, выразителен, гибок, послушен, ловок и вместител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300640"/>
            <a:ext cx="384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й писатель А. Куп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333360"/>
            <a:ext cx="3889440" cy="54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76720" y="519480"/>
            <a:ext cx="525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 дни сомнений, во дни тягостных раздумий о судьбах моей родины, - ты один мне поддержка и опора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 великий, могучий, правдивый и свободный русский язы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 Не будь тебя - как не впасть в отчаяние при виде всего, что совершается дома? Но нельзя верить, чтобы такой язык не был дан великому народ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2979720" cy="4032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9280" y="4653000"/>
            <a:ext cx="28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дающийся русский литера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. Турген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8000" y="476280"/>
            <a:ext cx="5327640" cy="568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05:12:35Z</dcterms:created>
  <dc:creator>12</dc:creator>
  <dc:description/>
  <dc:language>en-US</dc:language>
  <cp:lastModifiedBy>12</cp:lastModifiedBy>
  <dcterms:modified xsi:type="dcterms:W3CDTF">2009-09-02T10:31:38Z</dcterms:modified>
  <cp:revision>4</cp:revision>
  <dc:subject/>
  <dc:title>Слайд 1</dc:title>
</cp:coreProperties>
</file>