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A671-AEE2-45D3-A764-8C5CF1F5E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детей с луговыми и садовыми цве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знакомить с раст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лубить знание детей о раст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спитывать способность наслаждаться цв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спитывать умение удивляться красоте родн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сширять представление родителей о раст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A09-020C-48F0-B39D-EE3F63D5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195-0C22-401D-91AE-627AF585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A79-A7C1-41E9-8425-1ED3BDEA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AC3-2E70-4AA8-AC78-BCEAEC69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DA72-616B-47AE-9E62-A30D9A4B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FFEA-1A03-4454-A3A0-16200731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61AB-E0B3-466F-A883-347D9A21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8396-DBE2-4899-8742-41C3EBF6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C15D-F756-4A45-A920-58D54B81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6B77-C9EE-44C7-9D12-10838A9A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67FC-70E0-4942-B0E7-87C8B2EB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2DF-56E8-4F53-8F15-6E10B0C6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FFD0-34A2-4701-8209-1357057D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DE87-4D77-4517-8D58-8FC05FC0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F6A2-E419-4F5C-BFFB-892E8D0B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0594-E6FB-4A6F-9AAB-46789A69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B90E-7329-4A3E-AB81-1887C469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91C-E28F-473F-BE06-0BE80A65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5D7-4BF9-420E-B15C-6979EBC8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C91-EAF6-432A-A8C6-98DAAF4D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6BF-52DB-4539-8DA5-93FE7D6B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B77-DD68-4954-8446-011EE501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498-20FB-404C-9FAD-670E9F8C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B6A-739B-4482-ACE1-F3FB6E77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5BD4-D54D-4B9F-B6CB-19414EA762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83D-C2CD-4F0E-9C9A-058818EA11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19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Цветы луговые, садовые, лесны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92504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3851280" cy="2744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6716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224" b="10896"/>
          <a:stretch/>
        </p:blipFill>
        <p:spPr>
          <a:xfrm>
            <a:off x="2771640" y="765000"/>
            <a:ext cx="1851120" cy="20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7162" t="-2768" r="7313" b="0"/>
          <a:stretch/>
        </p:blipFill>
        <p:spPr>
          <a:xfrm>
            <a:off x="7236000" y="260280"/>
            <a:ext cx="1584000" cy="3024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003640" y="765000"/>
            <a:ext cx="1833840" cy="201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 &amp;Fcy;&amp;ocy;&amp;tcy;&amp;ocy; 34. &amp;Rcy;&amp;ocy;&amp;mcy;&amp;acy;&amp;shcy;&amp;kcy;&amp;acy;. "/>
          <p:cNvPicPr/>
          <p:nvPr/>
        </p:nvPicPr>
        <p:blipFill>
          <a:blip r:embed="rId4"/>
          <a:stretch/>
        </p:blipFill>
        <p:spPr>
          <a:xfrm>
            <a:off x="611280" y="3516480"/>
            <a:ext cx="1836720" cy="3008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39640" y="404640"/>
            <a:ext cx="1598760" cy="2880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3780000" y="3429000"/>
            <a:ext cx="1836720" cy="311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6948360" y="3500280"/>
            <a:ext cx="19051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40360" y="836640"/>
            <a:ext cx="1508040" cy="23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372360" y="333360"/>
            <a:ext cx="2253960" cy="324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42920" y="333360"/>
            <a:ext cx="2311560" cy="3240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635280" y="3789360"/>
            <a:ext cx="2370240" cy="273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635280" y="3789360"/>
            <a:ext cx="2370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700360" cy="2022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9440" t="0" r="14460" b="0"/>
          <a:stretch/>
        </p:blipFill>
        <p:spPr>
          <a:xfrm>
            <a:off x="3492360" y="1413000"/>
            <a:ext cx="1071720" cy="1876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15505" t="-3597" r="16326" b="0"/>
          <a:stretch/>
        </p:blipFill>
        <p:spPr>
          <a:xfrm>
            <a:off x="2340000" y="4076640"/>
            <a:ext cx="1584360" cy="2043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rcRect l="7894" t="-2842" r="5472" b="0"/>
          <a:stretch/>
        </p:blipFill>
        <p:spPr>
          <a:xfrm>
            <a:off x="324000" y="2781360"/>
            <a:ext cx="1539720" cy="2495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rcRect l="8219" t="0" r="9845" b="1834"/>
          <a:stretch/>
        </p:blipFill>
        <p:spPr>
          <a:xfrm>
            <a:off x="6877080" y="333360"/>
            <a:ext cx="1440000" cy="237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4932360" y="404640"/>
            <a:ext cx="1008000" cy="187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rcRect l="50005" t="-1747" r="2361" b="9334"/>
          <a:stretch/>
        </p:blipFill>
        <p:spPr>
          <a:xfrm>
            <a:off x="4572000" y="5157720"/>
            <a:ext cx="1152360" cy="144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5292720" y="3357720"/>
            <a:ext cx="1139760" cy="1326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rcRect l="10541" t="6480" r="15624" b="0"/>
          <a:stretch/>
        </p:blipFill>
        <p:spPr>
          <a:xfrm>
            <a:off x="7380360" y="3573360"/>
            <a:ext cx="1324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11205" t="0" r="45940" b="-1179"/>
          <a:stretch/>
        </p:blipFill>
        <p:spPr>
          <a:xfrm>
            <a:off x="468360" y="260280"/>
            <a:ext cx="2087640" cy="1490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5013360"/>
            <a:ext cx="2016000" cy="1436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356000" y="1844640"/>
            <a:ext cx="1598760" cy="2879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H="1" flipV="1">
            <a:off x="2700360" y="1125360"/>
            <a:ext cx="1511280" cy="16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rcRect l="8219" t="0" r="9845" b="1834"/>
          <a:stretch/>
        </p:blipFill>
        <p:spPr>
          <a:xfrm>
            <a:off x="4356000" y="1916280"/>
            <a:ext cx="1440000" cy="2376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>
            <a:off x="2556000" y="3141720"/>
            <a:ext cx="172872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356000" y="1844640"/>
            <a:ext cx="1871640" cy="287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2556000" y="4076640"/>
            <a:ext cx="1728720" cy="187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64360" cy="4145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66920" y="1081080"/>
            <a:ext cx="597708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18:57:16Z</dcterms:created>
  <dc:creator>римма</dc:creator>
  <dc:description/>
  <dc:language>en-US</dc:language>
  <cp:lastModifiedBy>римма</cp:lastModifiedBy>
  <dcterms:modified xsi:type="dcterms:W3CDTF">2013-10-11T14:58:24Z</dcterms:modified>
  <cp:revision>7</cp:revision>
  <dc:subject/>
  <dc:title>Цветы луга и садовые цветы</dc:title>
</cp:coreProperties>
</file>