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B5FDE-8851-498A-AA56-634F0B9A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04ED2-763F-4315-96CC-C6836AF6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2D1F4-5341-46F3-9FF0-BC9BC223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AB22F-16AA-4BD5-A34A-5F6E6A9E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4FCA-233D-492A-9EFA-B6A53F28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51C3-357B-4060-AD16-37F2B7F8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0FEE-3332-458F-833A-BF8F3587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9CB2-9FB5-42A2-B2E3-9283C547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8FD4-F617-4DD0-AC6A-534A7A5B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1F7B-3B00-4260-96B3-7FD5E9E7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DB1D-805B-4011-A394-88845158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49B72-E590-4C0A-9B1E-05E0F2BA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EA15-234D-4A9F-A219-DC81FA6E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2678-B7FD-4C91-A1E0-754692DE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A556-F34D-4F22-92D7-35840626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C5F9-1FA4-4311-9BE4-B87FE7E8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C94F-EB55-49DA-BEA1-E9A7D454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0012C-32BA-4797-AC12-4EC0D6F0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E5680-9ACD-407D-B07F-68276793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1E8C3-66F5-4B9E-B783-A763049B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B37F-FC88-4D9B-95A7-CAC2633E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7E26E-19BD-4A9B-BA5E-AB23689C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6B31F-1C19-458B-A407-1B332D55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9CD07-411F-4297-977C-AF36C6DB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9178-A783-4AF4-A9E6-2DC95520DF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C6E0-658A-4037-90EB-37EDA64ED6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900" spc="-1" strike="noStrike">
                <a:solidFill>
                  <a:srgbClr val="800000"/>
                </a:solidFill>
                <a:latin typeface="Arial"/>
              </a:rPr>
              <a:t>Алгебра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71320" y="4266720"/>
            <a:ext cx="8358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800000"/>
                </a:solidFill>
                <a:latin typeface="Times New Roman"/>
              </a:rPr>
              <a:t>Подготовил: ученик 9 класса Минеев Иго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800000"/>
                </a:solidFill>
                <a:latin typeface="Times New Roman"/>
              </a:rPr>
              <a:t>Учитель математики МОУ Андреевской СО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800000"/>
                </a:solidFill>
                <a:latin typeface="Times New Roman"/>
              </a:rPr>
              <a:t>Самойлова Л. 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Игра </a:t>
            </a: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«Крестики-нол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47640" y="1844640"/>
          <a:ext cx="6245280" cy="4759200"/>
        </p:xfrm>
        <a:graphic>
          <a:graphicData uri="http://schemas.openxmlformats.org/drawingml/2006/table">
            <a:tbl>
              <a:tblPr/>
              <a:tblGrid>
                <a:gridCol w="2130480"/>
                <a:gridCol w="2057400"/>
                <a:gridCol w="2057400"/>
              </a:tblGrid>
              <a:tr h="15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помн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и задач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оги Земл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ерцание природ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ёрный ящ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оги друг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Конкурс </a:t>
            </a:r>
            <a:r>
              <a:rPr b="1" i="1" lang="ru-RU" sz="4800" spc="-1" strike="noStrike">
                <a:solidFill>
                  <a:srgbClr val="800000"/>
                </a:solidFill>
                <a:latin typeface="Times New Roman"/>
              </a:rPr>
              <a:t>«Реши задач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лощадь Брединского района 5200 км2, а площадь Аркаима–2 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колько процентов занимает площадь Аркаима от площади райо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132000" y="260280"/>
            <a:ext cx="5792760" cy="4257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333360"/>
            <a:ext cx="302436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ркаи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это степь, и холмы и поля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ркаи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это русская наша Зем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ркаи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это ширь и полёт для душ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десь никто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никогда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никуда н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спеш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419280" y="4581360"/>
            <a:ext cx="554508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а Урале 69 тысяч рек. Это 3% от общего количества рек России. Из них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лишен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ние: - Поставьте  разные вопросы к задаче. (Выбираем 2 из предложенн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Как найти число по его дроб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Решить задачу удобным способ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Конкурс </a:t>
            </a: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«Помоги Земл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7138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Каждую осень одна рыбка выбрасывает в нерест 3200 икри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сной из них рождается 640 маль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год уцелеет только 64 маль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те процент смертности рыб за год жизни в озе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Конкурс </a:t>
            </a: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«Помоги друг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684160"/>
            <a:ext cx="822960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Глубина Аральского моря изменилась за последние десятилетия от 51м до 43м        Найдите изменение величины в процен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Конкурс </a:t>
            </a: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«Природа любит и исцеляет на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лагаем лечебный рецепт «Эликсира молодости» (Решить задачу по краткой запис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идоры -  в 2 раза  больше, чем капу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пуста  - ?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ук - в 5 раз меньше, чем капу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: 320 гр эликс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грамм помидор, капусты и лука следует взя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3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3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3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3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Конкурс </a:t>
            </a: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«Созерцание природ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Конкурс </a:t>
            </a:r>
            <a:r>
              <a:rPr b="1" i="1" lang="ru-RU" sz="4800" spc="-1" strike="noStrike">
                <a:solidFill>
                  <a:srgbClr val="800000"/>
                </a:solidFill>
                <a:latin typeface="Times New Roman"/>
              </a:rPr>
              <a:t>«Чёрный ящи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 Площадь Андреевского сельского поселения 30863 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 них занято сенокосом – 2103 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колько процентов составляют сенокосные угодья от всей площад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. ООО СП «Сплав» в 2006 году исполнится 15 л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 день образования в их владение перешло 164  га пашн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 сегодня пашня составляет – 9000 г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нокосных угодий –  2000 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числите на сколько % произошло увеличение пропашных и сенокосных угод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7" dur="3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3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3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3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" dur="3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" dur="3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" dur="3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425760"/>
            <a:ext cx="82296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800000"/>
                </a:solidFill>
                <a:latin typeface="Times New Roman"/>
              </a:rPr>
              <a:t>Решение зада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Тип 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499840"/>
            <a:ext cx="822960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00000"/>
                </a:solidFill>
                <a:latin typeface="Times New Roman"/>
              </a:rPr>
              <a:t>Интегрированный урок </a:t>
            </a:r>
            <a:br>
              <a:rPr sz="5400"/>
            </a:br>
            <a:r>
              <a:rPr b="1" i="1" lang="ru-RU" sz="5400" spc="-1" strike="noStrike">
                <a:solidFill>
                  <a:srgbClr val="800000"/>
                </a:solidFill>
                <a:latin typeface="Times New Roman"/>
              </a:rPr>
              <a:t>с использованием дидактической иг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Цель 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746080"/>
            <a:ext cx="8229600" cy="31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Times New Roman"/>
              </a:rPr>
              <a:t>Реализация НРК через решение текстовых зада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800000"/>
                </a:solidFill>
                <a:latin typeface="Times New Roman"/>
              </a:rPr>
              <a:t>Есть просто храм,</a:t>
            </a:r>
            <a:br>
              <a:rPr sz="6000"/>
            </a:br>
            <a:r>
              <a:rPr b="1" i="1" lang="ru-RU" sz="6000" spc="-1" strike="noStrike">
                <a:solidFill>
                  <a:srgbClr val="800000"/>
                </a:solidFill>
                <a:latin typeface="Times New Roman"/>
              </a:rPr>
              <a:t> Есть храм науки, </a:t>
            </a:r>
            <a:br>
              <a:rPr sz="6000"/>
            </a:br>
            <a:r>
              <a:rPr b="1" i="1" lang="ru-RU" sz="6000" spc="-1" strike="noStrike">
                <a:solidFill>
                  <a:srgbClr val="800000"/>
                </a:solidFill>
                <a:latin typeface="Times New Roman"/>
              </a:rPr>
              <a:t>  А есть природы хра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Этапы</a:t>
            </a: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68360" y="1413000"/>
            <a:ext cx="309564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икторин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Мой край в цифрах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и факт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843280" y="2565360"/>
            <a:ext cx="3311280" cy="93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идактическая игр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«Крестики-нол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356000" y="3860640"/>
            <a:ext cx="3240360" cy="1008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ворческо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«Урожай-200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5292720" y="5300640"/>
            <a:ext cx="345600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ключительный этап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флек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В честь какого святого апостола назван наш посел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В каком году был образован поселок Андреевски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2563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Когда был организов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елок Бред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 административ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  район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На водоразделе каких ре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асположен Южный Ура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Какова площад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Брединского райо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Количество населенных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н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Количество оз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Количество р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35384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 Как называется музей-заповедник «Стран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город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4710240" cy="447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4390920" y="5427720"/>
            <a:ext cx="475308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08:29:26Z</dcterms:created>
  <dc:creator>Самойлова</dc:creator>
  <dc:description/>
  <dc:language>en-US</dc:language>
  <cp:lastModifiedBy>777</cp:lastModifiedBy>
  <dcterms:modified xsi:type="dcterms:W3CDTF">2013-10-11T16:46:37Z</dcterms:modified>
  <cp:revision>3</cp:revision>
  <dc:subject/>
  <dc:title>Алгебра</dc:title>
</cp:coreProperties>
</file>