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95C-C4DA-4710-B231-1487D012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1FE-82E4-4AA2-8560-4F54F667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BED-DF24-496F-AFE1-C61858B6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5E3-C99C-4B20-B123-F7BCD3B2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B87-BFF7-466B-A78F-C38DFB9F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B1F-A198-43FE-A74C-204E1DC4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C1A-C405-4BBB-AF66-50181D6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DDA-FEB6-4DAF-B333-C182D2F5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54B-84B1-4DC8-89AD-88D302F3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BA3-B61C-4C3F-9881-54B65A9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A0C-6A17-4A15-9AAE-E6C936D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846-EB69-4D44-B15D-042A9A9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DFB-C02A-4122-ADF7-7E3A6404E1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357120" y="1857240"/>
            <a:ext cx="8572680" cy="250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2378160"/>
            <a:ext cx="8504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428760"/>
          <a:ext cx="8715600" cy="6216480"/>
        </p:xfrm>
        <a:graphic>
          <a:graphicData uri="http://schemas.openxmlformats.org/drawingml/2006/table">
            <a:tbl>
              <a:tblPr/>
              <a:tblGrid>
                <a:gridCol w="1428840"/>
                <a:gridCol w="2428920"/>
                <a:gridCol w="2714760"/>
                <a:gridCol w="214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If - cla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Main cla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Type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real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+ any present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 Simple, Pr. Pr., Pr. Perf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ure/Imperative/can, may,might/must/should+bare infinitive 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or likely to happen in the present or the  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you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fin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ork lately, we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ill g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or a wal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you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ll, see a docto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8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Typ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unreal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+ Past Simple or Past Progress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uld/ could/might + bare 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true in the present, also used to give adv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oney, I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trave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ound the worl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e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, I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ta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 umbrella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Type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unreal 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+ Past Perfect or Past perfect Progres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uld/could/might + have + past partici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inary situation contrary to facts in the past; used to express regrets or criticis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4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we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 not le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 early, we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have miss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pla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73080" y="2852640"/>
            <a:ext cx="5048280" cy="6159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4998960" y="2852640"/>
            <a:ext cx="4029120" cy="615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3"/>
          <a:stretch/>
        </p:blipFill>
        <p:spPr>
          <a:xfrm>
            <a:off x="4761000" y="2852640"/>
            <a:ext cx="609480" cy="6159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7"/>
          <p:cNvSpPr/>
          <p:nvPr/>
        </p:nvSpPr>
        <p:spPr>
          <a:xfrm>
            <a:off x="356400" y="3571920"/>
            <a:ext cx="1500120" cy="20718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8"/>
          <p:cNvSpPr/>
          <p:nvPr/>
        </p:nvSpPr>
        <p:spPr>
          <a:xfrm flipH="1">
            <a:off x="3071520" y="3429000"/>
            <a:ext cx="1785960" cy="22860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20" descr=""/>
          <p:cNvPicPr/>
          <p:nvPr/>
        </p:nvPicPr>
        <p:blipFill>
          <a:blip r:embed="rId4"/>
          <a:stretch/>
        </p:blipFill>
        <p:spPr>
          <a:xfrm>
            <a:off x="1712880" y="5681520"/>
            <a:ext cx="1573200" cy="663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2" descr=""/>
          <p:cNvPicPr/>
          <p:nvPr/>
        </p:nvPicPr>
        <p:blipFill>
          <a:blip r:embed="rId5"/>
          <a:stretch/>
        </p:blipFill>
        <p:spPr>
          <a:xfrm>
            <a:off x="6151680" y="5754600"/>
            <a:ext cx="1912680" cy="658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23"/>
          <p:cNvSpPr/>
          <p:nvPr/>
        </p:nvSpPr>
        <p:spPr>
          <a:xfrm flipH="1">
            <a:off x="7429680" y="3357720"/>
            <a:ext cx="1428480" cy="24285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4"/>
          <p:cNvSpPr/>
          <p:nvPr/>
        </p:nvSpPr>
        <p:spPr>
          <a:xfrm>
            <a:off x="5214960" y="3429000"/>
            <a:ext cx="1357200" cy="23572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36" descr=""/>
          <p:cNvPicPr/>
          <p:nvPr/>
        </p:nvPicPr>
        <p:blipFill>
          <a:blip r:embed="rId6"/>
          <a:stretch/>
        </p:blipFill>
        <p:spPr>
          <a:xfrm>
            <a:off x="353880" y="1006560"/>
            <a:ext cx="822348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1682640" y="1755720"/>
            <a:ext cx="6265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2920" y="81000"/>
          <a:ext cx="8786880" cy="6283440"/>
        </p:xfrm>
        <a:graphic>
          <a:graphicData uri="http://schemas.openxmlformats.org/drawingml/2006/table">
            <a:tbl>
              <a:tblPr/>
              <a:tblGrid>
                <a:gridCol w="4775040"/>
                <a:gridCol w="4011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(to call) you when he (to retur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  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ill cal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whe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tur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you (to have) some news, call me back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ve 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news, call me back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my friends (to come) in, ask them to wa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friends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me i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ask them to wa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 the message to your teacher as soon as you (to come) to scho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 the message to your teacher </a:t>
                      </a: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as soon a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m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to  scho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Paul (to enter) the competition, he (to wi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ul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nter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ompetition, he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ll w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(not to go) to work unless she (to be) bet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ll not  g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ork </a:t>
                      </a: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unles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he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you (to drink) too much coffee, you (not to be) able to slee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rink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o much coffee, you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ll not  be ab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slee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(to call) the police if the neighbors (not to stop) shout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ll call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olice </a:t>
                      </a: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eighbors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 not  sto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shout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 Chinese restaurant (not to be) open, we (to go)  for a pizz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Chinese restaurant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 not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, we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ll  g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a pizz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never (to get) a good job if you (not to work) hard at scho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ll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er 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good job </a:t>
                      </a: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 not  work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 at scho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103320"/>
            <a:ext cx="6675480" cy="14396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219240" y="1627200"/>
            <a:ext cx="8894520" cy="9637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" descr=""/>
          <p:cNvPicPr/>
          <p:nvPr/>
        </p:nvPicPr>
        <p:blipFill>
          <a:blip r:embed="rId3"/>
          <a:stretch/>
        </p:blipFill>
        <p:spPr>
          <a:xfrm>
            <a:off x="-6480" y="3449520"/>
            <a:ext cx="4011840" cy="7812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4"/>
          <a:stretch/>
        </p:blipFill>
        <p:spPr>
          <a:xfrm>
            <a:off x="4492800" y="3449520"/>
            <a:ext cx="4017960" cy="7812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5" descr=""/>
          <p:cNvPicPr/>
          <p:nvPr/>
        </p:nvPicPr>
        <p:blipFill>
          <a:blip r:embed="rId5"/>
          <a:stretch/>
        </p:blipFill>
        <p:spPr>
          <a:xfrm>
            <a:off x="268200" y="4340160"/>
            <a:ext cx="804060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6" descr=""/>
          <p:cNvPicPr/>
          <p:nvPr/>
        </p:nvPicPr>
        <p:blipFill>
          <a:blip r:embed="rId6"/>
          <a:stretch/>
        </p:blipFill>
        <p:spPr>
          <a:xfrm>
            <a:off x="-6480" y="5877000"/>
            <a:ext cx="4011840" cy="4744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7" descr=""/>
          <p:cNvPicPr/>
          <p:nvPr/>
        </p:nvPicPr>
        <p:blipFill>
          <a:blip r:embed="rId7"/>
          <a:stretch/>
        </p:blipFill>
        <p:spPr>
          <a:xfrm>
            <a:off x="4352760" y="5877000"/>
            <a:ext cx="4010040" cy="474480"/>
          </a:xfrm>
          <a:prstGeom prst="rect">
            <a:avLst/>
          </a:prstGeom>
          <a:ln w="0">
            <a:noFill/>
          </a:ln>
        </p:spPr>
      </p:pic>
      <p:sp>
        <p:nvSpPr>
          <p:cNvPr id="63" name="Нашивка 36"/>
          <p:cNvSpPr/>
          <p:nvPr/>
        </p:nvSpPr>
        <p:spPr>
          <a:xfrm rot="5400000">
            <a:off x="1571040" y="5429160"/>
            <a:ext cx="714240" cy="142920"/>
          </a:xfrm>
          <a:custGeom>
            <a:avLst/>
            <a:gdLst>
              <a:gd name="textAreaLeft" fmla="*/ 0 w 714240"/>
              <a:gd name="textAreaRight" fmla="*/ 714600 w 7142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0" y="0"/>
                </a:lnTo>
                <a:lnTo>
                  <a:pt x="21600" y="10800"/>
                </a:lnTo>
                <a:lnTo>
                  <a:pt x="19440" y="21600"/>
                </a:lnTo>
                <a:lnTo>
                  <a:pt x="0" y="21600"/>
                </a:lnTo>
                <a:lnTo>
                  <a:pt x="216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ашивка 37"/>
          <p:cNvSpPr/>
          <p:nvPr/>
        </p:nvSpPr>
        <p:spPr>
          <a:xfrm rot="5400000">
            <a:off x="5928840" y="5429160"/>
            <a:ext cx="714240" cy="142920"/>
          </a:xfrm>
          <a:custGeom>
            <a:avLst/>
            <a:gdLst>
              <a:gd name="textAreaLeft" fmla="*/ 0 w 714240"/>
              <a:gd name="textAreaRight" fmla="*/ 714600 w 7142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0" y="0"/>
                </a:lnTo>
                <a:lnTo>
                  <a:pt x="21600" y="10800"/>
                </a:lnTo>
                <a:lnTo>
                  <a:pt x="19440" y="21600"/>
                </a:lnTo>
                <a:lnTo>
                  <a:pt x="0" y="21600"/>
                </a:lnTo>
                <a:lnTo>
                  <a:pt x="216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ашивка 42"/>
          <p:cNvSpPr/>
          <p:nvPr/>
        </p:nvSpPr>
        <p:spPr>
          <a:xfrm rot="5400000">
            <a:off x="1499760" y="3000240"/>
            <a:ext cx="714240" cy="142920"/>
          </a:xfrm>
          <a:custGeom>
            <a:avLst/>
            <a:gdLst>
              <a:gd name="textAreaLeft" fmla="*/ 0 w 714240"/>
              <a:gd name="textAreaRight" fmla="*/ 714600 w 7142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0" y="0"/>
                </a:lnTo>
                <a:lnTo>
                  <a:pt x="21600" y="10800"/>
                </a:lnTo>
                <a:lnTo>
                  <a:pt x="19440" y="21600"/>
                </a:lnTo>
                <a:lnTo>
                  <a:pt x="0" y="21600"/>
                </a:lnTo>
                <a:lnTo>
                  <a:pt x="216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ашивка 43"/>
          <p:cNvSpPr/>
          <p:nvPr/>
        </p:nvSpPr>
        <p:spPr>
          <a:xfrm rot="5400000">
            <a:off x="6000480" y="2928960"/>
            <a:ext cx="714600" cy="142560"/>
          </a:xfrm>
          <a:custGeom>
            <a:avLst/>
            <a:gdLst>
              <a:gd name="textAreaLeft" fmla="*/ 0 w 714600"/>
              <a:gd name="textAreaRight" fmla="*/ 714960 w 71460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0" y="0"/>
                </a:lnTo>
                <a:lnTo>
                  <a:pt x="21600" y="10800"/>
                </a:lnTo>
                <a:lnTo>
                  <a:pt x="19440" y="21600"/>
                </a:lnTo>
                <a:lnTo>
                  <a:pt x="0" y="21600"/>
                </a:lnTo>
                <a:lnTo>
                  <a:pt x="216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42920" y="81000"/>
          <a:ext cx="8858160" cy="6634080"/>
        </p:xfrm>
        <a:graphic>
          <a:graphicData uri="http://schemas.openxmlformats.org/drawingml/2006/table">
            <a:tbl>
              <a:tblPr/>
              <a:tblGrid>
                <a:gridCol w="4645080"/>
                <a:gridCol w="421308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have) money, I (to buy) that v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oney,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bu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at v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he (to know) you were away, he (not to co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kne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were away, h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not com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she (to change) her job, she (to earn) mo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h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chang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her job, sh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 ear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o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live) in Spain, I (to do) a lot of sunbath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liv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Spain,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d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ot of sunbath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you (to go) to bed earlier, you (not to feel) so tir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en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bed earlier, you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not fee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 tir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know) her well, I (to phone) 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kne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r well,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 pho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have) a chicken, I (to cook)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chicken,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 cook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 theatre (not to be) so far, we (to go)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eatr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ere no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so far, w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 g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be) very poor, I (to be) ups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e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y poor,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 b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s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be) you, I (not to buy) such an expensive dr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e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, I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not bu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uch an expensive dres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42840"/>
            <a:ext cx="6675480" cy="19321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341280" y="2090880"/>
            <a:ext cx="868680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Нашивка 4"/>
          <p:cNvSpPr/>
          <p:nvPr/>
        </p:nvSpPr>
        <p:spPr>
          <a:xfrm rot="5400000">
            <a:off x="1356840" y="3357360"/>
            <a:ext cx="1000080" cy="14292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lnTo>
                  <a:pt x="1543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ашивка 5"/>
          <p:cNvSpPr/>
          <p:nvPr/>
        </p:nvSpPr>
        <p:spPr>
          <a:xfrm rot="5400000">
            <a:off x="6000120" y="3357360"/>
            <a:ext cx="1000080" cy="14292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lnTo>
                  <a:pt x="1543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208080" y="4449600"/>
            <a:ext cx="401004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>
            <a:off x="4565520" y="4449600"/>
            <a:ext cx="4011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85840" y="404640"/>
          <a:ext cx="8643960" cy="5910480"/>
        </p:xfrm>
        <a:graphic>
          <a:graphicData uri="http://schemas.openxmlformats.org/drawingml/2006/table">
            <a:tbl>
              <a:tblPr/>
              <a:tblGrid>
                <a:gridCol w="4775040"/>
                <a:gridCol w="3868920"/>
              </a:tblGrid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go) to bed earlier last night, I (not to be) ti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 go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bed earlier last night, I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not have bee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i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(not to take) a taxi if I (to realize) that it was such a long w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not have take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taxi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  realiz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that it was such a long w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he (to know) the whole story, he (not to be) so ang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 know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whole story, he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not have bee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 ang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I (to know) you were in hospital, I (to visit) y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 know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were in hospital, I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have  visit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he (to lock) his car, it (not to be) stol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 lock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is car, it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not have bee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ol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she (to know) about the meeting, she (to com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he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had know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bout the meeting, she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ould have com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34:21Z</dcterms:created>
  <dc:creator>1</dc:creator>
  <dc:description/>
  <dc:language>en-US</dc:language>
  <cp:lastModifiedBy>Виктор</cp:lastModifiedBy>
  <dcterms:modified xsi:type="dcterms:W3CDTF">2013-07-14T15:05:17Z</dcterms:modified>
  <cp:revision>34</cp:revision>
  <dc:subject/>
  <dc:title>Слайд 1</dc:title>
</cp:coreProperties>
</file>