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C89-8ACB-4659-96A1-00145382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DE1-42D3-4C02-85B6-874ADF2E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5A38-0F71-421C-B037-66AA4754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3D9-0DF6-47B3-9C8A-AE114662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8FB-313B-4671-9E6B-8BBBCC4B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5DDB-AA85-4196-BEE6-57FF57C6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0CAC-9349-4FC1-B5AE-C0D31B24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A168-62D2-4094-8C90-8619FFEB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09BF-4F23-4B3F-8A35-C3823816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2B2B-F202-4A2F-8E43-8D88F4F9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32B4-354E-43CD-8FC9-B7FB6EC6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B78-8E50-4D0A-9CA9-B8576D90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FEA8-BDE8-4C19-BA78-E113A53ED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828800" y="2438280"/>
            <a:ext cx="5410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762120" y="0"/>
            <a:ext cx="7543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1600200" y="2286000"/>
            <a:ext cx="5334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рефера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228600" y="0"/>
            <a:ext cx="8431200" cy="2468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495680" y="5257440"/>
            <a:ext cx="4648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Попова Вла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4 А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8305920" y="0"/>
            <a:ext cx="838080" cy="6858000"/>
          </a:xfrm>
          <a:prstGeom prst="rect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юратку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10663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истор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Calibri"/>
              </a:rPr>
              <a:t>Организован 22 ноября 1993 г. Располагается в Саткинском районе. Занимает площадь 88,3 тыс. га. Одна из территорий области с относительно не тронутой природой. На территории парка 15 памятников природы. Произрастает 650 видов растений, обитает более 150 видов птиц и 40 видов млекопитающих. На берегу высокогорного озера «Зюраткуль» открыто более 10 стоянок человека каменного век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Calibri"/>
              </a:rPr>
              <a:t>Парк выполняет следующие основные задачи: сохранение эталонных и уникальных природных комплексов, памятников природы, истории, культуры, археологии и других объектов культурного наследия; экологическое просвещение населения; разработка и внедрение научных методов охраны природы в условиях рекреационного использования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нгузловский природный заказ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истор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онгузловский природный заказник — государственный природный биологический заказник Челябинской области. Создан как зоологический видовой заказник для охраны водоплавающих птиц. Площадь Заказника 5973 гектара. Находится в Красноармейском районе Челябинской области, юго-восточнее города Челябинска примерно в 25-30 км в районе п. Луговой. Заказник расположен в лесостепной зоне с континентальным климатом - суровой морозной зимой и жарким сухим летом. Замерзание рек происходит в период с 20 по 25 октября, освобождение рек ото льда - в период с 15 по 20 апреля - срок появления основных гнездящихся видов водоплавающих пт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ненский заказ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 Аненненский заказ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Calibri"/>
              </a:rPr>
              <a:t>Заказник располагается на территории двух муниципальных районов Карталинского и Нагайбакского Челябинской области, его площадь составляет 404.39 гектаров. Заказник располагается в степной зоне южной части Челябинской области, по территории протекает множество рек бассейна Урала и Тобола, в том числе Зингейка, Кизилчилик, Нижний Тогузак, Аят, Каратал, уникальность которых в том, что реки которые стоят на горе Палакий, с правой стороны, текут на юг и впадают в Урал, а с левой в Тобол и текут на севе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ичигинский 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 истори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1969 году лесной массив объявлен памятником природы. В 2007 году разработано и подписано последнее положение о памятнике губернатором Челябинской области Петром Суминым. Бор охраняли и с середины 18 века Исетские казаки, так как неподалеку проходила государственная граница и пролегал путь между Оренбургом и Екатеринбургом. В бору преобладающая лесная культура — сосна, по этой причине, появилость второе название у местных жителей «Сосновый бор». Также встречается береза, осина, клен и тополь. Подлесок состоит из акации, шиповника, лоха, ракитника, тальника. На скалистых подходах к болотцам расположенных среди бора, встречается беломошник. В конце лета и начале осени можно найти много брусники, дикой вишни, смородины, малины. На лесных полянках также встречается жостер слабительный, иван-чай, девясил, папоротник и пиж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родно-ландшафтный и историко-археологический центр «Аркаи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ркаи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истор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рганизован 19 апреля 1991 г. Находится в Брединском и Кизильском районах. Площадь 3,76 тыс. га. Заповедник Аркаим —  представляет огромную ценность для отечественной и мировой науки. В границах заповедника сохранились редкие виды растений и животных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Ежегодно сотни людей стремятся попасть в заповедник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Аркаим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Возникает вопрос: зачем им это нужно? На него нет общепринятого ответа. При посещении заповедника каждый пытается реализовать собственную программу, собственные цели. Для некоторых визит означает стремление прикоснуться к истории, расширить свой кругозор и попытаться определить место современной цивилизации в водовороте жизни. Одни хотят покинуть пыльный город и слиться с природой, подышать воздухом степи, увидеть ее бесконечные ковыли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льменский государственный заповед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истор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Организован 14 мая 1920 г. Располагается на территории административного подчинения города Миасса, Чебаркульского и Аргаяшского районов. Площадь заповедника 30,3 тыс. га. Организован как минералогический.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                                                   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 С 1935 г. преобразован в комплексный для сохранения минеральных богатств, флоры и фауны. В заповеднике обнаружено более 200 минералов, из них 18 открыты впервые в мире, произрастает более 1200 видов растений, обитает более 240 видов позвоночных. Открыто около 50 стоянок древнего челове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осточно-Уральский заповед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истор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точно-Уральский заповедник был создан в 1966 году, его образованию предшествовала т.н. Кыштымская авария 1957 года на химкомбинате «Маяк», приведшая к радиоактивному заражению данной территории, в результате которой образовался Восточно-Уральский радиоактивный след. Предварительный список флоры заповедника включает 455 видов сосудистых растений. Фауна заповедника включает млекопитающих 47 видов, птиц 214 видов, амфибий 5 видов, рептилий 4 вид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охраняемой территории, несмотря на повышенный радиационный фон, обитают редкие виды птиц: беркут, орлан-белохвост, балобан, сапсан, скопа, черноголовый хохотун и кудрявый пелик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гана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2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4:44:13Z</dcterms:created>
  <dc:creator>1</dc:creator>
  <dc:description/>
  <dc:language>en-US</dc:language>
  <cp:lastModifiedBy>1</cp:lastModifiedBy>
  <dcterms:modified xsi:type="dcterms:W3CDTF">2013-10-10T02:53:11Z</dcterms:modified>
  <cp:revision>34</cp:revision>
  <dc:subject/>
  <dc:title>Всемирное наследие Челябинской области</dc:title>
</cp:coreProperties>
</file>