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577-F18B-45F2-BE2B-B860D282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7FA-E045-4270-BEED-299501E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891-4C29-4075-B766-4E59CD7D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87A-A5CA-477A-94C8-A4A13735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F24-F08C-4BEE-B688-1FB391E4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F4FC-4AEB-4602-8134-584A7B3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735-CD86-44C6-A9CA-46094118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DB5-A9A0-44BB-9578-46B5226B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B474-8244-4F2A-A1F0-CD0A7FF4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766F-56ED-4DA7-9DD4-D2BFFC0F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5D18-61EC-49AF-9CC2-F319E3A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F72-E9D4-4B87-97F6-2544BFD9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BCC0-5947-499D-AF68-1550DF4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1EB-DC20-476B-A07D-82B52D5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70A7-9A35-41F3-A52A-F857E4F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D4C1-BDFF-485B-BCF1-4A231E66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A0F4-BAD1-4D9B-9490-3CB4AE7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F86-FA12-4326-8BAB-D1A8C37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D25-9C41-42B4-BE69-7FE137A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51E-E2EA-4674-ABF6-624D25AD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092-81D1-4D7A-A339-64763666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8EC-7C0F-4AE9-A1D3-8D3CA68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54B-9875-4AF3-9977-1D8AAD9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1BC-447E-4429-8485-3BDD8EF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8B1C-11D0-4D7D-9624-276E71008A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BAB-4CAA-4084-9CC7-5B3676A524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cc66"/>
                </a:solidFill>
                <a:latin typeface="Arial"/>
              </a:rPr>
              <a:t>Высокое Возрождение</a:t>
            </a:r>
            <a:r>
              <a:rPr b="1" lang="ru-RU" sz="4800" spc="-1" strike="noStrike">
                <a:solidFill>
                  <a:srgbClr val="cccc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чественные изменения в жив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1_1_35"/>
          <p:cNvPicPr/>
          <p:nvPr/>
        </p:nvPicPr>
        <p:blipFill>
          <a:blip r:embed="rId1"/>
          <a:stretch/>
        </p:blipFill>
        <p:spPr>
          <a:xfrm>
            <a:off x="7451640" y="98100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1_1_33"/>
          <p:cNvPicPr/>
          <p:nvPr/>
        </p:nvPicPr>
        <p:blipFill>
          <a:blip r:embed="rId2"/>
          <a:stretch/>
        </p:blipFill>
        <p:spPr>
          <a:xfrm>
            <a:off x="539640" y="4076640"/>
            <a:ext cx="2619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4284720" y="588960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втор презентации  учитель МХК Фёдорова С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66"/>
                </a:solidFill>
                <a:latin typeface="Arial"/>
              </a:rPr>
              <a:t>Обручение Марии.</a:t>
            </a:r>
            <a:br>
              <a:rPr sz="2800"/>
            </a:br>
            <a:r>
              <a:rPr b="1" lang="ru-RU" sz="2800" spc="-1" strike="noStrike">
                <a:solidFill>
                  <a:srgbClr val="cccc66"/>
                </a:solidFill>
                <a:latin typeface="Arial"/>
              </a:rPr>
              <a:t>1504</a:t>
            </a:r>
            <a:endParaRPr b="1" lang="en-US" sz="28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71" name="Picture 5" descr="1_1_26"/>
          <p:cNvPicPr/>
          <p:nvPr/>
        </p:nvPicPr>
        <p:blipFill>
          <a:blip r:embed="rId1"/>
          <a:stretch/>
        </p:blipFill>
        <p:spPr>
          <a:xfrm>
            <a:off x="4067280" y="189000"/>
            <a:ext cx="4200480" cy="6381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Плафон станцы делла Сеньятура.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Фреска 1504-1511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73" name="Picture 5" descr="1_1_27"/>
          <p:cNvPicPr/>
          <p:nvPr/>
        </p:nvPicPr>
        <p:blipFill>
          <a:blip r:embed="rId1"/>
          <a:stretch/>
        </p:blipFill>
        <p:spPr>
          <a:xfrm>
            <a:off x="395280" y="907920"/>
            <a:ext cx="7993080" cy="5631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Суд Соломона. Фреска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1509-1511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75" name="Picture 7" descr="1_1_30"/>
          <p:cNvPicPr/>
          <p:nvPr/>
        </p:nvPicPr>
        <p:blipFill>
          <a:blip r:embed="rId1"/>
          <a:stretch/>
        </p:blipFill>
        <p:spPr>
          <a:xfrm>
            <a:off x="4211640" y="260280"/>
            <a:ext cx="4743360" cy="6381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66"/>
                </a:solidFill>
                <a:latin typeface="Arial"/>
              </a:rPr>
              <a:t>Афинская школа. Фреска</a:t>
            </a:r>
            <a:endParaRPr b="1" lang="en-US" sz="28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77" name="Picture 5" descr="1_1_33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584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Мадонна в зелени.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1506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79" name="Picture 24" descr="1_1_35"/>
          <p:cNvPicPr/>
          <p:nvPr/>
        </p:nvPicPr>
        <p:blipFill>
          <a:blip r:embed="rId1"/>
          <a:stretch/>
        </p:blipFill>
        <p:spPr>
          <a:xfrm>
            <a:off x="3635280" y="189000"/>
            <a:ext cx="4896000" cy="638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Прекрасная садовница.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1506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81" name="Picture 5" descr="1_1_36"/>
          <p:cNvPicPr/>
          <p:nvPr/>
        </p:nvPicPr>
        <p:blipFill>
          <a:blip r:embed="rId1"/>
          <a:stretch/>
        </p:blipFill>
        <p:spPr>
          <a:xfrm>
            <a:off x="4356000" y="260280"/>
            <a:ext cx="4248360" cy="638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Сикстинская Мадонна.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1513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83" name="Picture 5" descr="1_1_37"/>
          <p:cNvPicPr/>
          <p:nvPr/>
        </p:nvPicPr>
        <p:blipFill>
          <a:blip r:embed="rId1"/>
          <a:stretch/>
        </p:blipFill>
        <p:spPr>
          <a:xfrm>
            <a:off x="4211640" y="189000"/>
            <a:ext cx="415296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66"/>
                </a:solidFill>
                <a:latin typeface="Arial"/>
              </a:rPr>
              <a:t>Изменения в живописи</a:t>
            </a:r>
            <a:br>
              <a:rPr sz="3900"/>
            </a:b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сширение круга заказчи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Живопись на дереве и холс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равю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овые темы (светское восприятие мир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циональные живописные школ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зделение на жанр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зработка теорий линейной и воздушной перспектив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щательное изучение анатомии человеческого тела (ведущая роль живопи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68360" y="189000"/>
          <a:ext cx="8229600" cy="6345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срав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ич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евековь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ож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южеты и 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ичные сюжеты и 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лигиозные сюжеты и 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олнение тем и сюжетов светским содержанием, их трактовка как событий в жизни реальных люд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 и Б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- мера всех вещ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еличивание Б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еличивание человека без Б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 и м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ая гармония человека с ми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ная жизнь- период испытания, выбора между добром и злом. Осуждение красоты телесной и мыс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верждение земного счастья, красоты, наслаждения- телесного и интеллекту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шение к ми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койная созерца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лость к униженным. Осуждение страдания, гуманизм величия человеческого разу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cc66"/>
                </a:solidFill>
                <a:latin typeface="Arial"/>
              </a:rPr>
              <a:t>«Титаны» Возрождения. Леонардо да Винчи (1452-1519)</a:t>
            </a:r>
            <a:endParaRPr b="1" lang="en-US" sz="35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ардо да Винчи является самым разносторонним деятелем эпохи Возрождения. Он был прекрасным и великим худож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тличии от традиционных изображений Мадонны с Младенцем, Леонардо да Винчи укрупнил фигуры, сфокусировав внимание только на 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дил в живописи Ренессанса красоту и поэзию тени. Свет словно спрятан внутри, просвечивает из глубины, обеспечивая исключительную тонкость цветовых пере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5" descr="1_1_23"/>
          <p:cNvPicPr/>
          <p:nvPr/>
        </p:nvPicPr>
        <p:blipFill>
          <a:blip r:embed="rId1"/>
          <a:stretch/>
        </p:blipFill>
        <p:spPr>
          <a:xfrm>
            <a:off x="4994280" y="1719360"/>
            <a:ext cx="3344760" cy="441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Мадонна с гвоздикой.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1482-1490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61" name="Picture 7" descr="1_1_22"/>
          <p:cNvPicPr/>
          <p:nvPr/>
        </p:nvPicPr>
        <p:blipFill>
          <a:blip r:embed="rId1"/>
          <a:stretch/>
        </p:blipFill>
        <p:spPr>
          <a:xfrm>
            <a:off x="3851280" y="333360"/>
            <a:ext cx="4838760" cy="6191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66"/>
                </a:solidFill>
                <a:latin typeface="Arial"/>
              </a:rPr>
              <a:t>Мадонна Литта. </a:t>
            </a:r>
            <a:br>
              <a:rPr sz="2800"/>
            </a:br>
            <a:r>
              <a:rPr b="1" lang="ru-RU" sz="2800" spc="-1" strike="noStrike">
                <a:solidFill>
                  <a:srgbClr val="cccc66"/>
                </a:solidFill>
                <a:latin typeface="Arial"/>
              </a:rPr>
              <a:t>1490-1491</a:t>
            </a:r>
            <a:endParaRPr b="1" lang="en-US" sz="28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63" name="Picture 5" descr="1_1_23"/>
          <p:cNvPicPr/>
          <p:nvPr/>
        </p:nvPicPr>
        <p:blipFill>
          <a:blip r:embed="rId1"/>
          <a:stretch/>
        </p:blipFill>
        <p:spPr>
          <a:xfrm>
            <a:off x="3708360" y="260280"/>
            <a:ext cx="483876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Святая Анна с Марией и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Младенцем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Христом. </a:t>
            </a:r>
            <a:br>
              <a:rPr sz="2400"/>
            </a:br>
            <a:r>
              <a:rPr b="1" lang="ru-RU" sz="2400" spc="-1" strike="noStrike">
                <a:solidFill>
                  <a:srgbClr val="cccc66"/>
                </a:solidFill>
                <a:latin typeface="Arial"/>
              </a:rPr>
              <a:t>1502-1505</a:t>
            </a:r>
            <a:endParaRPr b="1" lang="en-US" sz="24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65" name="Picture 6" descr="1_1_24"/>
          <p:cNvPicPr/>
          <p:nvPr/>
        </p:nvPicPr>
        <p:blipFill>
          <a:blip r:embed="rId1"/>
          <a:stretch/>
        </p:blipFill>
        <p:spPr>
          <a:xfrm>
            <a:off x="4284720" y="260280"/>
            <a:ext cx="4257720" cy="638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66"/>
                </a:solidFill>
                <a:latin typeface="Arial"/>
              </a:rPr>
              <a:t>Тайная вечеря. Фреска 1495-1497</a:t>
            </a:r>
            <a:endParaRPr b="1" lang="en-US" sz="2800" spc="-1" strike="noStrike">
              <a:solidFill>
                <a:srgbClr val="cccc66"/>
              </a:solidFill>
              <a:latin typeface="Arial"/>
            </a:endParaRPr>
          </a:p>
        </p:txBody>
      </p:sp>
      <p:pic>
        <p:nvPicPr>
          <p:cNvPr id="167" name="Picture 10" descr="1_1_25"/>
          <p:cNvPicPr/>
          <p:nvPr/>
        </p:nvPicPr>
        <p:blipFill>
          <a:blip r:embed="rId1"/>
          <a:stretch/>
        </p:blipFill>
        <p:spPr>
          <a:xfrm>
            <a:off x="539640" y="119700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66"/>
                </a:solidFill>
                <a:latin typeface="Arial"/>
              </a:rPr>
              <a:t>Рафаэль Санти (1483-1520)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д красотой понимался идеал античной классики. К нему художники стремились приблизиться, «поправляя» погрешности природ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нятие красоты включало красоту композиции, где главным являлся синтез архитектуры и живописи, и красоту идеальных образ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расота поз, жестов, движ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Идеальный стиль» Рафаэля опирался не на природу, а на художественный опыт, выбирая в нём лучшее и находя «золотую середину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8:10:38Z</dcterms:created>
  <dc:creator>111</dc:creator>
  <dc:description/>
  <dc:language>en-US</dc:language>
  <cp:lastModifiedBy>Алексей</cp:lastModifiedBy>
  <dcterms:modified xsi:type="dcterms:W3CDTF">2013-10-11T19:10:47Z</dcterms:modified>
  <cp:revision>5</cp:revision>
  <dc:subject/>
  <dc:title>Высокое Возрождение </dc:title>
</cp:coreProperties>
</file>