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6.gif" ContentType="image/gif"/>
  <Override PartName="/ppt/media/image54.png" ContentType="image/png"/>
  <Override PartName="/ppt/media/image53.jpeg" ContentType="image/jpeg"/>
  <Override PartName="/ppt/media/image50.png" ContentType="image/png"/>
  <Override PartName="/ppt/media/image48.jpeg" ContentType="image/jpeg"/>
  <Override PartName="/ppt/media/image35.wmf" ContentType="image/x-wmf"/>
  <Override PartName="/ppt/media/image45.jpeg" ContentType="image/jpeg"/>
  <Override PartName="/ppt/media/image44.png" ContentType="image/png"/>
  <Override PartName="/ppt/media/image41.gif" ContentType="image/gif"/>
  <Override PartName="/ppt/media/image43.png" ContentType="image/png"/>
  <Override PartName="/ppt/media/image42.png" ContentType="image/png"/>
  <Override PartName="/ppt/media/image59.wmf" ContentType="image/x-wmf"/>
  <Override PartName="/ppt/media/image14.png" ContentType="image/png"/>
  <Override PartName="/ppt/media/image10.jpeg" ContentType="image/jpeg"/>
  <Override PartName="/ppt/media/image15.jpeg" ContentType="image/jpeg"/>
  <Override PartName="/ppt/media/image29.gif" ContentType="image/gif"/>
  <Override PartName="/ppt/media/image22.wmf" ContentType="image/x-wmf"/>
  <Override PartName="/ppt/media/image65.png" ContentType="image/png"/>
  <Override PartName="/ppt/media/image26.wmf" ContentType="image/x-wmf"/>
  <Override PartName="/ppt/media/image69.png" ContentType="image/png"/>
  <Override PartName="/ppt/media/image32.png" ContentType="image/png"/>
  <Override PartName="/ppt/media/image47.png" ContentType="image/png"/>
  <Override PartName="/ppt/media/image1.jpeg" ContentType="image/jpeg"/>
  <Override PartName="/ppt/media/image49.jpeg" ContentType="image/jpeg"/>
  <Override PartName="/ppt/media/image20.png" ContentType="image/png"/>
  <Override PartName="/ppt/media/image2.jpeg" ContentType="image/jpeg"/>
  <Override PartName="/ppt/media/image18.wmf" ContentType="image/x-wmf"/>
  <Override PartName="/ppt/media/image60.wmf" ContentType="image/x-wmf"/>
  <Override PartName="/ppt/media/image70.jpeg" ContentType="image/jpeg"/>
  <Override PartName="/ppt/media/image63.png" ContentType="image/png"/>
  <Override PartName="/ppt/media/image68.png" ContentType="image/png"/>
  <Override PartName="/ppt/media/image67.png" ContentType="image/png"/>
  <Override PartName="/ppt/media/image28.wmf" ContentType="image/x-wmf"/>
  <Override PartName="/ppt/media/image3.jpeg" ContentType="image/jpeg"/>
  <Override PartName="/ppt/media/image58.wmf" ContentType="image/x-wmf"/>
  <Override PartName="/ppt/media/image25.gif" ContentType="image/gif"/>
  <Override PartName="/ppt/media/image64.png" ContentType="image/png"/>
  <Override PartName="/ppt/media/image21.wmf" ContentType="image/x-wmf"/>
  <Override PartName="/ppt/media/image57.wmf" ContentType="image/x-wmf"/>
  <Override PartName="/ppt/media/image61.wmf" ContentType="image/x-wmf"/>
  <Override PartName="/ppt/media/image19.png" ContentType="image/png"/>
  <Override PartName="/ppt/media/image4.gif" ContentType="image/gif"/>
  <Override PartName="/ppt/media/image30.wmf" ContentType="image/x-wmf"/>
  <Override PartName="/ppt/media/image6.gif" ContentType="image/gif"/>
  <Override PartName="/ppt/media/image16.png" ContentType="image/png"/>
  <Override PartName="/ppt/media/image7.jpeg" ContentType="image/jpeg"/>
  <Override PartName="/ppt/media/image31.wmf" ContentType="image/x-wmf"/>
  <Override PartName="/ppt/media/image38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39.jpeg" ContentType="image/jpeg"/>
  <Override PartName="/ppt/media/image66.png" ContentType="image/png"/>
  <Override PartName="/ppt/media/image23.wmf" ContentType="image/x-wmf"/>
  <Override PartName="/ppt/media/image51.jpeg" ContentType="image/jpeg"/>
  <Override PartName="/ppt/media/image27.wmf" ContentType="image/x-wmf"/>
  <Override PartName="/ppt/media/image11.jpeg" ContentType="image/jpeg"/>
  <Override PartName="/ppt/media/image46.jpeg" ContentType="image/jpeg"/>
  <Override PartName="/ppt/media/image55.gif" ContentType="image/gif"/>
  <Override PartName="/ppt/media/image24.jpeg" ContentType="image/jpeg"/>
  <Override PartName="/ppt/media/image12.gif" ContentType="image/gif"/>
  <Override PartName="/ppt/media/image33.wmf" ContentType="image/x-wmf"/>
  <Override PartName="/ppt/media/image62.wmf" ContentType="image/x-wmf"/>
  <Override PartName="/ppt/media/image37.gif" ContentType="image/gif"/>
  <Override PartName="/ppt/media/image52.jpeg" ContentType="image/jpeg"/>
  <Override PartName="/ppt/media/image13.png" ContentType="image/png"/>
  <Override PartName="/ppt/media/image34.wmf" ContentType="image/x-wmf"/>
  <Override PartName="/ppt/media/image9.jpeg" ContentType="image/jpeg"/>
  <Override PartName="/ppt/media/image36.png" ContentType="image/pn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2AB-CE9C-4E01-BDFC-276D5A63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BDB-7965-4478-9557-8072C2CB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17FF1-BBB3-4DC5-B4D2-24785C5B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9A9B6-9EAF-45D5-9C99-5FB1A0D7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626B2-BBC5-4D47-B6C4-8153BBAF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50E6D-6508-4F9F-BD80-AFFC5508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5017F-2BDD-425B-BBDD-74A09748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0D816-605C-4057-821F-AEEA170D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E39C8-4C50-46BE-838E-490ECB5F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607E9-B2ED-41DB-8B86-62E2C971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1ABB2-E0E5-40D1-B42E-DEEA3EE3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C45DA-0739-43AA-9D57-5D1DA682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338-D533-4D00-B77A-73D21F63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2EE8C-D117-4423-B4FC-064C29EF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5237E-174C-4632-9FCE-3DDDAD91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08B71-0FD5-4C03-A065-3F9620DE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AB98D-716A-4EF6-AF15-2E970606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CD6E4-C38D-429F-B034-90DA89A8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72DC6-7357-4D4C-84BC-93973330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ACB99-6335-48C9-8800-25122488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2BA56-3755-4649-8D49-867E1A35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3C76C-3E33-4FA7-AA71-F9122477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2012F-5F81-41B7-914F-8DB5454B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B4B-2087-41C3-878F-5E8F2C85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390A2-B64C-4659-BC4C-F3FDDA07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0F1A9-A8DE-4AA4-BBB1-E762E8A2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E4AED-5DFF-41A7-AD6C-D986BC58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74271-ECE7-4290-A255-0A2B6DB4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7D74D-2679-4AB4-8E60-913523C4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72090-FC80-4FC5-9FBB-721BF339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74ED1-53EF-4F7C-9F0D-5DAF0B55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1139C-D801-4761-B826-AEC8B04C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57B5C-D281-4B66-9528-9002F01C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2CA4E-FA47-4690-9E1D-F239012E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B2E7-D344-43D0-9C4B-C8649873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CF252-CCAF-4752-A2A4-DBC1E00B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C80D5-DD71-413F-BB8E-25498FAC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E307F-0C96-405C-AC41-7D67B648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CAFA5-E113-42B3-B39B-550A4CD8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77DDA-DABE-4D40-B112-A3924FA9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FDFB6-1026-4D54-98AA-58306ADF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C788A-3C25-4A6C-9179-0B244B60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C3BB7-E10A-43DF-9319-DCB688BD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C1D10-4B04-483C-A047-6C60393F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C39A8-B349-403D-8FCC-298FC042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69EC-C930-4553-88FE-96AC7069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D4E25-7855-4F28-888E-07D87D74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BEA49-A036-4934-9A9D-553BEFE8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7E9E6-918F-499B-AAB9-52238096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9EDB1-E612-40B3-BA5F-CC241F6F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7E66E-C01B-47CE-96BF-761B2951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BBF2C-408B-4052-B4C1-A8686680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9F5F1-2237-47BD-B475-102EE6A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C4EBD-15F7-4C44-8073-B2CDA152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0F2DF-FE9E-4064-A3F6-91A3522F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CDDEC-8DDC-464F-8DB7-AA499984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C50E-00B9-4B98-97F4-CB662806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DE9DF-A751-48CD-A168-19D04EEA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0CFE5-C689-4010-A25E-06033257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C43EE-6E8B-4FE0-BB0C-BBC1DEFB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203E3-B592-474B-9FF6-F5E963DC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2DC7F-6195-42B2-BF88-B9C10D53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BEB57-BD48-449A-A99E-7D165045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5BF0E-56EE-40F2-A61A-57740B6B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F84FC-86A0-481D-9000-9B577178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B961D-5B6C-4908-9BA8-32DA6035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579D1-21B1-4393-97CD-08587AAB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A193-4C65-456C-9F68-89EEAC54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26D82-E2E6-4ECC-B233-84F38C54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FEAB99-B4B0-4FC6-B114-0E19559A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CB301-9CFE-4118-994A-6B58D8CF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EB3BC6-1FA3-46AE-8149-9898AC73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43FF4-CFAF-4063-9D03-185C1728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3063A-702B-4EB1-A0F3-EE569026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9F856-FF6C-4BD6-AADE-8C246A75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69DCD-2E25-4FD1-A326-AFB5D4BA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2005C-E134-4A1C-9538-34ED53A0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C860-F3DA-4849-AD6B-19D8298F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0457-B9DF-4FD3-B778-A20C2B9E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A6D4-476D-4CDE-90F7-01849698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6EA-D5D6-49EA-82CE-034D4D0B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36F7-990D-4C20-9176-32AABCF0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709F-EA85-4FAD-9118-529A1C5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91E7-83D1-4116-948E-DA5BE822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5CE7-0332-41EE-A03C-C91B3562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C508-C5DA-49F6-8CE8-7382716A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557D-D5A5-431B-8527-0E3A7461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D41A-FFCB-4054-B04A-789F9E19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9345-1B8F-4CA2-A3AF-9744CD82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39E1-F3E5-42BE-A68C-B76EF697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523B-6E0D-4C8E-9366-5D2FE845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418-90E8-4340-A69E-E0B506E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B44D-385E-4936-A2FA-03F0D1E1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CE2E-33EE-4B35-8568-85AB6336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0910-88E2-48CA-BC10-E53E26C3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59CE-0E4A-41F5-BEA9-55F5571F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4A9C0-8001-42A1-B82E-B92B9906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76B8-6288-4792-A38B-CAB645BB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61AC-2669-42CC-99AA-65D4BDD0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9486-8768-4396-9477-C54754CC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010BF-2CC2-4599-A81A-6D1C7EE9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B24A-5CBC-4CFD-90AE-6F69A815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9E3-C6A3-400B-B243-BD146DD8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8E42C-C02B-42C3-BD92-9512BFE1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DE2A-C285-4BB5-B837-CBBF8B54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4CAF4-DF53-491E-932B-8F7B7448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FBAAE-FA48-4839-89E6-B881646A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15649-73C6-4D47-9D97-1667B9C9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1CE91-B3DF-44D7-B5E6-0BB21109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23E35-1805-46F0-A04C-4B88AF3D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FC2F-31E5-4562-9A97-7DC90166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C990-1CF0-4D5A-8086-A139BB48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41CE0-FCD2-45AC-8475-26CC9F13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111-1FE0-48A7-82FF-FCC171D0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0134D-FAB8-4842-A3E4-855635CF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07C84-6EF9-4111-A9B2-72723115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BB352-B23C-4AE5-9F52-7685905F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EE326-C33B-49A1-A825-DA9AFC40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C3EA7-5C3C-4B69-9CB3-6530BBC4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53A4-AB26-403C-B461-4F1F8C03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BD341-46BC-4AB8-882C-5834EBA8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43E0D-D5D2-45C3-8B7E-B02F9515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9C62C-710B-4F26-8C48-5BEDEAAF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DB02A-58F3-43A9-B5CA-C6F30C2E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0C6-4477-4B0F-9500-F0123A06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7FEF1-69D9-4379-A221-70DD2ECC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32A9B-5EAF-460B-96D3-CEE50CEA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A009D-B95A-43D2-8C46-6B652EF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28795-E42B-413D-AF9F-316AFFA6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0A740-3CA8-42FA-B07A-A206B1C3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5576-818B-43E0-8969-64B9BF06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DFE3A-80D3-496B-B861-048331B8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640B6-E55A-41A8-BBC2-D5BE787D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F9AFB-9230-445B-BEFF-A7B5F1EE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5AF1B-0A24-43CD-8AFD-AEFBF23C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BFE-66E2-4933-AF32-FC04E79A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35CF6-3354-4F3C-B1D9-6EEBE287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8F596-118E-4909-B4DE-4DC0FB8F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D3C8-3680-4811-BFFF-87507901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D1587-13CB-43BC-8D6B-BFBB3A13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0E7CE-0B38-4D90-9D8E-55E10913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52473-86A6-476E-B3E9-70281E5A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C901D-FBBE-4AEA-996D-1D793C39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7F25E-3D2A-4054-9354-788C13F9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190F9-B031-4203-8C0A-FCEBA718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122D3-1C1A-42E1-B706-EB1C7DD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ED3-4B0B-43ED-96D2-3054417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D6728-606A-4733-BDDE-E81B2CA2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5D87F-C63F-4952-9EB4-687CEF87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78F02-E141-4499-8986-E3F86E4F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059BA-75EA-47D3-8D74-0AE4F10F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B6E90-DCD4-4C73-A0C8-A5D0F497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291F7-588E-4FFD-B92C-A0E08C37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9B51D-9EF4-4C73-83BD-2D42AB2A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5A16C-9A0C-4F94-8F71-3272D465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23259-9995-400F-B336-24F38763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F9B8A-7C77-49D2-A8EE-769DC6CD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1F3-A161-4ABC-BF7E-2F7FC41F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707CF-D2B1-4F20-A667-DBCDD4A0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4460D-82DD-4FC5-9A34-88D49240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5490B-1387-4C4A-90B3-A367AE21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7D89D-5226-4758-BFD9-70C1E376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FAEA1-D671-4A24-AD05-677F60EA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929E2-118D-433B-8935-BE776737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CC889-9987-437B-A9D0-5C8C55C3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DFFED-4FF2-4787-8B7D-A89245F4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45130-5C07-4C91-9AE1-7F080AE3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DDCFD-A898-454C-84A2-B8CAC071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9376-B844-45C6-AA4A-9CCA5B5C0E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4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grpSp>
        <p:nvGrpSpPr>
          <p:cNvPr id="4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FBE3-30BA-461F-845E-44E2266D5F6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grpSp>
        <p:nvGrpSpPr>
          <p:cNvPr id="495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6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97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98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99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00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01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0DF6-D8F6-4C71-AC4E-0D8DF146613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2806-7C35-4833-9ECB-CB11319921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92a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8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8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8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58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9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9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0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0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0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sp>
          <p:nvSpPr>
            <p:cNvPr id="60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1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1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1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1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61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1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1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1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1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1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sp>
          <p:nvSpPr>
            <p:cNvPr id="62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2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7B29-882A-4B0C-9A27-F2017AFAB79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0343-C56D-4DBA-BE95-5B5F4F4960C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5511-9F23-44D7-A709-E5125BDB7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4D38-4ABF-425C-B63B-0BF328EA851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0169-A4D6-44FC-A444-C8103E96FC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9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pic>
          <p:nvPicPr>
            <p:cNvPr id="19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8562-1111-4B88-B34A-22F5152009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92a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3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3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4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5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5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sp>
          <p:nvSpPr>
            <p:cNvPr id="25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265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5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6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26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6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6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6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6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26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sp>
          <p:nvSpPr>
            <p:cNvPr id="26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7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037A-1F1E-48B4-B04D-97848075988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8EAC-076D-4F60-B91C-388937D6F99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5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35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35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6E2A-F63D-4A80-A318-277ECEAC84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E847-8179-4063-9A00-5265967DC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5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35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34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18.wmf"/><Relationship Id="rId12" Type="http://schemas.openxmlformats.org/officeDocument/2006/relationships/image" Target="../media/image65.png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7.png"/><Relationship Id="rId6" Type="http://schemas.openxmlformats.org/officeDocument/2006/relationships/image" Target="../media/image67.png"/><Relationship Id="rId7" Type="http://schemas.openxmlformats.org/officeDocument/2006/relationships/image" Target="../media/image67.png"/><Relationship Id="rId8" Type="http://schemas.openxmlformats.org/officeDocument/2006/relationships/image" Target="../media/image67.png"/><Relationship Id="rId9" Type="http://schemas.openxmlformats.org/officeDocument/2006/relationships/image" Target="../media/image67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jpe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Рисунок10"/>
          <p:cNvPicPr/>
          <p:nvPr/>
        </p:nvPicPr>
        <p:blipFill>
          <a:blip r:embed="rId1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Рисунок10"/>
          <p:cNvPicPr/>
          <p:nvPr/>
        </p:nvPicPr>
        <p:blipFill>
          <a:blip r:embed="rId2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706" name="WordArt 4"/>
          <p:cNvSpPr txBox="1"/>
          <p:nvPr/>
        </p:nvSpPr>
        <p:spPr>
          <a:xfrm>
            <a:off x="838080" y="380880"/>
            <a:ext cx="76964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ЗБУ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Ь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7" name="Picture 5" descr="img1"/>
          <p:cNvPicPr/>
          <p:nvPr/>
        </p:nvPicPr>
        <p:blipFill>
          <a:blip r:embed="rId3"/>
          <a:stretch/>
        </p:blipFill>
        <p:spPr>
          <a:xfrm>
            <a:off x="3809880" y="4267080"/>
            <a:ext cx="14385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Organization Chart 6"/>
          <p:cNvGrpSpPr/>
          <p:nvPr/>
        </p:nvGrpSpPr>
        <p:grpSpPr>
          <a:xfrm>
            <a:off x="719280" y="380880"/>
            <a:ext cx="8423280" cy="6337080"/>
            <a:chOff x="719280" y="380880"/>
            <a:chExt cx="8423280" cy="6337080"/>
          </a:xfrm>
        </p:grpSpPr>
        <p:cxnSp>
          <p:nvCxnSpPr>
            <p:cNvPr id="745" name="_s1028"/>
            <p:cNvCxnSpPr>
              <a:stCxn id="746" idx="1"/>
              <a:endCxn id="747" idx="2"/>
            </p:cNvCxnSpPr>
            <p:nvPr/>
          </p:nvCxnSpPr>
          <p:spPr>
            <a:xfrm rot="10800000">
              <a:off x="3245400" y="1013760"/>
              <a:ext cx="842760" cy="5387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8" name="_s1029"/>
            <p:cNvCxnSpPr>
              <a:stCxn id="749" idx="1"/>
              <a:endCxn id="747" idx="2"/>
            </p:cNvCxnSpPr>
            <p:nvPr/>
          </p:nvCxnSpPr>
          <p:spPr>
            <a:xfrm rot="10800000">
              <a:off x="3245400" y="1014480"/>
              <a:ext cx="842760" cy="443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0" name="_s1030"/>
            <p:cNvCxnSpPr>
              <a:stCxn id="751" idx="1"/>
              <a:endCxn id="747" idx="2"/>
            </p:cNvCxnSpPr>
            <p:nvPr/>
          </p:nvCxnSpPr>
          <p:spPr>
            <a:xfrm rot="10800000">
              <a:off x="3245400" y="1013760"/>
              <a:ext cx="842760" cy="348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2" name="_s1031"/>
            <p:cNvCxnSpPr>
              <a:stCxn id="753" idx="1"/>
              <a:endCxn id="747" idx="2"/>
            </p:cNvCxnSpPr>
            <p:nvPr/>
          </p:nvCxnSpPr>
          <p:spPr>
            <a:xfrm rot="10800000">
              <a:off x="3245400" y="1013760"/>
              <a:ext cx="842760" cy="253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4" name="_s1032"/>
            <p:cNvCxnSpPr>
              <a:stCxn id="755" idx="1"/>
              <a:endCxn id="747" idx="2"/>
            </p:cNvCxnSpPr>
            <p:nvPr/>
          </p:nvCxnSpPr>
          <p:spPr>
            <a:xfrm rot="10800000">
              <a:off x="3245400" y="1013760"/>
              <a:ext cx="842760" cy="158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6" name="_s1033"/>
            <p:cNvCxnSpPr>
              <a:stCxn id="757" idx="1"/>
              <a:endCxn id="747" idx="2"/>
            </p:cNvCxnSpPr>
            <p:nvPr/>
          </p:nvCxnSpPr>
          <p:spPr>
            <a:xfrm rot="10800000">
              <a:off x="3245400" y="1013760"/>
              <a:ext cx="842760" cy="63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47" name="_s1034"/>
            <p:cNvSpPr/>
            <p:nvPr/>
          </p:nvSpPr>
          <p:spPr>
            <a:xfrm>
              <a:off x="719280" y="380880"/>
              <a:ext cx="505404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f468"/>
                  </a:solidFill>
                  <a:latin typeface="Verdana"/>
                  <a:ea typeface="Arial"/>
                </a:rPr>
                <a:t>Физическая активность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57" name="_s1035"/>
            <p:cNvSpPr/>
            <p:nvPr/>
          </p:nvSpPr>
          <p:spPr>
            <a:xfrm>
              <a:off x="4088520" y="1331280"/>
              <a:ext cx="505404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Физическая культура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55" name="_s1036"/>
            <p:cNvSpPr/>
            <p:nvPr/>
          </p:nvSpPr>
          <p:spPr>
            <a:xfrm>
              <a:off x="4088520" y="2282040"/>
              <a:ext cx="505404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Спорт</a:t>
              </a:r>
              <a:endParaRPr b="0" lang="en-US" sz="32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53" name="_s1037"/>
            <p:cNvSpPr/>
            <p:nvPr/>
          </p:nvSpPr>
          <p:spPr>
            <a:xfrm>
              <a:off x="4088520" y="3232440"/>
              <a:ext cx="505404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Подвижные игры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51" name="_s1038"/>
            <p:cNvSpPr/>
            <p:nvPr/>
          </p:nvSpPr>
          <p:spPr>
            <a:xfrm>
              <a:off x="4088520" y="4183200"/>
              <a:ext cx="505404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Утренняя зарядка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49" name="_s1039"/>
            <p:cNvSpPr/>
            <p:nvPr/>
          </p:nvSpPr>
          <p:spPr>
            <a:xfrm>
              <a:off x="4088520" y="5133600"/>
              <a:ext cx="504756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Туризм и пешие прогулки</a:t>
              </a:r>
              <a:endParaRPr b="0" lang="en-US" sz="26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746" name="_s1040"/>
            <p:cNvSpPr/>
            <p:nvPr/>
          </p:nvSpPr>
          <p:spPr>
            <a:xfrm>
              <a:off x="4088520" y="6084360"/>
              <a:ext cx="5047560" cy="6336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Физический труд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pic>
        <p:nvPicPr>
          <p:cNvPr id="758" name="Picture 20" descr="j0299763"/>
          <p:cNvPicPr/>
          <p:nvPr/>
        </p:nvPicPr>
        <p:blipFill>
          <a:blip r:embed="rId1"/>
          <a:stretch/>
        </p:blipFill>
        <p:spPr>
          <a:xfrm>
            <a:off x="468360" y="1197000"/>
            <a:ext cx="1827000" cy="15048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21" descr="MCj03980130000[1]"/>
          <p:cNvPicPr/>
          <p:nvPr/>
        </p:nvPicPr>
        <p:blipFill>
          <a:blip r:embed="rId2"/>
          <a:stretch/>
        </p:blipFill>
        <p:spPr>
          <a:xfrm>
            <a:off x="395280" y="4869000"/>
            <a:ext cx="1793880" cy="17110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2" descr="MCj03979150000[1]"/>
          <p:cNvPicPr/>
          <p:nvPr/>
        </p:nvPicPr>
        <p:blipFill>
          <a:blip r:embed="rId3"/>
          <a:stretch/>
        </p:blipFill>
        <p:spPr>
          <a:xfrm>
            <a:off x="539640" y="2997360"/>
            <a:ext cx="1524240" cy="15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Кто спортом занимается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тот силы набираетс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92504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порт нам плечи расправля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илу, ловкость нам д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 нам мышцы развив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 рекорды нас зо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4" descr="62r4"/>
          <p:cNvPicPr/>
          <p:nvPr/>
        </p:nvPicPr>
        <p:blipFill>
          <a:blip r:embed="rId1"/>
          <a:stretch/>
        </p:blipFill>
        <p:spPr>
          <a:xfrm>
            <a:off x="6629400" y="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PE01250_"/>
          <p:cNvPicPr/>
          <p:nvPr/>
        </p:nvPicPr>
        <p:blipFill>
          <a:blip r:embed="rId2"/>
          <a:stretch/>
        </p:blipFill>
        <p:spPr>
          <a:xfrm>
            <a:off x="4800600" y="4419720"/>
            <a:ext cx="1488960" cy="17524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7" descr="PE01263_"/>
          <p:cNvPicPr/>
          <p:nvPr/>
        </p:nvPicPr>
        <p:blipFill>
          <a:blip r:embed="rId3"/>
          <a:stretch/>
        </p:blipFill>
        <p:spPr>
          <a:xfrm>
            <a:off x="6705720" y="2286000"/>
            <a:ext cx="2057400" cy="16747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img"/>
          <p:cNvPicPr/>
          <p:nvPr/>
        </p:nvPicPr>
        <p:blipFill>
          <a:blip r:embed="rId4"/>
          <a:stretch/>
        </p:blipFill>
        <p:spPr>
          <a:xfrm>
            <a:off x="6781680" y="4267080"/>
            <a:ext cx="144792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Times New Roman"/>
              </a:rPr>
              <a:t>«Умеренный в еде - всегда здоров!»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768" name="Picture 9" descr="Рисунок1"/>
          <p:cNvPicPr/>
          <p:nvPr/>
        </p:nvPicPr>
        <p:blipFill>
          <a:blip r:embed="rId1"/>
          <a:srcRect l="3405" t="16265" r="68803" b="51186"/>
          <a:stretch/>
        </p:blipFill>
        <p:spPr>
          <a:xfrm>
            <a:off x="609480" y="4724280"/>
            <a:ext cx="2057400" cy="18399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0" descr="Рисунок1"/>
          <p:cNvPicPr/>
          <p:nvPr/>
        </p:nvPicPr>
        <p:blipFill>
          <a:blip r:embed="rId2"/>
          <a:srcRect l="3931" t="60356" r="67662" b="4552"/>
          <a:stretch/>
        </p:blipFill>
        <p:spPr>
          <a:xfrm>
            <a:off x="6248520" y="2209680"/>
            <a:ext cx="2209680" cy="1809720"/>
          </a:xfrm>
          <a:prstGeom prst="rect">
            <a:avLst/>
          </a:prstGeom>
          <a:ln w="0">
            <a:noFill/>
          </a:ln>
        </p:spPr>
      </p:pic>
      <p:sp>
        <p:nvSpPr>
          <p:cNvPr id="770" name="WordArt 11"/>
          <p:cNvSpPr txBox="1"/>
          <p:nvPr/>
        </p:nvSpPr>
        <p:spPr>
          <a:xfrm>
            <a:off x="5943600" y="1905120"/>
            <a:ext cx="28195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неправильн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771" name="WordArt 12"/>
          <p:cNvSpPr txBox="1"/>
          <p:nvPr/>
        </p:nvSpPr>
        <p:spPr>
          <a:xfrm>
            <a:off x="380880" y="4343400"/>
            <a:ext cx="2667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правильн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3962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 люблю покушать сыт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ного, вкусно, аппетитн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м я все и без разбор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тому что я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бж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16"/>
          <p:cNvSpPr/>
          <p:nvPr/>
        </p:nvSpPr>
        <p:spPr>
          <a:xfrm>
            <a:off x="5181480" y="4419360"/>
            <a:ext cx="3886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бы десны были крепкими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рызи морковку с репкою.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бы зубы не болели, 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место пряников, конфет 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шьте яблоки, морковку –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т вам, дети, мой совет.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74" name="Line 18"/>
          <p:cNvSpPr/>
          <p:nvPr/>
        </p:nvSpPr>
        <p:spPr>
          <a:xfrm>
            <a:off x="4191120" y="28195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75" name="Line 19"/>
          <p:cNvSpPr/>
          <p:nvPr/>
        </p:nvSpPr>
        <p:spPr>
          <a:xfrm flipH="1">
            <a:off x="3048120" y="51055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diamond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d5c6"/>
                </a:solidFill>
                <a:latin typeface="Times New Roman"/>
              </a:rPr>
              <a:t>Полезные и вредные продукты:</a:t>
            </a:r>
            <a:endParaRPr b="0" lang="en-US" sz="36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8" name="Picture 13" descr="FD00188_"/>
          <p:cNvPicPr/>
          <p:nvPr/>
        </p:nvPicPr>
        <p:blipFill>
          <a:blip r:embed="rId1"/>
          <a:stretch/>
        </p:blipFill>
        <p:spPr>
          <a:xfrm>
            <a:off x="4267080" y="1143000"/>
            <a:ext cx="2305080" cy="14479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4" descr="FD00961_"/>
          <p:cNvPicPr/>
          <p:nvPr/>
        </p:nvPicPr>
        <p:blipFill>
          <a:blip r:embed="rId2"/>
          <a:stretch/>
        </p:blipFill>
        <p:spPr>
          <a:xfrm>
            <a:off x="6781680" y="2590920"/>
            <a:ext cx="2001960" cy="17827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5" descr="FD00963_"/>
          <p:cNvPicPr/>
          <p:nvPr/>
        </p:nvPicPr>
        <p:blipFill>
          <a:blip r:embed="rId3"/>
          <a:stretch/>
        </p:blipFill>
        <p:spPr>
          <a:xfrm>
            <a:off x="5029200" y="5013360"/>
            <a:ext cx="1736640" cy="184464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16"/>
          <p:cNvSpPr/>
          <p:nvPr/>
        </p:nvSpPr>
        <p:spPr>
          <a:xfrm>
            <a:off x="152280" y="13694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Надо кушать помидор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Фрукты, овощи, лимон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Кашу – утром, суп – в обед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А на ужин – винегрет.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82" name="Rectangle 17"/>
          <p:cNvSpPr/>
          <p:nvPr/>
        </p:nvSpPr>
        <p:spPr>
          <a:xfrm>
            <a:off x="2362320" y="3121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Ну, а если свой обед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Ты начнешь с кулька конфет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Жвачкой импортной закусишь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Шоколадом подсластишь,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83" name="Rectangle 18"/>
          <p:cNvSpPr/>
          <p:nvPr/>
        </p:nvSpPr>
        <p:spPr>
          <a:xfrm>
            <a:off x="457200" y="49507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c640"/>
                </a:solidFill>
                <a:latin typeface="Times New Roman"/>
              </a:rPr>
              <a:t>То тогда наверняка</a:t>
            </a:r>
            <a:br>
              <a:rPr sz="2400"/>
            </a:br>
            <a:r>
              <a:rPr b="1" lang="ru-RU" sz="2400" spc="-1" strike="noStrike">
                <a:solidFill>
                  <a:srgbClr val="c0c640"/>
                </a:solidFill>
                <a:latin typeface="Times New Roman"/>
              </a:rPr>
              <a:t>Ваши спутники всегда -</a:t>
            </a:r>
            <a:br>
              <a:rPr sz="2400"/>
            </a:br>
            <a:r>
              <a:rPr b="1" lang="ru-RU" sz="2400" spc="-1" strike="noStrike">
                <a:solidFill>
                  <a:srgbClr val="c0c640"/>
                </a:solidFill>
                <a:latin typeface="Times New Roman"/>
              </a:rPr>
              <a:t>Близорукость, бледный вид</a:t>
            </a:r>
            <a:br>
              <a:rPr sz="2400"/>
            </a:br>
            <a:r>
              <a:rPr b="1" lang="ru-RU" sz="2400" spc="-1" strike="noStrike">
                <a:solidFill>
                  <a:srgbClr val="c0c640"/>
                </a:solidFill>
                <a:latin typeface="Times New Roman"/>
              </a:rPr>
              <a:t>И неважный аппетит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15" descr=""/>
          <p:cNvPicPr/>
          <p:nvPr/>
        </p:nvPicPr>
        <p:blipFill>
          <a:blip r:embed="rId1"/>
          <a:stretch/>
        </p:blipFill>
        <p:spPr>
          <a:xfrm>
            <a:off x="1928880" y="1143000"/>
            <a:ext cx="5545080" cy="47862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8" descr=""/>
          <p:cNvPicPr/>
          <p:nvPr/>
        </p:nvPicPr>
        <p:blipFill>
          <a:blip r:embed="rId2"/>
          <a:stretch/>
        </p:blipFill>
        <p:spPr>
          <a:xfrm>
            <a:off x="0" y="214200"/>
            <a:ext cx="1800360" cy="17208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0" descr="Коллекция картинок - Фрукты"/>
          <p:cNvPicPr/>
          <p:nvPr/>
        </p:nvPicPr>
        <p:blipFill>
          <a:blip r:embed="rId3"/>
          <a:srcRect l="40253" t="36001" r="22999" b="36502"/>
          <a:stretch/>
        </p:blipFill>
        <p:spPr>
          <a:xfrm>
            <a:off x="7572240" y="0"/>
            <a:ext cx="1400400" cy="14050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9" descr="Коллекция картинок - Фрукты"/>
          <p:cNvPicPr/>
          <p:nvPr/>
        </p:nvPicPr>
        <p:blipFill>
          <a:blip r:embed="rId4"/>
          <a:srcRect l="66588" t="62752" r="0" b="0"/>
          <a:stretch/>
        </p:blipFill>
        <p:spPr>
          <a:xfrm>
            <a:off x="214200" y="5214960"/>
            <a:ext cx="1219320" cy="14191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4" descr=""/>
          <p:cNvPicPr/>
          <p:nvPr/>
        </p:nvPicPr>
        <p:blipFill>
          <a:blip r:embed="rId5"/>
          <a:stretch/>
        </p:blipFill>
        <p:spPr>
          <a:xfrm>
            <a:off x="7596360" y="2997360"/>
            <a:ext cx="1371600" cy="6951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1" descr="F:\фрукты\БАНАН.bmp"/>
          <p:cNvPicPr/>
          <p:nvPr/>
        </p:nvPicPr>
        <p:blipFill>
          <a:blip r:embed="rId6"/>
          <a:stretch/>
        </p:blipFill>
        <p:spPr>
          <a:xfrm>
            <a:off x="7715160" y="5143680"/>
            <a:ext cx="1162080" cy="1485720"/>
          </a:xfrm>
          <a:prstGeom prst="rect">
            <a:avLst/>
          </a:prstGeom>
          <a:ln w="0">
            <a:noFill/>
          </a:ln>
        </p:spPr>
      </p:pic>
      <p:sp>
        <p:nvSpPr>
          <p:cNvPr id="790" name="TextBox 10"/>
          <p:cNvSpPr/>
          <p:nvPr/>
        </p:nvSpPr>
        <p:spPr>
          <a:xfrm>
            <a:off x="2611440" y="4572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Showcard Gothic"/>
              </a:rPr>
              <a:t>ВИТАМИННЫЙ</a:t>
            </a:r>
            <a:r>
              <a:rPr b="0" lang="ru-RU" sz="18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howcard Gothic"/>
              </a:rPr>
              <a:t>КРОССВОРД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1523880" y="594324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Найдите в кроссворде названия овощей и фруктов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Текст 2"/>
          <p:cNvSpPr/>
          <p:nvPr/>
        </p:nvSpPr>
        <p:spPr>
          <a:xfrm>
            <a:off x="428760" y="357120"/>
            <a:ext cx="84294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лу </a:t>
            </a: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техе</a:t>
            </a: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ас</a:t>
            </a: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52880" y="3805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«Соблюдай режим труда и быта, и будет здоровье крепче гранита»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693432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жить умеет по часам и ценит каждый ча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о не надо по утрам будить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сять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он не станет говорить, что лень ему вста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ядку делать, руки мыт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стилать к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пеет он одеться в срок, умыться и пое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раньше, чем звенит звонок,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рту в школе се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040116_coq"/>
          <p:cNvPicPr/>
          <p:nvPr/>
        </p:nvPicPr>
        <p:blipFill>
          <a:blip r:embed="rId1"/>
          <a:stretch/>
        </p:blipFill>
        <p:spPr>
          <a:xfrm>
            <a:off x="0" y="51055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ДЕЛУ – ВРЕМЯ,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                 ПОТЕХЕ – ЧАС.</a:t>
            </a:r>
            <a:br>
              <a:rPr sz="3600"/>
            </a:b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облюдай режим дня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797" name="Рисунок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571400" cy="1643040"/>
          </a:xfrm>
          <a:prstGeom prst="rect">
            <a:avLst/>
          </a:prstGeom>
          <a:ln w="0">
            <a:noFill/>
          </a:ln>
        </p:spPr>
      </p:pic>
      <p:pic>
        <p:nvPicPr>
          <p:cNvPr id="798" name="Рисунок 4" descr=""/>
          <p:cNvPicPr/>
          <p:nvPr/>
        </p:nvPicPr>
        <p:blipFill>
          <a:blip r:embed="rId2"/>
          <a:stretch/>
        </p:blipFill>
        <p:spPr>
          <a:xfrm>
            <a:off x="6629400" y="4419720"/>
            <a:ext cx="2181240" cy="2033640"/>
          </a:xfrm>
          <a:prstGeom prst="rect">
            <a:avLst/>
          </a:prstGeom>
          <a:ln w="0">
            <a:noFill/>
          </a:ln>
        </p:spPr>
      </p:pic>
      <p:sp>
        <p:nvSpPr>
          <p:cNvPr id="799" name="Прямоугольник 5"/>
          <p:cNvSpPr/>
          <p:nvPr/>
        </p:nvSpPr>
        <p:spPr>
          <a:xfrm>
            <a:off x="2209680" y="2286000"/>
            <a:ext cx="496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жим, ребята, много значит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жет он решить задачи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ложиться и встават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тетрадку открыват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садиться за уроки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гулять идти, когда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 получишь ты тогд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изучишь ты режи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танет он тебе родным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00" name="Рисунок 6" descr=""/>
          <p:cNvPicPr/>
          <p:nvPr/>
        </p:nvPicPr>
        <p:blipFill>
          <a:blip r:embed="rId3"/>
          <a:stretch/>
        </p:blipFill>
        <p:spPr>
          <a:xfrm>
            <a:off x="7391520" y="213372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Текст 2"/>
          <p:cNvSpPr/>
          <p:nvPr/>
        </p:nvSpPr>
        <p:spPr>
          <a:xfrm>
            <a:off x="357120" y="357120"/>
            <a:ext cx="842976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ъем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жин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бодное время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трак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ядка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д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улка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02" name="Рисунок 3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1729080" cy="130032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4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1357200" cy="1733400"/>
          </a:xfrm>
          <a:prstGeom prst="rect">
            <a:avLst/>
          </a:prstGeom>
          <a:ln w="0">
            <a:noFill/>
          </a:ln>
        </p:spPr>
      </p:pic>
      <p:pic>
        <p:nvPicPr>
          <p:cNvPr id="804" name="Рисунок 6" descr=""/>
          <p:cNvPicPr/>
          <p:nvPr/>
        </p:nvPicPr>
        <p:blipFill>
          <a:blip r:embed="rId3"/>
          <a:stretch/>
        </p:blipFill>
        <p:spPr>
          <a:xfrm>
            <a:off x="4343400" y="472428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805" name="Рисунок 7" descr=""/>
          <p:cNvPicPr/>
          <p:nvPr/>
        </p:nvPicPr>
        <p:blipFill>
          <a:blip r:embed="rId4"/>
          <a:stretch/>
        </p:blipFill>
        <p:spPr>
          <a:xfrm>
            <a:off x="7086600" y="1143000"/>
            <a:ext cx="1352520" cy="1495440"/>
          </a:xfrm>
          <a:prstGeom prst="rect">
            <a:avLst/>
          </a:prstGeom>
          <a:ln w="0">
            <a:noFill/>
          </a:ln>
        </p:spPr>
      </p:pic>
      <p:pic>
        <p:nvPicPr>
          <p:cNvPr id="806" name="Рисунок 8" descr=""/>
          <p:cNvPicPr/>
          <p:nvPr/>
        </p:nvPicPr>
        <p:blipFill>
          <a:blip r:embed="rId5"/>
          <a:stretch/>
        </p:blipFill>
        <p:spPr>
          <a:xfrm>
            <a:off x="6781680" y="4267080"/>
            <a:ext cx="1571760" cy="178596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9" descr=""/>
          <p:cNvPicPr/>
          <p:nvPr/>
        </p:nvPicPr>
        <p:blipFill>
          <a:blip r:embed="rId6"/>
          <a:stretch/>
        </p:blipFill>
        <p:spPr>
          <a:xfrm>
            <a:off x="1714680" y="85716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d5c6"/>
                </a:solidFill>
                <a:latin typeface="Arial"/>
              </a:rPr>
              <a:t>«Кто табачное зелье любит, </a:t>
            </a:r>
            <a:br>
              <a:rPr sz="4000"/>
            </a:br>
            <a:r>
              <a:rPr b="1" lang="ru-RU" sz="4000" spc="-1" strike="noStrike">
                <a:solidFill>
                  <a:srgbClr val="d6d5c6"/>
                </a:solidFill>
                <a:latin typeface="Arial"/>
              </a:rPr>
              <a:t>                      тот сам себя и губит!»</a:t>
            </a:r>
            <a:endParaRPr b="0" lang="en-US" sz="40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536040" y="2236320"/>
            <a:ext cx="5457960" cy="36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Сигареты — никотин,</a:t>
            </a:r>
            <a:br>
              <a:rPr sz="2700"/>
            </a:b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ВРАГ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 всему номер один!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Курят, что аж дым столбом!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Отравляют табаком,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Не заботясь о здоровье —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Ни о своем, ни о чужом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0" name="Picture 5" descr="img4"/>
          <p:cNvPicPr/>
          <p:nvPr/>
        </p:nvPicPr>
        <p:blipFill>
          <a:blip r:embed="rId1"/>
          <a:stretch/>
        </p:blipFill>
        <p:spPr>
          <a:xfrm>
            <a:off x="5410080" y="2057400"/>
            <a:ext cx="3129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4418"/>
            </a:gs>
            <a:gs pos="50000">
              <a:srgbClr val="a8ae9b"/>
            </a:gs>
            <a:gs pos="100000">
              <a:srgbClr val="3544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doc09"/>
          <p:cNvPicPr/>
          <p:nvPr/>
        </p:nvPicPr>
        <p:blipFill>
          <a:blip r:embed="rId1"/>
          <a:stretch/>
        </p:blipFill>
        <p:spPr>
          <a:xfrm>
            <a:off x="7086600" y="1447920"/>
            <a:ext cx="1295280" cy="25905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46c0d37d34c82"/>
          <p:cNvPicPr/>
          <p:nvPr/>
        </p:nvPicPr>
        <p:blipFill>
          <a:blip r:embed="rId2"/>
          <a:stretch/>
        </p:blipFill>
        <p:spPr>
          <a:xfrm>
            <a:off x="1066680" y="472428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" descr="46c0d46269cc5"/>
          <p:cNvPicPr/>
          <p:nvPr/>
        </p:nvPicPr>
        <p:blipFill>
          <a:blip r:embed="rId3"/>
          <a:stretch/>
        </p:blipFill>
        <p:spPr>
          <a:xfrm>
            <a:off x="2362320" y="457200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7" descr="46c0da15a46e6"/>
          <p:cNvPicPr/>
          <p:nvPr/>
        </p:nvPicPr>
        <p:blipFill>
          <a:blip r:embed="rId4"/>
          <a:stretch/>
        </p:blipFill>
        <p:spPr>
          <a:xfrm>
            <a:off x="3733920" y="480060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8" descr="471f33c491e0c"/>
          <p:cNvPicPr/>
          <p:nvPr/>
        </p:nvPicPr>
        <p:blipFill>
          <a:blip r:embed="rId5"/>
          <a:stretch/>
        </p:blipFill>
        <p:spPr>
          <a:xfrm>
            <a:off x="5181480" y="4648320"/>
            <a:ext cx="957240" cy="12776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9" descr="46fb9b4607081"/>
          <p:cNvPicPr/>
          <p:nvPr/>
        </p:nvPicPr>
        <p:blipFill>
          <a:blip r:embed="rId6"/>
          <a:stretch/>
        </p:blipFill>
        <p:spPr>
          <a:xfrm>
            <a:off x="6477120" y="4724280"/>
            <a:ext cx="1203120" cy="144000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12"/>
          <p:cNvSpPr/>
          <p:nvPr/>
        </p:nvSpPr>
        <p:spPr>
          <a:xfrm>
            <a:off x="762120" y="1676520"/>
            <a:ext cx="647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Я открою семь секретов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Как здоровье сохранить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ыполняя все секреты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Без болезней будем жит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52d2c"/>
                </a:solidFill>
                <a:latin typeface="Times New Roman"/>
              </a:rPr>
              <a:t>Секреты здоровь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Текст 2"/>
          <p:cNvSpPr/>
          <p:nvPr/>
        </p:nvSpPr>
        <p:spPr>
          <a:xfrm>
            <a:off x="357120" y="357120"/>
            <a:ext cx="842976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сли вам предложили закурить нуж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тойти в сторону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общить курящему об опасности  курения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ринять предложение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тветить отказом «Нет!» « Не буду!», «Не хочу!»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делать вид, что не расслышал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>
              <a:lnSpc>
                <a:spcPct val="100000"/>
              </a:lnSpc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1711080" cy="17431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" descr=""/>
          <p:cNvPicPr/>
          <p:nvPr/>
        </p:nvPicPr>
        <p:blipFill>
          <a:blip r:embed="rId2"/>
          <a:stretch/>
        </p:blipFill>
        <p:spPr>
          <a:xfrm>
            <a:off x="3809880" y="3276720"/>
            <a:ext cx="1889280" cy="180504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4" descr=""/>
          <p:cNvPicPr/>
          <p:nvPr/>
        </p:nvPicPr>
        <p:blipFill>
          <a:blip r:embed="rId3"/>
          <a:stretch/>
        </p:blipFill>
        <p:spPr>
          <a:xfrm>
            <a:off x="7086600" y="2590920"/>
            <a:ext cx="1768320" cy="18000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4" descr="C:\Documents and Settings\Галина\Рабочий стол\анимашки\АНИМИРОВАННЫЕ ГИФЫ --- человечески13е.files\child2.files\CALVIN3.gif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400800" y="4648320"/>
            <a:ext cx="1895400" cy="192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6" name="Picture 50" descr="26"/>
          <p:cNvPicPr/>
          <p:nvPr/>
        </p:nvPicPr>
        <p:blipFill>
          <a:blip r:embed="rId5"/>
          <a:stretch/>
        </p:blipFill>
        <p:spPr>
          <a:xfrm rot="20972400">
            <a:off x="1085400" y="4573440"/>
            <a:ext cx="2233800" cy="209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mb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a0d060"/>
            </a:gs>
            <a:gs pos="100000">
              <a:srgbClr val="66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NA00142_"/>
          <p:cNvPicPr/>
          <p:nvPr/>
        </p:nvPicPr>
        <p:blipFill>
          <a:blip r:embed="rId1"/>
          <a:stretch/>
        </p:blipFill>
        <p:spPr>
          <a:xfrm>
            <a:off x="2133720" y="1905120"/>
            <a:ext cx="4419360" cy="418140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1981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9" name="Picture 6" descr="FD00963_"/>
          <p:cNvPicPr/>
          <p:nvPr/>
        </p:nvPicPr>
        <p:blipFill>
          <a:blip r:embed="rId2"/>
          <a:stretch/>
        </p:blipFill>
        <p:spPr>
          <a:xfrm>
            <a:off x="4572000" y="1295280"/>
            <a:ext cx="1146240" cy="10670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5" descr="SL00244_"/>
          <p:cNvPicPr/>
          <p:nvPr/>
        </p:nvPicPr>
        <p:blipFill>
          <a:blip r:embed="rId3"/>
          <a:stretch/>
        </p:blipFill>
        <p:spPr>
          <a:xfrm>
            <a:off x="3124080" y="1523880"/>
            <a:ext cx="1020960" cy="9446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7" descr="NA00595_"/>
          <p:cNvPicPr/>
          <p:nvPr/>
        </p:nvPicPr>
        <p:blipFill>
          <a:blip r:embed="rId4"/>
          <a:stretch/>
        </p:blipFill>
        <p:spPr>
          <a:xfrm>
            <a:off x="1676520" y="4876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8" descr="DD00122_"/>
          <p:cNvPicPr/>
          <p:nvPr/>
        </p:nvPicPr>
        <p:blipFill>
          <a:blip r:embed="rId5"/>
          <a:stretch/>
        </p:blipFill>
        <p:spPr>
          <a:xfrm>
            <a:off x="6324480" y="3048120"/>
            <a:ext cx="1114560" cy="11430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9" descr="FD00961_"/>
          <p:cNvPicPr/>
          <p:nvPr/>
        </p:nvPicPr>
        <p:blipFill>
          <a:blip r:embed="rId6"/>
          <a:stretch/>
        </p:blipFill>
        <p:spPr>
          <a:xfrm>
            <a:off x="7696080" y="4114800"/>
            <a:ext cx="1090800" cy="9716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0" descr="SL00246_"/>
          <p:cNvPicPr/>
          <p:nvPr/>
        </p:nvPicPr>
        <p:blipFill>
          <a:blip r:embed="rId7"/>
          <a:stretch/>
        </p:blipFill>
        <p:spPr>
          <a:xfrm>
            <a:off x="6095880" y="4419720"/>
            <a:ext cx="1320840" cy="11649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11" descr="SL00723_"/>
          <p:cNvPicPr/>
          <p:nvPr/>
        </p:nvPicPr>
        <p:blipFill>
          <a:blip r:embed="rId8"/>
          <a:stretch/>
        </p:blipFill>
        <p:spPr>
          <a:xfrm>
            <a:off x="5029200" y="556272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14" descr="Здравствуй, лето!"/>
          <p:cNvPicPr/>
          <p:nvPr/>
        </p:nvPicPr>
        <p:blipFill>
          <a:blip r:embed="rId9"/>
          <a:stretch/>
        </p:blipFill>
        <p:spPr>
          <a:xfrm>
            <a:off x="5943600" y="20574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5" descr="День здоровья"/>
          <p:cNvPicPr/>
          <p:nvPr/>
        </p:nvPicPr>
        <p:blipFill>
          <a:blip r:embed="rId10"/>
          <a:stretch/>
        </p:blipFill>
        <p:spPr>
          <a:xfrm>
            <a:off x="3429000" y="57913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6" descr="HH01303_"/>
          <p:cNvPicPr/>
          <p:nvPr/>
        </p:nvPicPr>
        <p:blipFill>
          <a:blip r:embed="rId11"/>
          <a:stretch/>
        </p:blipFill>
        <p:spPr>
          <a:xfrm>
            <a:off x="1219320" y="3276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7" descr="img12"/>
          <p:cNvPicPr/>
          <p:nvPr/>
        </p:nvPicPr>
        <p:blipFill>
          <a:blip r:embed="rId12"/>
          <a:stretch/>
        </p:blipFill>
        <p:spPr>
          <a:xfrm>
            <a:off x="8001000" y="5486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18" descr="PE01335_"/>
          <p:cNvPicPr/>
          <p:nvPr/>
        </p:nvPicPr>
        <p:blipFill>
          <a:blip r:embed="rId13"/>
          <a:stretch/>
        </p:blipFill>
        <p:spPr>
          <a:xfrm>
            <a:off x="1676520" y="2133720"/>
            <a:ext cx="1371600" cy="990360"/>
          </a:xfrm>
          <a:prstGeom prst="rect">
            <a:avLst/>
          </a:prstGeom>
          <a:ln w="0">
            <a:noFill/>
          </a:ln>
        </p:spPr>
      </p:pic>
      <p:sp>
        <p:nvSpPr>
          <p:cNvPr id="831" name="WordArt 20"/>
          <p:cNvSpPr txBox="1"/>
          <p:nvPr/>
        </p:nvSpPr>
        <p:spPr>
          <a:xfrm>
            <a:off x="1066680" y="228600"/>
            <a:ext cx="7696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и  друзь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8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8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8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8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8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8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8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8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8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77612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Компоненты здоровь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Diagram 32"/>
          <p:cNvGrpSpPr/>
          <p:nvPr/>
        </p:nvGrpSpPr>
        <p:grpSpPr>
          <a:xfrm>
            <a:off x="862200" y="1800360"/>
            <a:ext cx="7458120" cy="4021560"/>
            <a:chOff x="862200" y="1800360"/>
            <a:chExt cx="7458120" cy="4021560"/>
          </a:xfrm>
        </p:grpSpPr>
        <p:sp>
          <p:nvSpPr>
            <p:cNvPr id="834" name="_s2052"/>
            <p:cNvSpPr/>
            <p:nvPr/>
          </p:nvSpPr>
          <p:spPr>
            <a:xfrm flipV="1">
              <a:off x="4589640" y="2843280"/>
              <a:ext cx="0" cy="52344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35" name="_s2053"/>
            <p:cNvSpPr/>
            <p:nvPr/>
          </p:nvSpPr>
          <p:spPr>
            <a:xfrm>
              <a:off x="3640320" y="1800360"/>
              <a:ext cx="1901880" cy="1045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ff"/>
                  </a:solidFill>
                  <a:latin typeface="Times New Roman"/>
                </a:rPr>
                <a:t>Движение</a:t>
              </a:r>
              <a:endParaRPr b="0" lang="en-US" sz="29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36" name="_s2054"/>
            <p:cNvSpPr/>
            <p:nvPr/>
          </p:nvSpPr>
          <p:spPr>
            <a:xfrm flipV="1">
              <a:off x="5331600" y="3236040"/>
              <a:ext cx="744120" cy="32580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37" name="_s2055"/>
            <p:cNvSpPr/>
            <p:nvPr/>
          </p:nvSpPr>
          <p:spPr>
            <a:xfrm>
              <a:off x="5868360" y="2388960"/>
              <a:ext cx="1901880" cy="1044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ложительные 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эмоции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38" name="_s2056"/>
            <p:cNvSpPr/>
            <p:nvPr/>
          </p:nvSpPr>
          <p:spPr>
            <a:xfrm>
              <a:off x="5516280" y="4002480"/>
              <a:ext cx="925920" cy="117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39" name="_s2057"/>
            <p:cNvSpPr/>
            <p:nvPr/>
          </p:nvSpPr>
          <p:spPr>
            <a:xfrm>
              <a:off x="6419160" y="3712680"/>
              <a:ext cx="1901160" cy="1045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Отказ от вредных </a:t>
              </a: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привычек</a:t>
              </a: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0" name="_s2058"/>
            <p:cNvSpPr/>
            <p:nvPr/>
          </p:nvSpPr>
          <p:spPr>
            <a:xfrm>
              <a:off x="5002200" y="4355640"/>
              <a:ext cx="411480" cy="47232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1" name="_s2059"/>
            <p:cNvSpPr/>
            <p:nvPr/>
          </p:nvSpPr>
          <p:spPr>
            <a:xfrm>
              <a:off x="4879440" y="4775760"/>
              <a:ext cx="1901880" cy="10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Рациональное 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итание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2" name="_s2060"/>
            <p:cNvSpPr/>
            <p:nvPr/>
          </p:nvSpPr>
          <p:spPr>
            <a:xfrm flipH="1">
              <a:off x="3765960" y="4355640"/>
              <a:ext cx="415440" cy="47232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3" name="_s2061"/>
            <p:cNvSpPr/>
            <p:nvPr/>
          </p:nvSpPr>
          <p:spPr>
            <a:xfrm>
              <a:off x="2407680" y="4777560"/>
              <a:ext cx="1901880" cy="1044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Закаливание и 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оздоровление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4" name="_s2062"/>
            <p:cNvSpPr/>
            <p:nvPr/>
          </p:nvSpPr>
          <p:spPr>
            <a:xfrm flipH="1">
              <a:off x="2737440" y="4002480"/>
              <a:ext cx="929520" cy="117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5" name="_s2063"/>
            <p:cNvSpPr/>
            <p:nvPr/>
          </p:nvSpPr>
          <p:spPr>
            <a:xfrm>
              <a:off x="862200" y="3716280"/>
              <a:ext cx="1901160" cy="1044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истота тела, жилища,</a:t>
              </a:r>
              <a:endParaRPr b="0" lang="en-US" sz="1400" spc="-1" strike="noStrike">
                <a:solidFill>
                  <a:srgbClr val="000000"/>
                </a:solidFill>
                <a:latin typeface="Showcard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одуктов питания</a:t>
              </a:r>
              <a:endParaRPr b="0" lang="en-US" sz="14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6" name="_s2064"/>
            <p:cNvSpPr/>
            <p:nvPr/>
          </p:nvSpPr>
          <p:spPr>
            <a:xfrm flipH="1" flipV="1">
              <a:off x="3103560" y="3236040"/>
              <a:ext cx="748080" cy="32580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7" name="_s2065"/>
            <p:cNvSpPr/>
            <p:nvPr/>
          </p:nvSpPr>
          <p:spPr>
            <a:xfrm>
              <a:off x="1409040" y="2390760"/>
              <a:ext cx="1901160" cy="1044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ff"/>
                  </a:solidFill>
                  <a:latin typeface="Times New Roman"/>
                </a:rPr>
                <a:t>Режим дня</a:t>
              </a:r>
              <a:endParaRPr b="0" lang="en-US" sz="29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48" name="_s2066"/>
            <p:cNvSpPr/>
            <p:nvPr/>
          </p:nvSpPr>
          <p:spPr>
            <a:xfrm>
              <a:off x="3640320" y="3366720"/>
              <a:ext cx="1901880" cy="10443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ЗДОРОВЬЕ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grpSp>
        <p:nvGrpSpPr>
          <p:cNvPr id="849" name="Organization Chart 5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Текст 2"/>
          <p:cNvSpPr/>
          <p:nvPr/>
        </p:nvSpPr>
        <p:spPr>
          <a:xfrm>
            <a:off x="428760" y="357120"/>
            <a:ext cx="84294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ыть здоровым- здорово!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Чтобы быть всегда здоровым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Бодрым ,стройным и веселым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Дать совет я вам готов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Как прожить без докторов.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Надо кушать помидоры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Фрукты ,овощи, лимоны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Кашу утром, суп в обед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А на ужин винегрет.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Надо спортом заниматься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Умываться, закаляться,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Лыжным бегом  увлекаться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И почаще улыбаться.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341280" indent="-341280" algn="ctr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852" name="Рисунок 3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3" descr=""/>
          <p:cNvPicPr/>
          <p:nvPr/>
        </p:nvPicPr>
        <p:blipFill>
          <a:blip r:embed="rId3"/>
          <a:stretch/>
        </p:blipFill>
        <p:spPr>
          <a:xfrm>
            <a:off x="6786720" y="2857680"/>
            <a:ext cx="1785960" cy="178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3300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1752480" y="609480"/>
            <a:ext cx="693432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Здравствуйте! Добрая ласковость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                                   </a:t>
            </a: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Стерлась на нет в ежеднев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                                 </a:t>
            </a: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при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Здравствуйте! Это же - будь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                                 </a:t>
            </a: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здоров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2d2c"/>
                </a:solidFill>
                <a:latin typeface="Comic Sans MS"/>
              </a:rPr>
              <a:t>Это же - дольше живите на свете.</a:t>
            </a:r>
            <a:r>
              <a:rPr b="0" lang="ru-RU" sz="2800" spc="-1" strike="noStrike">
                <a:solidFill>
                  <a:srgbClr val="152d2c"/>
                </a:solidFill>
                <a:latin typeface="Comic Sans MS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152d2c"/>
                </a:solidFill>
                <a:latin typeface="Arial"/>
              </a:rPr>
              <a:t>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52d2c"/>
                </a:solidFill>
                <a:latin typeface="Times New Roman"/>
              </a:rPr>
              <a:t>                                   </a:t>
            </a:r>
            <a:r>
              <a:rPr b="0" i="1" lang="ru-RU" sz="3200" spc="-1" strike="noStrike">
                <a:solidFill>
                  <a:srgbClr val="152d2c"/>
                </a:solidFill>
                <a:latin typeface="Times New Roman"/>
              </a:rPr>
              <a:t>  </a:t>
            </a:r>
            <a:r>
              <a:rPr b="0" i="1" lang="ru-RU" sz="3200" spc="-1" strike="noStrike">
                <a:solidFill>
                  <a:srgbClr val="152d2c"/>
                </a:solidFill>
                <a:latin typeface="Comic Sans MS"/>
              </a:rPr>
              <a:t>Е. Шевелёва</a:t>
            </a:r>
            <a:r>
              <a:rPr b="0" lang="ru-RU" sz="3600" spc="-1" strike="noStrike">
                <a:solidFill>
                  <a:srgbClr val="152d2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2" descr="C:\Documents and Settings\Галина\Рабочий стол\анимашки\АНИМИРОВАННЫЕ ГИФЫ --- человечески12е.files\child1.files\baby14_1.gif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5840" y="5110200"/>
            <a:ext cx="150012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dbd4"/>
            </a:gs>
            <a:gs pos="100000">
              <a:srgbClr val="898d7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99"/>
                </a:solidFill>
                <a:latin typeface="Times New Roman"/>
              </a:rPr>
              <a:t>Вредные поступки – </a:t>
            </a:r>
            <a:br>
              <a:rPr sz="4000"/>
            </a:br>
            <a:r>
              <a:rPr b="1" lang="ru-RU" sz="4000" spc="-1" strike="noStrike">
                <a:solidFill>
                  <a:srgbClr val="cc3399"/>
                </a:solidFill>
                <a:latin typeface="Times New Roman"/>
              </a:rPr>
              <a:t>                       добрые поступки!</a:t>
            </a:r>
            <a:endParaRPr b="0" lang="en-US" sz="40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0" name="Picture 5" descr="img4"/>
          <p:cNvPicPr/>
          <p:nvPr/>
        </p:nvPicPr>
        <p:blipFill>
          <a:blip r:embed="rId1"/>
          <a:stretch/>
        </p:blipFill>
        <p:spPr>
          <a:xfrm>
            <a:off x="5257800" y="1828800"/>
            <a:ext cx="2089080" cy="16747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img11"/>
          <p:cNvPicPr/>
          <p:nvPr/>
        </p:nvPicPr>
        <p:blipFill>
          <a:blip r:embed="rId2"/>
          <a:stretch/>
        </p:blipFill>
        <p:spPr>
          <a:xfrm>
            <a:off x="5181480" y="4724280"/>
            <a:ext cx="2714760" cy="14623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Рисунок10"/>
          <p:cNvPicPr/>
          <p:nvPr/>
        </p:nvPicPr>
        <p:blipFill>
          <a:blip r:embed="rId3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Рисунок10"/>
          <p:cNvPicPr/>
          <p:nvPr/>
        </p:nvPicPr>
        <p:blipFill>
          <a:blip r:embed="rId4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9"/>
          <p:cNvSpPr/>
          <p:nvPr/>
        </p:nvSpPr>
        <p:spPr>
          <a:xfrm>
            <a:off x="152280" y="194508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куда берутся лентя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Может лентяи с Луны прилетают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куда берутся грязнул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Может грязнуль с Сатурна  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лкнул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листает календар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Пишет новые словар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 там таких не найдеш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“Трусость” и “ложь”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чезнут слова как дым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“Ябеда” и “подхалим”.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725" name="Picture 10" descr="18"/>
          <p:cNvPicPr/>
          <p:nvPr/>
        </p:nvPicPr>
        <p:blipFill>
          <a:blip r:embed="rId5"/>
          <a:stretch/>
        </p:blipFill>
        <p:spPr>
          <a:xfrm>
            <a:off x="7315200" y="3048120"/>
            <a:ext cx="13176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" descr=""/>
          <p:cNvPicPr/>
          <p:nvPr/>
        </p:nvPicPr>
        <p:blipFill>
          <a:blip r:embed="rId2"/>
          <a:stretch/>
        </p:blipFill>
        <p:spPr>
          <a:xfrm>
            <a:off x="6591240" y="228600"/>
            <a:ext cx="2552760" cy="2933640"/>
          </a:xfrm>
          <a:prstGeom prst="rect">
            <a:avLst/>
          </a:prstGeom>
          <a:ln w="0">
            <a:noFill/>
          </a:ln>
        </p:spPr>
      </p:pic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063f6"/>
                </a:solidFill>
                <a:latin typeface="Arial Black"/>
              </a:rPr>
              <a:t>ДОБРЫЕ ПОСТУПКИ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b5dbe3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49120"/>
            <a:ext cx="80154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imes New Roman"/>
              </a:rPr>
              <a:t>«Чистота – залог здоровья!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Каждый раз перед ед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Нужно фрукты мыть водой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Чтобы быть здоровым,  сильны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Мой лицо и руки с мыл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Будь аккуратен, забудь лень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335b"/>
                </a:solidFill>
                <a:latin typeface="Times New Roman"/>
              </a:rPr>
              <a:t>Чисти зубы каждый день !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4" descr="HH01303_"/>
          <p:cNvPicPr/>
          <p:nvPr/>
        </p:nvPicPr>
        <p:blipFill>
          <a:blip r:embed="rId1"/>
          <a:stretch/>
        </p:blipFill>
        <p:spPr>
          <a:xfrm>
            <a:off x="6705720" y="4191120"/>
            <a:ext cx="234000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Times New Roman"/>
              </a:rPr>
              <a:t>Секреты закаливания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6" descr="Рисунок1"/>
          <p:cNvPicPr/>
          <p:nvPr/>
        </p:nvPicPr>
        <p:blipFill>
          <a:blip r:embed="rId1"/>
          <a:srcRect l="36252" t="15181" r="35334" b="49010"/>
          <a:stretch/>
        </p:blipFill>
        <p:spPr>
          <a:xfrm>
            <a:off x="6019920" y="358128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7"/>
          <p:cNvSpPr/>
          <p:nvPr/>
        </p:nvSpPr>
        <p:spPr>
          <a:xfrm>
            <a:off x="838080" y="1980720"/>
            <a:ext cx="57913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ром - бег и душ бодрящий, Как для взрослых, настоящий!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ночь окна открывать, Свежим воздухом дышать!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ги мыть водой холодной, 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огда микроб голодный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с во век не одолеет!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816840" y="817200"/>
            <a:ext cx="7814520" cy="75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Движение - жизнь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5486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дым я говорю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 здоровьем дружен спорт!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дион, бассейн и кор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л, каток – везде всем рады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старание в наград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нут мышцы ваши тверды,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ут кубки и рекор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8" name="Picture 5" descr="ар"/>
          <p:cNvPicPr/>
          <p:nvPr/>
        </p:nvPicPr>
        <p:blipFill>
          <a:blip r:embed="rId1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PE01267_"/>
          <p:cNvPicPr/>
          <p:nvPr/>
        </p:nvPicPr>
        <p:blipFill>
          <a:blip r:embed="rId2"/>
          <a:stretch/>
        </p:blipFill>
        <p:spPr>
          <a:xfrm>
            <a:off x="7162920" y="5410080"/>
            <a:ext cx="1568160" cy="12668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9" descr="PE01335_"/>
          <p:cNvPicPr/>
          <p:nvPr/>
        </p:nvPicPr>
        <p:blipFill>
          <a:blip r:embed="rId3"/>
          <a:stretch/>
        </p:blipFill>
        <p:spPr>
          <a:xfrm>
            <a:off x="6705720" y="3886200"/>
            <a:ext cx="1684080" cy="12193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0" descr="PE01313_"/>
          <p:cNvPicPr/>
          <p:nvPr/>
        </p:nvPicPr>
        <p:blipFill>
          <a:blip r:embed="rId4"/>
          <a:stretch/>
        </p:blipFill>
        <p:spPr>
          <a:xfrm>
            <a:off x="5105520" y="236232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1" descr="17"/>
          <p:cNvPicPr/>
          <p:nvPr/>
        </p:nvPicPr>
        <p:blipFill>
          <a:blip r:embed="rId5"/>
          <a:stretch/>
        </p:blipFill>
        <p:spPr>
          <a:xfrm>
            <a:off x="5029200" y="5105520"/>
            <a:ext cx="1924200" cy="15397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4" descr="6"/>
          <p:cNvPicPr/>
          <p:nvPr/>
        </p:nvPicPr>
        <p:blipFill>
          <a:blip r:embed="rId6"/>
          <a:stretch/>
        </p:blipFill>
        <p:spPr>
          <a:xfrm>
            <a:off x="7162920" y="-228600"/>
            <a:ext cx="1447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25:06Z</dcterms:created>
  <dc:creator>Наталья </dc:creator>
  <dc:description/>
  <dc:language>en-US</dc:language>
  <cp:lastModifiedBy>1</cp:lastModifiedBy>
  <dcterms:modified xsi:type="dcterms:W3CDTF">2013-02-11T15:49:16Z</dcterms:modified>
  <cp:revision>196</cp:revision>
  <dc:subject/>
  <dc:title>2б класс за здоровый образ жизни</dc:title>
</cp:coreProperties>
</file>