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Уровни усвоения подробно" id="0">
      <p:sldLst>
        <p:sld r:id="rId4"/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8D6-FDEE-481D-82CF-556D829E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786-56DC-4E6B-A1EA-A3EFC46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EC4-A13E-454F-A070-B95667DF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321-FD40-4FC9-B15C-92C3C525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50C6-B961-468F-95C3-180F4695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F9E-B755-4588-AD77-EDA43A1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C38-FF03-42D6-8312-8836B23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836-1FA4-4719-9439-6A7DF14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B035-4169-4055-8765-8659EB84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B6EB-91CD-4856-85EB-EBB08777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4BB2-C8EE-44D2-B056-B7968D3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240-64FD-4547-84A2-506F8E7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4ED1-810F-42D4-81E3-CE16044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C97-6007-4500-A6ED-BF01936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775-9168-4E40-8BDF-87EE495B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45EE-79F3-4B31-B82B-1B6D8544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445-8AF3-4048-905D-E21B0020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946-E8F0-48BA-91A8-09EFA94B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35E-DC54-4D8E-9F53-241227C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A12-FAE8-470C-B63D-D0A2668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A6C-6F86-4B92-BE0D-02481CE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E69-CDF7-41E6-B290-49EB183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9E4-D54B-4C1B-BD0F-5AFF176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E63-EE70-43B1-B958-CAC59CE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A069-5E24-49AD-8CCD-6123B7BD36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afe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e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33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FA1-1B29-4B19-81F4-799CB2A40C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2110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Black"/>
              </a:rPr>
              <a:t>Базы данных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332000" y="3573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ляционная база данны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S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"/>
          <p:cNvPicPr/>
          <p:nvPr/>
        </p:nvPicPr>
        <p:blipFill>
          <a:blip r:embed="rId1"/>
          <a:stretch/>
        </p:blipFill>
        <p:spPr>
          <a:xfrm>
            <a:off x="2124000" y="2371680"/>
            <a:ext cx="53722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3"/>
          <p:cNvPicPr/>
          <p:nvPr/>
        </p:nvPicPr>
        <p:blipFill>
          <a:blip r:embed="rId1"/>
          <a:stretch/>
        </p:blipFill>
        <p:spPr>
          <a:xfrm>
            <a:off x="1100160" y="1542960"/>
            <a:ext cx="80438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632720" cy="436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дна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пись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держит информацию об одном объекте той реальной системы, модель которой представлена в таблиц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ля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— это различные характеристики (иногда говорят — атрибуты) объекта. Значения полей в одной строчке относятся к одному объект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азные поля отличаются именам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2565000"/>
            <a:ext cx="7294680" cy="30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Главным ключом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в базах данных называют поле (или совокупность полей), значение которого не повторяется у разных записей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5"/>
          <p:cNvPicPr/>
          <p:nvPr/>
        </p:nvPicPr>
        <p:blipFill>
          <a:blip r:embed="rId1"/>
          <a:srcRect l="0" t="0" r="53974" b="0"/>
          <a:stretch/>
        </p:blipFill>
        <p:spPr>
          <a:xfrm>
            <a:off x="0" y="83664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5"/>
          <p:cNvPicPr/>
          <p:nvPr/>
        </p:nvPicPr>
        <p:blipFill>
          <a:blip r:embed="rId1"/>
          <a:srcRect l="46214" t="0" r="0" b="2407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81960" cy="49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 каждым полем связано еще одно очень важное свойство —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тип поля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Тип определяет множество значений, которые может принимать данное поле в различных записях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413000"/>
            <a:ext cx="914400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2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-2520"/>
            <a:ext cx="7956720" cy="155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Базы данных –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о совокупность определенным образом организованной информации на какую-либо тему (в рамках предметной области)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655308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аза данных книжного фонда библиотеки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аза данных кадрового состава учреждения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аза данных законодательных актов в области уголовного права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аза данных современных песен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345440" cy="393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От типа величины зависят те действия, которые можно с ней производи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пример, с числовыми величинами можно выполнять арифметические операции, а с символьными и логическими — нельзя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6920" y="208440"/>
            <a:ext cx="7510680" cy="155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ы построения систем управления баз данных следуют из требований, которым должна удовлетворять организация баз данных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349000"/>
            <a:ext cx="78487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изводительность и готовност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инимальные затраты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стота и легкость исполь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стота внесения изменений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озможность поиска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Целостность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Безопасность и секретность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азы данных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276640"/>
            <a:ext cx="784872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Фактограф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– содержатся краткие сведения об описываемых объектах, представленные в строго определенном формате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окументальные -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держит обширную информацию самого разного типа: текстовую, графическую, звуковую, мультимедийную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8040" y="2133720"/>
            <a:ext cx="7654680" cy="399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— это совокупность базы данных и всего комплекса аппаратно-программных средств для ее хранения, изменения и поиска информации, для взаимодействия с пользователем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219400"/>
            <a:ext cx="7272360" cy="39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аза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— организованная совокупность данных, предназначенная для длительного хранения во внешней памяти ЭВМ и постоянного применения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421000"/>
            <a:ext cx="7848720" cy="393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ля хранения БД может использоваться как один компьютер, так и множество взаимосвязанных компьютер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Если различные части одной базы данных хранятся на множестве компьютеров, объединенных между собой сетью, то такая БД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спределенной базой данных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7280" y="2276280"/>
            <a:ext cx="7561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дель данных строится по принципу взаимосвязанных таблиц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- реляционной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дин тип объекта является главным, все нижележащие – подчиненным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- иерархической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Любой тип данных одновременно может быть главным и подчиненным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-  сетевой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802800"/>
            <a:ext cx="75614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ляционные базы данных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1989000"/>
            <a:ext cx="7451640" cy="447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нформация в базах данных может быть организована по разному. Чаще всего используется табличный способ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азы данных с табличной формой организации называются реляционными БД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20:48Z</dcterms:created>
  <dc:creator>hronobus</dc:creator>
  <dc:description/>
  <dc:language>en-US</dc:language>
  <cp:lastModifiedBy>Саша</cp:lastModifiedBy>
  <dcterms:modified xsi:type="dcterms:W3CDTF">2013-10-11T19:08:07Z</dcterms:modified>
  <cp:revision>23</cp:revision>
  <dc:subject/>
  <dc:title>Место классного журнала в схеме построения информационного пространства образовательного учреждения</dc:title>
</cp:coreProperties>
</file>