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8B1D-F03E-479D-B942-F6F6CA92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251-0CC3-46CB-9D14-0CFD929B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18B-9DEA-41D9-9FE1-1B030236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E4E-F83E-454C-A590-A9EE6239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0AAC-E401-4C4C-A70C-4658F520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0EE4-BAE4-4849-BF15-671D82B7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9C0-68DB-45E0-99AA-F1404F46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88D-AB02-4744-BE01-612D0983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4D98-3DB7-44B5-A348-10018C30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ABE-598B-4B22-B621-330DE166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E74-5AD6-46A3-9874-F7DD2B5F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9A0-9735-4627-817D-91B03A09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9CDD-DB84-4D14-A580-758B89AECBB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9F8F-7A3B-4198-9CEE-D89E90E757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52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ИКТОРИНА 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ПО ПРОИЗВЕДЕНИЯМ 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А.П.ЧЕХОВ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«Каштанка», «Мальчики», «Ванька»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3F25-53F3-4886-BD74-7D1751BA854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FA3D-1E7F-40FA-8550-65E41765B5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3640" y="1989000"/>
            <a:ext cx="4865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) Володя Черепицын и Чиби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) Володя Королёв и Чечевицы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) Иван Королёв и Володя Чечевицы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116000" y="0"/>
            <a:ext cx="7848720" cy="19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ак звали мальчиков, главных героев произвед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5" descr="361900.jpg"/>
          <p:cNvPicPr/>
          <p:nvPr/>
        </p:nvPicPr>
        <p:blipFill>
          <a:blip r:embed="rId1"/>
          <a:stretch/>
        </p:blipFill>
        <p:spPr>
          <a:xfrm>
            <a:off x="5867280" y="1916280"/>
            <a:ext cx="3052800" cy="46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915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 №2</a:t>
            </a:r>
            <a:br>
              <a:rPr sz="24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Где учились мальчик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147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А)в гимнази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)в школ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В)в лице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21988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 №3</a:t>
            </a:r>
            <a:br>
              <a:rPr sz="2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д каким праздником мальчики приехали в дом Королёвых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78598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)под Новый го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)под Рождеств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)перед 23 феврал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21988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 №4</a:t>
            </a:r>
            <a:br>
              <a:rPr sz="2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уда решили сбежать мальчики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78598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)в Америк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)в Африк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)во Франци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21988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 №5</a:t>
            </a:r>
            <a:br>
              <a:rPr sz="2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ем называл себя Чечевицын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78598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) Зоркий глаз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)Львиное сердц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)Монтигомо Ястребиный кого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21988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 №6</a:t>
            </a:r>
            <a:br>
              <a:rPr sz="2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де задержали мальчиков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78598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)в городе в Гостином двор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)в городе на вокзал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)в Америк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3300"/>
                </a:solidFill>
                <a:latin typeface="Arial"/>
              </a:rPr>
              <a:t>«Ванька»</a:t>
            </a:r>
            <a:br>
              <a:rPr sz="66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№1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азовите фамилию Вань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2349000"/>
            <a:ext cx="7786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Жуко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Макаро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Королё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6868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 №2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К какому мастеру Ванька попал в учен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0000" y="2349000"/>
            <a:ext cx="7786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К портному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К сапожнику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К цирюльнику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6868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 №3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 канун какого праздника Ванька писал письм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2349000"/>
            <a:ext cx="7786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д Рождеств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д Новый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еред 23 феврал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6868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 №4</a:t>
            </a:r>
            <a:br>
              <a:rPr sz="2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За что хозяйка «тыкала в харю» Ваньки «мордой» селёдк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42560" y="2924280"/>
            <a:ext cx="764388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чал чистить с хвос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ронил селёдк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чал чистить с голов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0D3C-158E-4FC7-82F1-BD8692B54C3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F4A7-A41E-48B5-A922-0B6C70C0DC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26560" y="2491920"/>
            <a:ext cx="40388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) столя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) плот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) сапож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4" descr="3123548.jpg"/>
          <p:cNvPicPr/>
          <p:nvPr/>
        </p:nvPicPr>
        <p:blipFill>
          <a:blip r:embed="rId1"/>
          <a:stretch/>
        </p:blipFill>
        <p:spPr>
          <a:xfrm>
            <a:off x="5508720" y="1197000"/>
            <a:ext cx="3138480" cy="5300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1116000" y="0"/>
            <a:ext cx="7848720" cy="13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ем был хозяин Каштан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68360" y="2205000"/>
            <a:ext cx="41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6868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 № 5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Кому писал Вань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6438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атери Пелаге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Хозяйке Ольге Игнатьевн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еду Константину Макарыч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6868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 № 6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Кто научил Ваньку чита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6438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Мать Пелаге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Хозяйка Ольга Игнатьев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злова Светлана Михайло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У СОШ № 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ского округа город Фролово Волгоградской обла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915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 №2</a:t>
            </a:r>
            <a:br>
              <a:rPr sz="24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ие животные жили в доме незнакомца, в который попала Каштан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147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ко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лошад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пету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гу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)свин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 №3</a:t>
            </a:r>
            <a:br>
              <a:rPr sz="24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к звали каждого из герое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)кот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)гус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)свинь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ёдор Тимофеи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авронья Ивано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ван Иваны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5"/>
          <p:cNvSpPr/>
          <p:nvPr/>
        </p:nvSpPr>
        <p:spPr>
          <a:xfrm>
            <a:off x="2627280" y="2060640"/>
            <a:ext cx="223200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2843280" y="3068640"/>
            <a:ext cx="2160360" cy="1224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 flipV="1">
            <a:off x="3851280" y="3357360"/>
            <a:ext cx="936720" cy="718920"/>
          </a:xfrm>
          <a:prstGeom prst="line">
            <a:avLst/>
          </a:prstGeom>
          <a:ln w="7632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915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 №4</a:t>
            </a:r>
            <a:br>
              <a:rPr sz="24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кую кличку получила Каштанка в доме незнакомц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147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А)Каштан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)Жуч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В)Тёт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915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 №4</a:t>
            </a:r>
            <a:br>
              <a:rPr sz="24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кую кличку получила Каштанка в доме незнакомц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147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Тётка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915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 № 5</a:t>
            </a:r>
            <a:br>
              <a:rPr sz="24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кой цирковой номер назывался «египетская пирамида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5" descr="p184790.jpg"/>
          <p:cNvPicPr/>
          <p:nvPr/>
        </p:nvPicPr>
        <p:blipFill>
          <a:blip r:embed="rId1"/>
          <a:stretch/>
        </p:blipFill>
        <p:spPr>
          <a:xfrm>
            <a:off x="3079800" y="1844640"/>
            <a:ext cx="2909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915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 №6</a:t>
            </a:r>
            <a:br>
              <a:rPr sz="24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т чего умер Иван Иваныч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147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А)был стары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Б)на него наступила лошад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)его укусила Тёт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915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 №7</a:t>
            </a:r>
            <a:br>
              <a:rPr sz="24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Где Каштанка встретила своих прежних хозяе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147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А)на улиц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)в трактир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В)в цирк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6:17:00Z</dcterms:created>
  <dc:creator>0</dc:creator>
  <dc:description>http://aida.ucoz.ru</dc:description>
  <dc:language>en-US</dc:language>
  <cp:lastModifiedBy>Admin</cp:lastModifiedBy>
  <dcterms:modified xsi:type="dcterms:W3CDTF">2013-02-21T09:59:07Z</dcterms:modified>
  <cp:revision>3</cp:revision>
  <dc:subject/>
  <dc:title>ВИКТОРИНА  ПО ПРОИЗВЕДЕНИЯМ  А.П.ЧЕХОВА («Каштанка», «Мальчики», «Ванька»)</dc:title>
</cp:coreProperties>
</file>