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3.png" ContentType="image/png"/>
  <Override PartName="/ppt/media/image26.png" ContentType="image/png"/>
  <Override PartName="/ppt/media/image17.jpeg" ContentType="image/jpeg"/>
  <Override PartName="/ppt/media/image4.jpeg" ContentType="image/jpeg"/>
  <Override PartName="/ppt/media/image7.png" ContentType="image/png"/>
  <Override PartName="/ppt/media/image1.jpeg" ContentType="image/jpeg"/>
  <Override PartName="/ppt/media/image9.png" ContentType="image/png"/>
  <Override PartName="/ppt/media/image25.png" ContentType="image/png"/>
  <Override PartName="/ppt/media/image19.jpeg" ContentType="image/jpeg"/>
  <Override PartName="/ppt/media/image11.png" ContentType="image/png"/>
  <Override PartName="/ppt/media/image8.jpeg" ContentType="image/jpeg"/>
  <Override PartName="/ppt/media/image5.png" ContentType="image/png"/>
  <Override PartName="/ppt/media/applause.wav" ContentType="audio/x-wav"/>
  <Override PartName="/ppt/media/image12.png" ContentType="image/png"/>
  <Override PartName="/ppt/media/image23.jpeg" ContentType="image/jpeg"/>
  <Override PartName="/ppt/media/image16.png" ContentType="image/png"/>
  <Override PartName="/ppt/media/image1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chimes.wav" ContentType="audio/x-wav"/>
  <Override PartName="/ppt/media/image21.jpeg" ContentType="image/jpeg"/>
  <Override PartName="/ppt/media/image22.png" ContentType="image/png"/>
  <Override PartName="/ppt/media/image24.jpeg" ContentType="image/jpeg"/>
  <Override PartName="/ppt/media/image27.png" ContentType="image/png"/>
  <Override PartName="/ppt/media/drumroll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0A0B-2F9C-436F-9DA3-748B2E28CA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EE80-F5C1-4DE6-918D-12D917A5AD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9B44-F99C-4998-BD88-5B491DA8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73ED-0654-498E-B300-2825EFBF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04DC-1216-4BBC-936C-0D6E585C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4377-591E-4D29-B6DF-6898D786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8C6F-5547-4F0E-AD83-B5C097D2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63BB-FCE9-424E-8E80-4DF74C56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7CAA-0403-45E4-8E38-BC0EA693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729E-8062-4C16-8938-DC04BE39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67CF-16B8-4414-9E8A-17422193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8136-61AC-4526-AD8A-F5AD919C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5FEF-0292-43BF-82EE-20BE7BE4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B228-2E7E-48C6-9DBD-F0E8FC3F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CBC2-4D51-4463-9750-C3D59F61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1644-0BBC-40CF-96BD-438C4A1F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9B07-643B-4CE0-B20D-A0EC7A11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FCBF-BCCF-42FB-A454-2BF82C02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86D7-9112-422D-9648-8176D3329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5AFD5-77CD-47C9-B9E5-52C4409D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D59C7-F334-47BB-AB4C-763F071F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CC4DA-5A31-4B53-BD00-E596DDA4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9AA93-CA31-469E-AE7A-21D7041C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62312-AC05-4A16-955E-7A63925E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43D-2311-4D92-8E43-CDEDD606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4FFD1-B735-4438-80E7-2B31E9C5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39476-668E-47F1-900D-4CF6C5EC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9C1DD-A58E-45BC-8C4B-E55583FB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FF26B-D465-43C2-BD18-C2B5BA0D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D982F-E75D-46CF-813C-D43CA96D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02B89-3E23-47E5-866B-C9E313A7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C19AE-2CB1-44D9-8910-4DC88520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762EA-8C3E-4915-BB84-09CBABA6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5BDB7-0C47-402D-B9CF-7077E89F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F502F-BF23-4D53-B737-073CFD26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D431-4375-45FC-A043-16561E1D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01510-3C01-4F4E-91A4-54B9C608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47220-A46C-4EDF-993F-497F1522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E7A57-0071-402F-9D1D-8B66167B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5AD77-A86E-4CBE-8630-46EB81C3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54AD9-9558-43E6-9027-9B7C8A16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DF7B9-3CAE-4421-8C19-FD1AB579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AB466-352C-41A1-8854-809C4FDB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66272-CE72-4B1A-8201-F1F66F6A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EA1A9-2002-497F-82CF-DCDD936E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7A0F0-560E-42CE-A851-BD7AFC79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64E7-E629-44F5-A63C-809FDA8A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949AD-34E5-49C0-AB51-6BFD6EE9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0147B-84CB-4294-83F3-9A14C21F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C7CB2-7B99-4A78-A30D-A1B0C18C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B2B40-EF47-4CE7-A6E9-0091ACD0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FA67B-76F8-41F7-BFF9-19455D4F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A1083-2813-4D9B-B0AF-0AD49848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DE542-FDA8-44C9-AF65-AD3F70ED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6D0C7-EF21-43DE-98E1-E14C7768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BBAE3-FD3C-41AC-A9A2-FAFDBC6C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D8EF6-9AEA-4FAA-B6B6-FAE66706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0FAD-157A-43C3-BFA1-1EF63805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0EE16-28B2-460B-9B97-CDE4918B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ADE26-BD35-414F-A4A5-204EBA06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6B8CB-E4AA-49C5-9AA6-EFBC9007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3362B-0901-44D2-AFAE-FDFFCF0A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6A82F-C86E-4F30-95AE-62C96828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77156-E3B8-455B-8A74-36EC7950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4E320-AFCC-4E85-B14B-E9B3707E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2ACEA-F0A9-4117-9EF5-276B0172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74FB2-6DD3-4913-B47A-336A3EBD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7A8DB-F702-467D-AE2D-B979B483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9EC3-C450-4271-8D32-3AB14FCF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82E7F-82ED-469B-85C2-F8D01EB9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C6F32-ED06-482D-B973-29DF5102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04CF4-034B-46C1-9F2D-D630DD71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A208D-B1A3-47B1-AEE0-2ED5D6E8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55BB5-707D-4940-8E7B-46CA43C5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84033-E578-4FA5-84FD-F16BC0BF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F6D4D-989D-4D2D-A323-9F271D19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84312-8921-457A-8532-EB200F47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D59DA-5E03-4F20-8830-5E83D62B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99E0D-10C8-4718-AE95-C2B02F02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EECD-78FE-4AC4-B6C7-28D743CF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95425-2484-4E61-B1BC-30F7E954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6A80F-56ED-469C-B73F-7C3027AF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560CE-77FF-4086-8B9B-1EB47760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65B38-CB07-43CA-BD00-F8E27B98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CE187-A2DC-4301-963E-EC8B0C56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20FD-70EC-4D96-9FD0-48BE2C9D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1754-A752-4C1C-8DAE-694AA3B0A3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9538-31A4-486C-BA9D-DE423CBCEF34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1BEE-F421-479B-AAEC-9D2A029D92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063D-7DF5-4DF8-8E39-9F272AC1997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69E7-799A-465E-88F5-3BE829D64D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47D8-E23C-470C-901E-257B77CA7863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2702-8484-402F-AC19-751942C37BD0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6.png"/><Relationship Id="rId3" Type="http://schemas.openxmlformats.org/officeDocument/2006/relationships/audio" Target="file:///tmp/home/.config/libreoffice/4/user/gallery/drumroll.wav" TargetMode="External"/><Relationship Id="rId4" Type="http://schemas.microsoft.com/office/2007/relationships/media" Target="file:///tmp/home/.config/libreoffice/4/user/gallery/drumroll.wav" TargetMode="External"/><Relationship Id="rId5" Type="http://schemas.openxmlformats.org/officeDocument/2006/relationships/image" Target="../media/image27.png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-54000" y="0"/>
            <a:ext cx="9402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"/>
          <p:cNvPicPr/>
          <p:nvPr/>
        </p:nvPicPr>
        <p:blipFill>
          <a:blip r:embed="rId1"/>
          <a:stretch/>
        </p:blipFill>
        <p:spPr>
          <a:xfrm>
            <a:off x="6357960" y="1071720"/>
            <a:ext cx="2357280" cy="3786120"/>
          </a:xfrm>
          <a:prstGeom prst="rect">
            <a:avLst/>
          </a:prstGeom>
          <a:ln w="38160">
            <a:solidFill>
              <a:srgbClr val="ff5698"/>
            </a:solidFill>
            <a:miter/>
          </a:ln>
        </p:spPr>
      </p:pic>
      <p:pic>
        <p:nvPicPr>
          <p:cNvPr id="333" name="Заголовок 1" descr=""/>
          <p:cNvPicPr/>
          <p:nvPr/>
        </p:nvPicPr>
        <p:blipFill>
          <a:blip r:embed="rId2"/>
          <a:stretch/>
        </p:blipFill>
        <p:spPr>
          <a:xfrm>
            <a:off x="450720" y="201600"/>
            <a:ext cx="8242560" cy="14684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28760" y="1356840"/>
            <a:ext cx="675792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afd1"/>
                </a:solidFill>
                <a:latin typeface="Century Gothic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Century Gothic"/>
              </a:rPr>
              <a:t>Право на жизнь          нельзя убивать!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Century Gothic"/>
              </a:rPr>
              <a:t>Достоинство личности охраняется государством              нельзя мучить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Century Gothic"/>
              </a:rPr>
              <a:t>и унижать!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Century Gothic"/>
              </a:rPr>
              <a:t>Каждый имеет право на личную неприкосновенность             нельзя прикасаться без разрешения!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Century Gothic"/>
              </a:rPr>
              <a:t>Законом ты, если хочешь, всегда можешь воспользоваться, чтобы себя защитить! 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Стрелка вправо 4"/>
          <p:cNvSpPr/>
          <p:nvPr/>
        </p:nvSpPr>
        <p:spPr>
          <a:xfrm>
            <a:off x="3286080" y="1571760"/>
            <a:ext cx="549360" cy="34128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Стрелка вправо 5"/>
          <p:cNvSpPr/>
          <p:nvPr/>
        </p:nvSpPr>
        <p:spPr>
          <a:xfrm>
            <a:off x="4143240" y="4000680"/>
            <a:ext cx="549360" cy="34128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Стрелка вправо 6"/>
          <p:cNvSpPr/>
          <p:nvPr/>
        </p:nvSpPr>
        <p:spPr>
          <a:xfrm>
            <a:off x="3214800" y="2500200"/>
            <a:ext cx="549000" cy="34128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8000"/>
                            </p:stCondLst>
                            <p:childTnLst>
                              <p:par>
                                <p:cTn id="2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9" name="Заголовок 1" descr=""/>
          <p:cNvPicPr/>
          <p:nvPr/>
        </p:nvPicPr>
        <p:blipFill>
          <a:blip r:embed="rId2"/>
          <a:stretch/>
        </p:blipFill>
        <p:spPr>
          <a:xfrm>
            <a:off x="4425840" y="1133640"/>
            <a:ext cx="607068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1" name="Заголовок 1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937720" cy="510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7200" y="-36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БЕЛЫЙ ЦВЕТ мир, чистоту, правду, благородство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СИНИЙ ЦВЕТ небо, целомудрие, верность, духовность, веру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КРАСНЫЙ ЦВЕТ  красоту;  державность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3929040" y="0"/>
            <a:ext cx="5214960" cy="6858000"/>
          </a:xfrm>
          <a:prstGeom prst="rect">
            <a:avLst/>
          </a:prstGeom>
          <a:ln w="38160">
            <a:solidFill>
              <a:srgbClr val="ff5698"/>
            </a:solidFill>
            <a:miter/>
          </a:ln>
        </p:spPr>
      </p:pic>
      <p:pic>
        <p:nvPicPr>
          <p:cNvPr id="345" name="Заголовок 1" descr=""/>
          <p:cNvPicPr/>
          <p:nvPr/>
        </p:nvPicPr>
        <p:blipFill>
          <a:blip r:embed="rId2"/>
          <a:stretch/>
        </p:blipFill>
        <p:spPr>
          <a:xfrm>
            <a:off x="450720" y="1639800"/>
            <a:ext cx="8242560" cy="27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7" name="Заголовок 1" descr=""/>
          <p:cNvPicPr/>
          <p:nvPr/>
        </p:nvPicPr>
        <p:blipFill>
          <a:blip r:embed="rId2"/>
          <a:stretch/>
        </p:blipFill>
        <p:spPr>
          <a:xfrm>
            <a:off x="5205240" y="262080"/>
            <a:ext cx="3488040" cy="43164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57160" y="578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6" dur="81502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48"/>
                </p:tgtEl>
              </p:cMediaNode>
            </p:audio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9680" y="1356840"/>
            <a:ext cx="7000920" cy="13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c9c"/>
                </a:solidFill>
                <a:latin typeface="Century Gothic"/>
              </a:rPr>
              <a:t>Спасибо за внимание!</a:t>
            </a:r>
            <a:endParaRPr b="0" lang="en-US" sz="4000" spc="-1" strike="noStrike">
              <a:solidFill>
                <a:srgbClr val="ff5c9c"/>
              </a:solidFill>
              <a:latin typeface="Century Gothic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77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4" dur="770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6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8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Рисунок 4" descr="437578_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2" name="Заголовок 1" descr=""/>
          <p:cNvPicPr/>
          <p:nvPr/>
        </p:nvPicPr>
        <p:blipFill>
          <a:blip r:embed="rId2"/>
          <a:stretch/>
        </p:blipFill>
        <p:spPr>
          <a:xfrm>
            <a:off x="450720" y="-139680"/>
            <a:ext cx="8242560" cy="2028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2499840"/>
            <a:ext cx="8229600" cy="39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07520" indent="-34812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8800" spc="-1" strike="noStrike">
                <a:solidFill>
                  <a:srgbClr val="ffffff"/>
                </a:solidFill>
                <a:latin typeface="Century Gothic"/>
              </a:rPr>
              <a:t>12 декабря       </a:t>
            </a:r>
            <a:endParaRPr b="0" lang="en-US" sz="8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entury Gothic"/>
              </a:rPr>
              <a:t>        </a:t>
            </a:r>
            <a:r>
              <a:rPr b="0" lang="ru-RU" sz="8800" spc="-1" strike="noStrike">
                <a:solidFill>
                  <a:srgbClr val="ffffff"/>
                </a:solidFill>
                <a:latin typeface="Century Gothic"/>
              </a:rPr>
              <a:t>1993 г.</a:t>
            </a:r>
            <a:endParaRPr b="0" lang="en-US" sz="8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5-конечная звезда 5"/>
          <p:cNvSpPr/>
          <p:nvPr/>
        </p:nvSpPr>
        <p:spPr>
          <a:xfrm>
            <a:off x="428760" y="2857680"/>
            <a:ext cx="914400" cy="914400"/>
          </a:xfrm>
          <a:prstGeom prst="pi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6" name="Заголовок 1" descr=""/>
          <p:cNvPicPr/>
          <p:nvPr/>
        </p:nvPicPr>
        <p:blipFill>
          <a:blip r:embed="rId2"/>
          <a:stretch/>
        </p:blipFill>
        <p:spPr>
          <a:xfrm>
            <a:off x="450720" y="304920"/>
            <a:ext cx="824256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8" name="Заголовок 1" descr=""/>
          <p:cNvPicPr/>
          <p:nvPr/>
        </p:nvPicPr>
        <p:blipFill>
          <a:blip r:embed="rId2"/>
          <a:stretch/>
        </p:blipFill>
        <p:spPr>
          <a:xfrm>
            <a:off x="281160" y="2523960"/>
            <a:ext cx="8393040" cy="27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1904760" cy="2685960"/>
          </a:xfrm>
          <a:prstGeom prst="rect">
            <a:avLst/>
          </a:prstGeom>
          <a:ln w="38160">
            <a:solidFill>
              <a:srgbClr val="ff5698"/>
            </a:solidFill>
            <a:miter/>
          </a:ln>
        </p:spPr>
      </p:pic>
      <p:pic>
        <p:nvPicPr>
          <p:cNvPr id="320" name="Заголовок 1" descr=""/>
          <p:cNvPicPr/>
          <p:nvPr/>
        </p:nvPicPr>
        <p:blipFill>
          <a:blip r:embed="rId2"/>
          <a:stretch/>
        </p:blipFill>
        <p:spPr>
          <a:xfrm>
            <a:off x="450720" y="208080"/>
            <a:ext cx="8242560" cy="14619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mic Sans MS"/>
              </a:rPr>
              <a:t>Человек, его права и свободы являются высшей ценностью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mic Sans MS"/>
              </a:rPr>
              <a:t>Государство должно защищать права своих граждан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mic Sans MS"/>
              </a:rPr>
              <a:t>Что можно делать человеку и гражданину Российской Федерации, а что - нельзя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40"/>
                            </p:stCondLst>
                            <p:childTnLst>
                              <p:par>
                                <p:cTn id="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40"/>
                            </p:stCondLst>
                            <p:childTnLst>
                              <p:par>
                                <p:cTn id="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4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3" name="Заголовок 1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28540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6046920" cy="15778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57176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раво на жизнь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раво выбирать профессию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раво на отдых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раво на жиль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раво на медицинскую помощь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се люди равны перед законом, и каждого из нас защищает государство, через милицию и суд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2"/>
          <a:stretch/>
        </p:blipFill>
        <p:spPr>
          <a:xfrm>
            <a:off x="6715080" y="142920"/>
            <a:ext cx="2286000" cy="3355920"/>
          </a:xfrm>
          <a:prstGeom prst="rect">
            <a:avLst/>
          </a:prstGeom>
          <a:ln w="28440">
            <a:solidFill>
              <a:srgbClr val="ff5698"/>
            </a:solidFill>
            <a:miter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40"/>
                            </p:stCondLst>
                            <p:childTnLst>
                              <p:par>
                                <p:cTn id="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Заголовок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1438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1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Comic Sans MS"/>
              </a:rPr>
              <a:t>Свобода слова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1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4800" spc="-1" strike="noStrike">
                <a:solidFill>
                  <a:srgbClr val="ffffff"/>
                </a:solidFill>
                <a:latin typeface="Comic Sans MS"/>
              </a:rPr>
              <a:t>Свобода веры  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1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ru-RU" sz="4800" spc="-1" strike="noStrike">
                <a:solidFill>
                  <a:srgbClr val="ffffff"/>
                </a:solidFill>
                <a:latin typeface="Comic Sans MS"/>
              </a:rPr>
              <a:t>Свобода совести 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1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9" name="Picture 5" descr=""/>
          <p:cNvPicPr/>
          <p:nvPr/>
        </p:nvPicPr>
        <p:blipFill>
          <a:blip r:embed="rId2"/>
          <a:stretch/>
        </p:blipFill>
        <p:spPr>
          <a:xfrm>
            <a:off x="5572080" y="144360"/>
            <a:ext cx="3571920" cy="2784600"/>
          </a:xfrm>
          <a:prstGeom prst="rect">
            <a:avLst/>
          </a:prstGeom>
          <a:ln w="38160">
            <a:solidFill>
              <a:srgbClr val="ff5698"/>
            </a:solidFill>
            <a:miter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20"/>
                            </p:stCondLst>
                            <p:childTnLst>
                              <p:par>
                                <p:cTn id="1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450720" y="6480"/>
            <a:ext cx="8242560" cy="16635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Охранять Родину.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Сохранять природу 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окружающую среду.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80"/>
                            </p:stCondLst>
                            <p:childTnLst>
                              <p:par>
                                <p:cTn id="1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7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7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77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77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77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8:49:49Z</dcterms:created>
  <dc:creator>КАТЯ</dc:creator>
  <dc:description/>
  <dc:language>en-US</dc:language>
  <cp:lastModifiedBy>КАТЯ</cp:lastModifiedBy>
  <dcterms:modified xsi:type="dcterms:W3CDTF">2008-12-04T16:45:08Z</dcterms:modified>
  <cp:revision>28</cp:revision>
  <dc:subject/>
  <dc:title>Слайд 1</dc:title>
</cp:coreProperties>
</file>