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9B82-EEE5-4004-B6C5-13CA63D2B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FD4B-519B-4ABE-8E18-39D04E42B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1CC-6C9E-4EA6-8499-33096193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133-6C0C-4BB7-BAB9-DA09E21A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8BB-CFBF-4D2A-8078-C537574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84D-392A-4267-B4FB-17DE50C5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F1E-C58C-41DE-85B5-0A99BF1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691-25E8-4421-8893-6EC23783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292-B6DD-492D-AFAD-78A4C42A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098-2390-43EF-8BC6-81839A9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EC8-0F5B-4FC7-AD96-4294FA33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97A-0826-466D-B04B-897348A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FD8-E06A-49DB-AEC8-6904D14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15C-2235-40AF-8C88-D4399A9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268-873B-4E6C-A140-A78EA1FD3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CB9-A491-48D0-AFAE-9D171F478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Monotype Corsiva"/>
              </a:rPr>
              <a:t>Шакирова Эльмира Ильгамов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79280" y="3284280"/>
            <a:ext cx="6985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адо видеть себя в детях, чтобы помочь им стать взрослыми, надо принимать их как повторение своего детства, чтобы совершенствовать самому, надо, наконец, жить жизнью детей, чтобы быть гуманным педагог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Ш. А. Амонашв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946-FD01-4C99-A93A-140FB085E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развитию познавательных интересов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здать благоприятный воспитательный фон, способствующий осмыслению и усвоению подростками нравственных норм, духовной культуры человечества, закреплению этих норм в  их повседневном пове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формированию основ культуры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звивать творческую деятельность через КТ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сплочению классного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379A-EB3F-43BB-B6A9-B04B18AD4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Структура воспитательной системы клас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1920" y="2666880"/>
            <a:ext cx="3048480" cy="360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 rot="16200000">
            <a:off x="-1611720" y="4278600"/>
            <a:ext cx="3529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аимозависимость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928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7928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79280" y="429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179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7928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7928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 rot="4224000">
            <a:off x="2236680" y="3274560"/>
            <a:ext cx="16257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ия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 rot="17285400">
            <a:off x="2249280" y="5446080"/>
            <a:ext cx="16002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ия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3505320" y="4038480"/>
            <a:ext cx="7156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724280" y="2133720"/>
            <a:ext cx="2057400" cy="4392360"/>
          </a:xfrm>
          <a:prstGeom prst="rightArrow">
            <a:avLst>
              <a:gd name="adj1" fmla="val 88315"/>
              <a:gd name="adj2" fmla="val 3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ллекти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4284720" y="2924280"/>
            <a:ext cx="28728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284720" y="4648320"/>
            <a:ext cx="2872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4284720" y="441972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6934320" y="2362320"/>
            <a:ext cx="201600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а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тив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ю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5E53-DB74-4A1C-952A-0AF393822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500720" y="1557360"/>
            <a:ext cx="3671640" cy="115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Субъекты воспитательной системы клас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258920" y="1557360"/>
            <a:ext cx="6553080" cy="2592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у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ув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258920" y="4149720"/>
            <a:ext cx="2160720" cy="230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651640" y="4149720"/>
            <a:ext cx="2160360" cy="230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419640" y="4149720"/>
            <a:ext cx="2232000" cy="230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FF0-10E2-40DB-8A77-7CF92B66D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0920" y="260280"/>
            <a:ext cx="842472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Arial"/>
              </a:rPr>
              <a:t>Каждый учащийся – это сложная, своеобразная и интересная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Форма ученического самоуправления имеет ряд достоин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влечение в работу всех учащихся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е таких качеств, как самостоятельность, требовательность к себе, ответственность, коммуникабельность и стремление оказать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оявляется возможность реализации творческого потенциала ре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анятость во внеурочное время, так как подготовка тех или иных мероприятий требует больших затрат лич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C8D1-D06E-4E44-AFAE-0FC2C118D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Учё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Я – гражда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0"/>
          <p:cNvGraphicFramePr/>
          <p:nvPr/>
        </p:nvGraphicFramePr>
        <p:xfrm>
          <a:off x="502920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Основные направления воспитатель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016F-ED21-48A5-BA39-576582BC7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ff"/>
                </a:solidFill>
                <a:uFillTx/>
                <a:latin typeface="Monotype Corsiva"/>
              </a:rPr>
              <a:t>Учё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2d03"/>
                </a:solidFill>
                <a:latin typeface="Monotype Corsiva"/>
              </a:rPr>
              <a:t>«Ученье – свет,а не ученье – тьма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0"/>
          <p:cNvGraphicFramePr/>
          <p:nvPr/>
        </p:nvGraphicFramePr>
        <p:xfrm>
          <a:off x="304920" y="2438280"/>
          <a:ext cx="480060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48006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6" descr="3"/>
          <p:cNvPicPr/>
          <p:nvPr/>
        </p:nvPicPr>
        <p:blipFill>
          <a:blip r:embed="rId3"/>
          <a:stretch/>
        </p:blipFill>
        <p:spPr>
          <a:xfrm>
            <a:off x="5257800" y="2743200"/>
            <a:ext cx="3660840" cy="276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AE6-1F79-45BC-9D25-69193AB58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15"/>
          <p:cNvPicPr/>
          <p:nvPr/>
        </p:nvPicPr>
        <p:blipFill>
          <a:blip r:embed="rId1"/>
          <a:stretch/>
        </p:blipFill>
        <p:spPr>
          <a:xfrm>
            <a:off x="5329080" y="4114800"/>
            <a:ext cx="3814920" cy="2529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ff"/>
                </a:solidFill>
                <a:uFillTx/>
                <a:latin typeface="Monotype Corsiva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2d03"/>
                </a:solidFill>
                <a:latin typeface="Monotype Corsiva"/>
              </a:rPr>
              <a:t>«В дружбе взрослых и детей – сила школы и сем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3"/>
          <p:cNvPicPr/>
          <p:nvPr/>
        </p:nvPicPr>
        <p:blipFill>
          <a:blip r:embed="rId2"/>
          <a:stretch/>
        </p:blipFill>
        <p:spPr>
          <a:xfrm>
            <a:off x="228600" y="2895480"/>
            <a:ext cx="2523960" cy="370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17"/>
          <p:cNvPicPr/>
          <p:nvPr/>
        </p:nvPicPr>
        <p:blipFill>
          <a:blip r:embed="rId3"/>
          <a:stretch/>
        </p:blipFill>
        <p:spPr>
          <a:xfrm>
            <a:off x="1852560" y="2438280"/>
            <a:ext cx="5437080" cy="3530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555-D85D-4321-96D2-678631E5F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ff"/>
                </a:solidFill>
                <a:uFillTx/>
                <a:latin typeface="Monotype Corsiva"/>
              </a:rPr>
              <a:t>Я - граждан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2d03"/>
                </a:solidFill>
                <a:latin typeface="Monotype Corsiva"/>
              </a:rPr>
              <a:t>«Ты тоже родился в Росси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16"/>
          <p:cNvPicPr/>
          <p:nvPr/>
        </p:nvPicPr>
        <p:blipFill>
          <a:blip r:embed="rId1"/>
          <a:stretch/>
        </p:blipFill>
        <p:spPr>
          <a:xfrm>
            <a:off x="395280" y="2349360"/>
            <a:ext cx="4824360" cy="3192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Без имени-4копирование"/>
          <p:cNvPicPr/>
          <p:nvPr/>
        </p:nvPicPr>
        <p:blipFill>
          <a:blip r:embed="rId2"/>
          <a:stretch/>
        </p:blipFill>
        <p:spPr>
          <a:xfrm>
            <a:off x="3635280" y="2781360"/>
            <a:ext cx="5308560" cy="351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F90-60C1-434A-B235-CE978CBFB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ff"/>
                </a:solidFill>
                <a:uFillTx/>
                <a:latin typeface="Monotype Corsiva"/>
              </a:rPr>
              <a:t>Здоровь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2d03"/>
                </a:solidFill>
                <a:latin typeface="Monotype Corsiva"/>
              </a:rPr>
              <a:t>«В здоровом теле – здоровый ду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380880" y="2971800"/>
          <a:ext cx="4407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971800"/>
                    <a:ext cx="4407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icture 7" descr="7"/>
          <p:cNvPicPr/>
          <p:nvPr/>
        </p:nvPicPr>
        <p:blipFill>
          <a:blip r:embed="rId3"/>
          <a:stretch/>
        </p:blipFill>
        <p:spPr>
          <a:xfrm>
            <a:off x="6172200" y="2438280"/>
            <a:ext cx="2570040" cy="407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2"/>
          <p:cNvPicPr/>
          <p:nvPr/>
        </p:nvPicPr>
        <p:blipFill>
          <a:blip r:embed="rId4"/>
          <a:stretch/>
        </p:blipFill>
        <p:spPr>
          <a:xfrm>
            <a:off x="6227640" y="0"/>
            <a:ext cx="2697120" cy="1785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0AA9-C6CE-47F4-8609-556138D28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Положительные результаты в учебно-воспитательном процесс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Уровень воспитанности учащихся выше среднего по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В классе преобладает атмосфера доброжела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Большинство ребят хорошо себя чувствуют в классном коллективе, могут свободно высказывать своё м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Шестиклассники имеют высокую степень удовлетворённости жизнедеятельностью в школе: они любят свою школу, у них есть любимые учителя и любимые школьные предм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6AD3-B822-4C8E-A1D4-A30A7B28F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Monotype Corsiva"/>
              </a:rPr>
              <a:t>Работа в школе № 1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5" descr="2"/>
          <p:cNvPicPr/>
          <p:nvPr/>
        </p:nvPicPr>
        <p:blipFill>
          <a:blip r:embed="rId1"/>
          <a:stretch/>
        </p:blipFill>
        <p:spPr>
          <a:xfrm>
            <a:off x="5724360" y="1149480"/>
            <a:ext cx="3419640" cy="22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8"/>
          <p:cNvPicPr/>
          <p:nvPr/>
        </p:nvPicPr>
        <p:blipFill>
          <a:blip r:embed="rId2"/>
          <a:stretch/>
        </p:blipFill>
        <p:spPr>
          <a:xfrm>
            <a:off x="0" y="4365720"/>
            <a:ext cx="3672000" cy="233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11"/>
          <p:cNvPicPr/>
          <p:nvPr/>
        </p:nvPicPr>
        <p:blipFill>
          <a:blip r:embed="rId3"/>
          <a:stretch/>
        </p:blipFill>
        <p:spPr>
          <a:xfrm>
            <a:off x="5780160" y="4670280"/>
            <a:ext cx="336384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14"/>
          <p:cNvPicPr/>
          <p:nvPr/>
        </p:nvPicPr>
        <p:blipFill>
          <a:blip r:embed="rId4"/>
          <a:stretch/>
        </p:blipFill>
        <p:spPr>
          <a:xfrm>
            <a:off x="0" y="1082520"/>
            <a:ext cx="3833640" cy="245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" descr="12"/>
          <p:cNvPicPr/>
          <p:nvPr/>
        </p:nvPicPr>
        <p:blipFill>
          <a:blip r:embed="rId5"/>
          <a:stretch/>
        </p:blipFill>
        <p:spPr>
          <a:xfrm>
            <a:off x="2050920" y="2421000"/>
            <a:ext cx="5400720" cy="3584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0817-7D73-4F8A-8199-9C250E78A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d2d03"/>
              </a:solidFill>
              <a:latin typeface="Monotype Corsiv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0" y="112536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«Учитель – это жертвенная профессия, это человек, способный спустится с высот своих знаний до незнания ученика и вместе с ним совершить восхожд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                                        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Авицен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9DD5-0049-4688-BCC7-3F53BCA00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Индивидуальная концеп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Классного руководител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средней школы № 1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Кировского района города Каз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Шакировой Эльмиры Ильгамов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944-82DA-4DAB-8B92-0AE9B2C5D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684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d2d03"/>
                </a:solidFill>
                <a:latin typeface="Times New Roman"/>
              </a:rPr>
              <a:t>Школьные годы – важнейший период человеческой жизни, не подготовка к будущей жизни, а настоящая, яркая, самобытная, неповторимая жизнь. И от того, что вошло в его разум и сердце из окружающего мира – от этого в решающей степени зависит, каким человеком станет сегодняшний ребенок (подросток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d2d03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d2d0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3F37-70BE-4CD6-8FC4-A92D4B1A7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Методическая 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Baskerville Old Face"/>
              </a:rPr>
              <a:t>   </a:t>
            </a:r>
            <a:r>
              <a:rPr b="0" lang="ru-RU" sz="4000" spc="-1" strike="noStrike">
                <a:solidFill>
                  <a:srgbClr val="cc0000"/>
                </a:solidFill>
                <a:latin typeface="Baskerville Old Face"/>
              </a:rPr>
              <a:t>Развитие творческого потенциала личности ученика на основе национальных традиций и самобытности народов Татарста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C12-30FC-40C7-9EFA-7CF34C555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41568"/>
                </a:solidFill>
                <a:uFillTx/>
                <a:latin typeface="Blackadder ITC"/>
              </a:rPr>
              <a:t>Воспитание</a:t>
            </a:r>
            <a:r>
              <a:rPr b="1" lang="ru-RU" sz="2800" spc="-1" strike="noStrike">
                <a:solidFill>
                  <a:srgbClr val="041568"/>
                </a:solidFill>
                <a:latin typeface="Blackadder ITC"/>
              </a:rPr>
              <a:t> – процесс целенаправленного управления развитием личности, основанный на эффективном взаимодействии воспитателей и воспитанников, направленный на достижение поставленной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41568"/>
                </a:solidFill>
                <a:uFillTx/>
                <a:latin typeface="Blackadder ITC"/>
              </a:rPr>
              <a:t>Воспитание</a:t>
            </a:r>
            <a:r>
              <a:rPr b="1" lang="ru-RU" sz="2800" spc="-1" strike="noStrike">
                <a:solidFill>
                  <a:srgbClr val="041568"/>
                </a:solidFill>
                <a:latin typeface="Blackadder ITC"/>
              </a:rPr>
              <a:t> – это искусство. Искусство прикосновения к ребёнку, которое помогает, стимулирует его самоизменение, самостроительство, самосовершенств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41568"/>
                </a:solidFill>
                <a:uFillTx/>
                <a:latin typeface="Blackadder ITC"/>
              </a:rPr>
              <a:t>Воспитание</a:t>
            </a:r>
            <a:r>
              <a:rPr b="1" lang="ru-RU" sz="2800" spc="-1" strike="noStrike">
                <a:solidFill>
                  <a:srgbClr val="041568"/>
                </a:solidFill>
                <a:latin typeface="Blackadder ITC"/>
              </a:rPr>
              <a:t> – это чувства, голос души и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00560" y="474840"/>
            <a:ext cx="2684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2A0-0852-4BBC-B04C-429D24DF0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ким хотят видеть учителя уче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образован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целеустремлён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демократич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интеллигент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воспитан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законопослуш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2d03"/>
                </a:solidFill>
                <a:latin typeface="Arial"/>
              </a:rPr>
              <a:t>творчески направл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7EA-19C8-46BE-BF5F-AB4D6E19C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Какими я хочу видеть своих дете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96000" y="1915920"/>
            <a:ext cx="4248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стоятельн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деятельными личностя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оцененн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определённ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утверждённ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развит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Arial"/>
              </a:rPr>
              <a:t>реализованн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68360" y="3500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а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2700360" y="2276640"/>
            <a:ext cx="2232000" cy="180000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2700360" y="2852640"/>
            <a:ext cx="2303280" cy="122400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2700360" y="3860640"/>
            <a:ext cx="2232000" cy="21600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700360" y="4076640"/>
            <a:ext cx="2232000" cy="36036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700360" y="4076640"/>
            <a:ext cx="2232000" cy="93672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2700360" y="4076640"/>
            <a:ext cx="2158920" cy="144000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00360" y="4076640"/>
            <a:ext cx="2158920" cy="2160720"/>
          </a:xfrm>
          <a:prstGeom prst="line">
            <a:avLst/>
          </a:prstGeom>
          <a:ln w="38160">
            <a:solidFill>
              <a:srgbClr val="fd2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A91-3066-4CD8-987F-B5248C5FB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16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Модель воспитательной систе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ая система класса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– это целостный социальный организм, функционирующий при условии взаимодействия основных компонентов воспитания, отражающий специфический способ организации жизнедеятельности коллектива клас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Цель воспитательной системы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–</a:t>
            </a:r>
            <a:r>
              <a:rPr b="0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создание условий для разностороннего развития личности на основе усвоения и присвоения общечеловеческих ценностей; воспитание мирного человека, живущего в согласии с собой, с окружающей действительностью, занимающего активную позицию по отношению к 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06:26:37Z</dcterms:created>
  <dc:creator>Server</dc:creator>
  <dc:description/>
  <dc:language>en-US</dc:language>
  <cp:lastModifiedBy>uuu</cp:lastModifiedBy>
  <dcterms:modified xsi:type="dcterms:W3CDTF">2013-10-12T18:48:57Z</dcterms:modified>
  <cp:revision>32</cp:revision>
  <dc:subject/>
  <dc:title>Разумкова Светлана Викторовна </dc:title>
</cp:coreProperties>
</file>