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5.jpeg" ContentType="image/jpeg"/>
  <Override PartName="/ppt/media/image6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applause.wav" ContentType="audio/x-wav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FCF-B232-444C-8F46-5ECD1A6F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528-303D-4570-A03C-2D210443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9C4-9888-4A27-A9B0-3E147024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5E4-763B-4D52-88EF-AFF84BF7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AF9C-F889-4358-8B27-6A567E4D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5271-0BD0-4283-8A0C-8B393045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D844-7521-472B-8113-2F921EA3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9D45-FDA3-4CE1-ADF4-F745D494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AD29-56CC-490E-92D1-BBA2DD6C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4F8C-9617-4029-AA03-E5CFDDFA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9298-22DC-4348-B4E2-FCB4B814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E38-5DF9-483D-8EC9-90C5380F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F8A1-E081-46A7-B041-ACFF72A1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6600-17F5-4F85-B11C-6F71DA49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7CF1-E6B5-46C8-BFF1-EA03924D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97CE-B68F-4B5C-B981-18D344E2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587C-2B8F-4944-9C84-D5A7C95C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E65-2366-4489-AE78-33398C43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090-8701-4E48-9813-62BF5749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197-933A-4EA7-9433-07E3E503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A21-8729-475C-8E46-9213EFAF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292-9F16-47A4-A278-A51A28D9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D6E-2641-43A8-BE52-BE8C6882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42B-DB24-447A-99DC-7335C823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6F3B-0407-41BE-A53B-4AAF37AA0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7F99-92C0-40EF-B9C7-EDB1127B8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eec94"/>
                </a:solidFill>
                <a:latin typeface="Times New Roman"/>
              </a:rPr>
              <a:t>Применение методов</a:t>
            </a:r>
            <a:br>
              <a:rPr sz="4000"/>
            </a:br>
            <a:r>
              <a:rPr b="0" i="1" lang="ru-RU" sz="4000" spc="-1" strike="noStrike">
                <a:solidFill>
                  <a:srgbClr val="feec94"/>
                </a:solidFill>
                <a:latin typeface="Times New Roman"/>
              </a:rPr>
              <a:t>Арт-терапии</a:t>
            </a:r>
            <a:br>
              <a:rPr sz="4000"/>
            </a:br>
            <a:r>
              <a:rPr b="0" i="1" lang="ru-RU" sz="4000" spc="-1" strike="noStrike">
                <a:solidFill>
                  <a:srgbClr val="feec94"/>
                </a:solidFill>
                <a:latin typeface="Times New Roman"/>
              </a:rPr>
              <a:t>в работе с детьми</a:t>
            </a:r>
            <a:br>
              <a:rPr sz="4000"/>
            </a:br>
            <a:r>
              <a:rPr b="0" i="1" lang="ru-RU" sz="4000" spc="-1" strike="noStrike">
                <a:solidFill>
                  <a:srgbClr val="feec94"/>
                </a:solidFill>
                <a:latin typeface="Times New Roman"/>
              </a:rPr>
              <a:t>и родителями</a:t>
            </a:r>
            <a:br>
              <a:rPr sz="4000"/>
            </a:br>
            <a:br>
              <a:rPr sz="4000"/>
            </a:br>
            <a:r>
              <a:rPr b="0" i="1" lang="ru-RU" sz="2800" spc="-1" strike="noStrike">
                <a:solidFill>
                  <a:srgbClr val="feec94"/>
                </a:solidFill>
                <a:latin typeface="Times New Roman"/>
              </a:rPr>
              <a:t>Автор </a:t>
            </a:r>
            <a:r>
              <a:rPr b="0" i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0" i="1" lang="ru-RU" sz="2800" spc="-1" strike="noStrike">
                <a:solidFill>
                  <a:srgbClr val="feec94"/>
                </a:solidFill>
                <a:latin typeface="Times New Roman"/>
              </a:rPr>
              <a:t> Музыкальный руководитель</a:t>
            </a:r>
            <a:br>
              <a:rPr sz="2800"/>
            </a:br>
            <a:r>
              <a:rPr b="0" i="1" lang="ru-RU" sz="2800" spc="-1" strike="noStrike">
                <a:solidFill>
                  <a:srgbClr val="feec94"/>
                </a:solidFill>
                <a:latin typeface="Times New Roman"/>
              </a:rPr>
              <a:t>Степанова О.А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2781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eec94"/>
                </a:solidFill>
                <a:latin typeface="Times New Roman"/>
              </a:rPr>
              <a:t>Семейная ассамблея</a:t>
            </a:r>
            <a:r>
              <a:rPr b="1" i="1" lang="en-US" sz="60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6000"/>
            </a:br>
            <a:r>
              <a:rPr b="1" i="1" lang="ru-RU" sz="4800" spc="-1" strike="noStrike">
                <a:solidFill>
                  <a:srgbClr val="feec94"/>
                </a:solidFill>
                <a:latin typeface="Times New Roman"/>
              </a:rPr>
              <a:t>Спонтанный театр</a:t>
            </a:r>
            <a:br>
              <a:rPr sz="4800"/>
            </a:br>
            <a:r>
              <a:rPr b="1" i="1" lang="ru-RU" sz="4800" spc="-1" strike="noStrike">
                <a:solidFill>
                  <a:srgbClr val="feec94"/>
                </a:solidFill>
                <a:latin typeface="Times New Roman"/>
              </a:rPr>
              <a:t> в Летнем саду</a:t>
            </a:r>
            <a:br>
              <a:rPr sz="4800"/>
            </a:br>
            <a:r>
              <a:rPr b="1" i="1" lang="ru-RU" sz="4800" spc="-1" strike="noStrike">
                <a:solidFill>
                  <a:srgbClr val="feec94"/>
                </a:solidFill>
                <a:latin typeface="Times New Roman"/>
              </a:rPr>
              <a:t> Спектакль</a:t>
            </a:r>
            <a:r>
              <a:rPr b="1" i="1" lang="en-US" sz="4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4800"/>
            </a:br>
            <a:r>
              <a:rPr b="1" i="1" lang="ru-RU" sz="48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i="1" lang="en-US" sz="48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i="1" lang="ru-RU" sz="4800" spc="-1" strike="noStrike">
                <a:solidFill>
                  <a:srgbClr val="feec94"/>
                </a:solidFill>
                <a:latin typeface="Times New Roman"/>
              </a:rPr>
              <a:t>Воздух ,вода и огонь</a:t>
            </a:r>
            <a:r>
              <a:rPr b="1" i="1" lang="en-US" sz="4800" spc="-1" strike="noStrike">
                <a:solidFill>
                  <a:srgbClr val="feec94"/>
                </a:solidFill>
                <a:latin typeface="Times New Roman"/>
              </a:rPr>
              <a:t>...”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Участники-родители настраиваются перед началом спектакля – им предстоит озвучить действия детей с помощью шумовых инструментов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9850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Сцена </a:t>
            </a: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Воздух</a:t>
            </a: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br>
              <a:rPr sz="24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Все вместе проживаем состояние лёгкости , невесомости , так и хочется оторваться от земли!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91344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Маленькие пузыри превратились в большое белое облако. Оно  нас всех объединяет ,и маленьких и больших!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69120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Сцена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Вода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”</a:t>
            </a: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 – прислушиваемся к звенящим каплям дождя…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4608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Сцена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Огонь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”</a:t>
            </a: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.Наполняемся энергетикой , радостью и объединяемся в общем танце!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403848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Спектакль закончился , но детям не хочется уходить…Пробуют и исследуют звук до дыр!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66247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Times New Roman"/>
              </a:rPr>
              <a:t>Предварительная работа</a:t>
            </a:r>
            <a:br>
              <a:rPr sz="4000"/>
            </a:br>
            <a:r>
              <a:rPr b="1" i="1" lang="ru-RU" sz="4000" spc="-1" strike="noStrike">
                <a:solidFill>
                  <a:srgbClr val="3333ff"/>
                </a:solidFill>
                <a:latin typeface="Times New Roman"/>
              </a:rPr>
              <a:t>с родителями и детьми</a:t>
            </a:r>
            <a:br>
              <a:rPr sz="4000"/>
            </a:br>
            <a:r>
              <a:rPr b="1" i="1" lang="ru-RU" sz="4000" spc="-1" strike="noStrike">
                <a:solidFill>
                  <a:srgbClr val="3333ff"/>
                </a:solidFill>
                <a:latin typeface="Times New Roman"/>
              </a:rPr>
              <a:t>к постановке спектакля</a:t>
            </a:r>
            <a:br>
              <a:rPr sz="4000"/>
            </a:b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“C</a:t>
            </a:r>
            <a:r>
              <a:rPr b="1" i="1" lang="ru-RU" sz="4000" spc="-1" strike="noStrike">
                <a:solidFill>
                  <a:srgbClr val="3333ff"/>
                </a:solidFill>
                <a:latin typeface="Times New Roman"/>
              </a:rPr>
              <a:t>нежная королева</a:t>
            </a: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”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Портрет Снежной королевы</a:t>
            </a:r>
            <a:br>
              <a:rPr sz="3600"/>
            </a:b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Староста Семён и сестр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583236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1" i="1" lang="ru-RU" sz="3200" spc="-1" strike="noStrike">
                <a:solidFill>
                  <a:srgbClr val="3333ff"/>
                </a:solidFill>
                <a:latin typeface="Times New Roman"/>
              </a:rPr>
              <a:t>Северное сияние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”</a:t>
            </a:r>
            <a:br>
              <a:rPr sz="3200"/>
            </a:br>
            <a:r>
              <a:rPr b="1" i="1" lang="ru-RU" sz="3200" spc="-1" strike="noStrike">
                <a:solidFill>
                  <a:srgbClr val="3333ff"/>
                </a:solidFill>
                <a:latin typeface="Times New Roman"/>
              </a:rPr>
              <a:t>Егор , Кристина ,Сон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19280" y="1600200"/>
            <a:ext cx="59770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459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   </a:t>
            </a:r>
            <a:br>
              <a:rPr sz="4400"/>
            </a:b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Осенние скульпту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416720" cy="49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Снежная королева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”</a:t>
            </a:r>
            <a:br>
              <a:rPr sz="3600"/>
            </a:b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Кристина Сазонова с мамой и папой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908000" y="1268280"/>
            <a:ext cx="561672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Times New Roman"/>
              </a:rPr>
              <a:t>Композиция</a:t>
            </a:r>
            <a:br>
              <a:rPr sz="3200"/>
            </a:b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1" i="1" lang="ru-RU" sz="3200" spc="-1" strike="noStrike">
                <a:solidFill>
                  <a:srgbClr val="3333ff"/>
                </a:solidFill>
                <a:latin typeface="Times New Roman"/>
              </a:rPr>
              <a:t>Царство Снежной королевы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”</a:t>
            </a:r>
            <a:br>
              <a:rPr sz="3200"/>
            </a:br>
            <a:r>
              <a:rPr b="1" i="1" lang="ru-RU" sz="2000" spc="-1" strike="noStrike">
                <a:solidFill>
                  <a:srgbClr val="3333ff"/>
                </a:solidFill>
                <a:latin typeface="Times New Roman"/>
              </a:rPr>
              <a:t>Алёша и мама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87280" y="1600200"/>
            <a:ext cx="691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Дворец принцессы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”</a:t>
            </a:r>
            <a:br>
              <a:rPr sz="3600"/>
            </a:b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Влада и мам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92360" y="1600200"/>
            <a:ext cx="57592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Герда в пещере у разбойников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”</a:t>
            </a:r>
            <a:br>
              <a:rPr sz="3600"/>
            </a:b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Коллективная работ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692360" y="1600200"/>
            <a:ext cx="61927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ff"/>
                </a:solidFill>
                <a:latin typeface="Book Antiqua"/>
              </a:rPr>
              <a:t>Спектакль</a:t>
            </a:r>
            <a:br>
              <a:rPr sz="6000"/>
            </a:br>
            <a:r>
              <a:rPr b="1" i="1" lang="en-US" sz="6000" spc="-1" strike="noStrike">
                <a:solidFill>
                  <a:srgbClr val="3333ff"/>
                </a:solidFill>
                <a:latin typeface="Book Antiqua"/>
              </a:rPr>
              <a:t>“</a:t>
            </a:r>
            <a:r>
              <a:rPr b="1" i="1" lang="ru-RU" sz="6000" spc="-1" strike="noStrike">
                <a:solidFill>
                  <a:srgbClr val="3333ff"/>
                </a:solidFill>
                <a:latin typeface="Book Antiqua"/>
              </a:rPr>
              <a:t>Снежная королева</a:t>
            </a:r>
            <a:r>
              <a:rPr b="1" i="1" lang="en-US" sz="6000" spc="-1" strike="noStrike">
                <a:solidFill>
                  <a:srgbClr val="3333ff"/>
                </a:solidFill>
                <a:latin typeface="Book Antiqua"/>
              </a:rPr>
              <a:t>”</a:t>
            </a:r>
            <a:br>
              <a:rPr sz="6000"/>
            </a:br>
            <a:r>
              <a:rPr b="1" i="1" lang="ru-RU" sz="3600" spc="-1" strike="noStrike">
                <a:solidFill>
                  <a:srgbClr val="3333ff"/>
                </a:solidFill>
                <a:latin typeface="Book Antiqua"/>
              </a:rPr>
              <a:t>(по мотивам сказки Г.-Х.Андерсена.)</a:t>
            </a:r>
            <a:br>
              <a:rPr sz="3600"/>
            </a:br>
            <a:r>
              <a:rPr b="1" i="1" lang="ru-RU" sz="3600" spc="-1" strike="noStrike">
                <a:solidFill>
                  <a:srgbClr val="3333ff"/>
                </a:solidFill>
                <a:latin typeface="Book Antiqua"/>
              </a:rPr>
              <a:t>с участием детей и родителей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eec94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4400" spc="-1" strike="noStrike">
                <a:solidFill>
                  <a:srgbClr val="3333ff"/>
                </a:solidFill>
                <a:latin typeface="Times New Roman"/>
              </a:rPr>
              <a:t>Настрой родителей пере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ff"/>
                </a:solidFill>
                <a:latin typeface="Times New Roman"/>
              </a:rPr>
              <a:t>спектаклем , озвучив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ff"/>
                </a:solidFill>
                <a:latin typeface="Times New Roman"/>
              </a:rPr>
              <a:t>сценических действий 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ff"/>
                </a:solidFill>
                <a:latin typeface="Times New Roman"/>
              </a:rPr>
              <a:t>исполняемых песе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Настрой и оркестровка спектакля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763640" y="1268280"/>
            <a:ext cx="583272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Проработка текстов песен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403280" y="1600200"/>
            <a:ext cx="6697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Родители включились в процесс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187280" y="1600200"/>
            <a:ext cx="69850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072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2a02bc"/>
                </a:solidFill>
                <a:latin typeface="Times New Roman"/>
              </a:rPr>
              <a:t>Фрагмент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2a02b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2a02bc"/>
                </a:solidFill>
                <a:latin typeface="Times New Roman"/>
              </a:rPr>
              <a:t>из спектакл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Коллективная работа на ткани</a:t>
            </a:r>
            <a:br>
              <a:rPr sz="4000"/>
            </a:b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3 месяца осен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570800" cy="41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Palatino Linotype"/>
              </a:rPr>
              <a:t>Снежная королев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403280" y="1600200"/>
            <a:ext cx="61930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Кай и Герда увидели Снежную королеву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6840360" cy="47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Танцы во дворце принца и принцессы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258920" y="1600200"/>
            <a:ext cx="6697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Герда в подаренной карете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82296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Маленькая разбойница с друзьям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6553080" cy="48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Встреча Герды с оленем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187280" y="1600200"/>
            <a:ext cx="68407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Встреча с белыми медведям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403280" y="1293840"/>
            <a:ext cx="684072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В замке Снежной королевы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69138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465e"/>
            </a:gs>
            <a:gs pos="50000">
              <a:srgbClr val="ff99cc"/>
            </a:gs>
            <a:gs pos="100000">
              <a:srgbClr val="75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02bc"/>
                </a:solidFill>
                <a:latin typeface="Arial Narrow"/>
              </a:rPr>
              <a:t>Обратная связь</a:t>
            </a:r>
            <a:br>
              <a:rPr sz="4800"/>
            </a:br>
            <a:r>
              <a:rPr b="1" i="1" lang="ru-RU" sz="4800" spc="-1" strike="noStrike">
                <a:solidFill>
                  <a:srgbClr val="2a02bc"/>
                </a:solidFill>
                <a:latin typeface="Arial Narrow"/>
              </a:rPr>
              <a:t>Семейный досуг</a:t>
            </a:r>
            <a:br>
              <a:rPr sz="4800"/>
            </a:br>
            <a:r>
              <a:rPr b="1" i="1" lang="en-US" sz="4800" spc="-1" strike="noStrike">
                <a:solidFill>
                  <a:srgbClr val="2a02bc"/>
                </a:solidFill>
                <a:latin typeface="Arial Narrow"/>
              </a:rPr>
              <a:t>“</a:t>
            </a:r>
            <a:r>
              <a:rPr b="1" i="1" lang="ru-RU" sz="4800" spc="-1" strike="noStrike">
                <a:solidFill>
                  <a:srgbClr val="2a02bc"/>
                </a:solidFill>
                <a:latin typeface="Arial Narrow"/>
              </a:rPr>
              <a:t>В царстве </a:t>
            </a:r>
            <a:r>
              <a:rPr b="1" i="1" lang="en-US" sz="4800" spc="-1" strike="noStrike">
                <a:solidFill>
                  <a:srgbClr val="2a02bc"/>
                </a:solidFill>
                <a:latin typeface="Arial Narrow"/>
              </a:rPr>
              <a:t>C</a:t>
            </a:r>
            <a:r>
              <a:rPr b="1" i="1" lang="ru-RU" sz="4800" spc="-1" strike="noStrike">
                <a:solidFill>
                  <a:srgbClr val="2a02bc"/>
                </a:solidFill>
                <a:latin typeface="Arial Narrow"/>
              </a:rPr>
              <a:t>нежной королевы</a:t>
            </a:r>
            <a:r>
              <a:rPr b="1" i="1" lang="en-US" sz="4800" spc="-1" strike="noStrike">
                <a:solidFill>
                  <a:srgbClr val="2a02bc"/>
                </a:solidFill>
                <a:latin typeface="Arial Narrow"/>
              </a:rPr>
              <a:t>”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187280" y="6524280"/>
            <a:ext cx="640080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50000">
              <a:srgbClr val="75465e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02bc"/>
                </a:solidFill>
                <a:latin typeface="Arial Narrow"/>
              </a:rPr>
              <a:t>Композиция Алёши Коробейникова</a:t>
            </a:r>
            <a:br>
              <a:rPr sz="3200"/>
            </a:br>
            <a:r>
              <a:rPr b="1" i="1" lang="ru-RU" sz="3200" spc="-1" strike="noStrike">
                <a:solidFill>
                  <a:srgbClr val="2a02bc"/>
                </a:solidFill>
                <a:latin typeface="Arial Narrow"/>
              </a:rPr>
              <a:t>и мамы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72741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Слушаем звуки листопада и дожд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50000">
              <a:srgbClr val="75465e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a02bc"/>
                </a:solidFill>
                <a:latin typeface="Arial Narrow"/>
              </a:rPr>
              <a:t>Появление Снежной королевы из музыкальной шкатулк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8407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50000">
              <a:srgbClr val="75465e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a02bc"/>
                </a:solidFill>
                <a:latin typeface="Arial Narrow"/>
              </a:rPr>
              <a:t>Музыкальные </a:t>
            </a:r>
            <a:r>
              <a:rPr b="1" i="1" lang="en-US" sz="2800" spc="-1" strike="noStrike">
                <a:solidFill>
                  <a:srgbClr val="2a02bc"/>
                </a:solidFill>
                <a:latin typeface="Arial Narrow"/>
              </a:rPr>
              <a:t>“</a:t>
            </a:r>
            <a:r>
              <a:rPr b="1" i="1" lang="ru-RU" sz="2800" spc="-1" strike="noStrike">
                <a:solidFill>
                  <a:srgbClr val="2a02bc"/>
                </a:solidFill>
                <a:latin typeface="Arial Narrow"/>
              </a:rPr>
              <a:t>сосульки</a:t>
            </a:r>
            <a:r>
              <a:rPr b="1" i="1" lang="en-US" sz="2800" spc="-1" strike="noStrike">
                <a:solidFill>
                  <a:srgbClr val="2a02bc"/>
                </a:solidFill>
                <a:latin typeface="Arial Narrow"/>
              </a:rPr>
              <a:t>”-</a:t>
            </a:r>
            <a:r>
              <a:rPr b="1" i="1" lang="ru-RU" sz="2800" spc="-1" strike="noStrike">
                <a:solidFill>
                  <a:srgbClr val="2a02bc"/>
                </a:solidFill>
                <a:latin typeface="Arial Narrow"/>
              </a:rPr>
              <a:t>знакомство  с инструментами-заменителям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332000" y="1600200"/>
            <a:ext cx="67690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50000">
              <a:srgbClr val="75465e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a02bc"/>
                </a:solidFill>
                <a:latin typeface="Arial Narrow"/>
              </a:rPr>
              <a:t>Снежная королева слушает звуки…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62643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50000">
              <a:srgbClr val="75465e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a02bc"/>
                </a:solidFill>
                <a:latin typeface="Arial Narrow"/>
              </a:rPr>
              <a:t>Диалог инструментов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6247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50000">
              <a:srgbClr val="75465e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Умеем ли мы слушать друг друга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70581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50000">
              <a:srgbClr val="75465e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С бабушкой в игре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129800" cy="50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50000">
              <a:srgbClr val="75465e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a02bc"/>
                </a:solidFill>
                <a:latin typeface="Arial Narrow"/>
              </a:rPr>
              <a:t>Разговор трёх инструментов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8407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50000">
              <a:srgbClr val="75465e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a02bc"/>
                </a:solidFill>
                <a:latin typeface="Arial Narrow"/>
              </a:rPr>
              <a:t>Игра в оркестр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332000" y="1600200"/>
            <a:ext cx="66960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465e"/>
            </a:gs>
            <a:gs pos="50000">
              <a:srgbClr val="ff99cc"/>
            </a:gs>
            <a:gs pos="100000">
              <a:srgbClr val="75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02bc"/>
                </a:solidFill>
                <a:latin typeface="Arial Narrow"/>
              </a:rPr>
              <a:t>Игра в </a:t>
            </a:r>
            <a:r>
              <a:rPr b="1" i="1" lang="en-US" sz="3200" spc="-1" strike="noStrike">
                <a:solidFill>
                  <a:srgbClr val="2a02bc"/>
                </a:solidFill>
                <a:latin typeface="Arial Narrow"/>
              </a:rPr>
              <a:t>“</a:t>
            </a:r>
            <a:r>
              <a:rPr b="1" i="1" lang="ru-RU" sz="3200" spc="-1" strike="noStrike">
                <a:solidFill>
                  <a:srgbClr val="2a02bc"/>
                </a:solidFill>
                <a:latin typeface="Arial Narrow"/>
              </a:rPr>
              <a:t>скрипучки</a:t>
            </a:r>
            <a:r>
              <a:rPr b="1" i="1" lang="en-US" sz="3200" spc="-1" strike="noStrike">
                <a:solidFill>
                  <a:srgbClr val="2a02bc"/>
                </a:solidFill>
                <a:latin typeface="Arial Narrow"/>
              </a:rPr>
              <a:t>”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47640" y="1600200"/>
            <a:ext cx="676944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50000">
              <a:srgbClr val="75465e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a02bc"/>
                </a:solidFill>
                <a:latin typeface="Arial Narrow"/>
              </a:rPr>
              <a:t>C</a:t>
            </a:r>
            <a:r>
              <a:rPr b="1" i="1" lang="ru-RU" sz="3200" spc="-1" strike="noStrike">
                <a:solidFill>
                  <a:srgbClr val="2a02bc"/>
                </a:solidFill>
                <a:latin typeface="Arial Narrow"/>
              </a:rPr>
              <a:t>оединение цветов-</a:t>
            </a:r>
            <a:r>
              <a:rPr b="1" i="1" lang="en-US" sz="3200" spc="-1" strike="noStrike">
                <a:solidFill>
                  <a:srgbClr val="2a02bc"/>
                </a:solidFill>
                <a:latin typeface="Arial Narrow"/>
              </a:rPr>
              <a:t>”</a:t>
            </a:r>
            <a:r>
              <a:rPr b="1" i="1" lang="ru-RU" sz="3200" spc="-1" strike="noStrike">
                <a:solidFill>
                  <a:srgbClr val="2a02bc"/>
                </a:solidFill>
                <a:latin typeface="Arial Narrow"/>
              </a:rPr>
              <a:t>Волшебное море</a:t>
            </a:r>
            <a:r>
              <a:rPr b="1" i="1" lang="en-US" sz="3200" spc="-1" strike="noStrike">
                <a:solidFill>
                  <a:srgbClr val="2a02bc"/>
                </a:solidFill>
                <a:latin typeface="Arial Narrow"/>
              </a:rPr>
              <a:t>”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55344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Спонтанная импровизация </a:t>
            </a: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родителей. </a:t>
            </a: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Осень</a:t>
            </a: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”</a:t>
            </a: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1922400"/>
            <a:ext cx="712944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50000">
              <a:srgbClr val="75465e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a02bc"/>
                </a:solidFill>
                <a:latin typeface="Arial Narrow"/>
              </a:rPr>
              <a:t>Погружение в цвет и звук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9850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50000">
              <a:srgbClr val="75465e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a02bc"/>
                </a:solidFill>
                <a:latin typeface="Arial Narrow"/>
              </a:rPr>
              <a:t>Рисуем мир для Снежной королевы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50000">
              <a:srgbClr val="75465e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Выражение чувств кистью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697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50000">
              <a:srgbClr val="75465e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Коллективное творчество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6697800" cy="50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50000">
              <a:srgbClr val="75465e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-243000"/>
            <a:ext cx="85104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a02bc"/>
                </a:solidFill>
                <a:latin typeface="Arial Narrow"/>
              </a:rPr>
              <a:t>Мир Снежной королевы наполнился музыкой , новыми красками и добротой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70563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Совместное музыкальное занятие с родителям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332000" y="1600200"/>
            <a:ext cx="66247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есенка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етушок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55344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Масляна бородушка…шёлкова головушка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6261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етух пришёл с гостями…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547640" y="1600200"/>
            <a:ext cx="655344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Киска к деткам подошла…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65530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Времена года. </a:t>
            </a: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Лето</a:t>
            </a: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”</a:t>
            </a: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70581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Молочка просила…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63588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Большие ножки идут по дорожке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8407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 кто ещё к нам в гости пришёл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?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64087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Упражнение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Мягкие лапки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8407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Бобик пришёл !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70563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Ляг на коврик и не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лай !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971640" y="1600200"/>
            <a:ext cx="72723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Вот наш Бобик , славный пёс…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91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ай нам лапку , подружись…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697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Бобик устал…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4087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 танцевать мы будем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?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697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ремена года. </a:t>
            </a: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есна</a:t>
            </a: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”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91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Танец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й-да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050920" y="1600200"/>
            <a:ext cx="5257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Быстро ножки топочите…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40908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 где же ваши ручки…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481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й-да , нам без музыки нельзя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697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Где же ваши ручки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?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332000" y="1600200"/>
            <a:ext cx="65530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етушок поспит и на нас поглядит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7690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Песенка для Петушка(ксилофоны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6481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Игра на ксилофонах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697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Короткие и длинные звук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8407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Громко и тихо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6697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Оркестр</a:t>
            </a: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”</a:t>
            </a: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ключей</a:t>
            </a: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”</a:t>
            </a: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697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Дети играют самостоятельно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72010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Вот и получился у нас целый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”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оркестр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70563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Импровизация  родителей</a:t>
            </a: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сказка </a:t>
            </a: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Репка</a:t>
            </a: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”</a:t>
            </a: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913440" cy="453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09:08:39Z</dcterms:created>
  <dc:creator>VES</dc:creator>
  <dc:description/>
  <dc:language>en-US</dc:language>
  <cp:lastModifiedBy>Владимир</cp:lastModifiedBy>
  <dcterms:modified xsi:type="dcterms:W3CDTF">2013-10-12T19:46:30Z</dcterms:modified>
  <cp:revision>25</cp:revision>
  <dc:subject/>
  <dc:title>Осенние скульптуры</dc:title>
</cp:coreProperties>
</file>