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B8E-50ED-4525-8C50-677FD578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65D-C5A4-40A4-9D3D-E2C288AC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B87-B9F4-4A0D-890C-69168043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BC5-026B-4A69-82EE-16E31113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B29-593F-4BED-AB3F-21C7D51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37B-72E3-40F1-A79A-153EA9E4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DDE-D965-4DE9-AA81-E44DFC1A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A5E-5081-46BA-89F1-319B177D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576-312B-4D1C-9D3F-93F70B94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81E-2AA1-4953-BE6C-BAABB89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501-7639-4391-AF6B-6525DFAA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B29-8175-4868-A192-A1958878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D951-AC02-4621-8F94-CC77C877F4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лес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189000"/>
            <a:ext cx="896472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Проверь себ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Ходи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ть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, коси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ть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, нес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ти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, носи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ть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, стере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ть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, стере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чь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, грыз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ть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, пе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ть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, купа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ть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я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ae8499275c933f69e1be5a4cbfdf6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подосинови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217440" y="369720"/>
            <a:ext cx="86425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й л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кр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й л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Х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о и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реди ж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тых бер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красных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ок. Как сб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ч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у кр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ту? Вот начинают пада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 землю пёстрые лист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. На п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тевшей п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не можно увид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ледние гр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. В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 слыш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ся кр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ющих птиц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 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в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п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ет пуш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ыми хлоп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ми сн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нежный убор будет ярко бл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 со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29292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пень"/>
          <p:cNvPicPr/>
          <p:nvPr/>
        </p:nvPicPr>
        <p:blipFill>
          <a:blip r:embed="rId1"/>
          <a:srcRect l="0" t="6250" r="0" b="3752"/>
          <a:stretch/>
        </p:blipFill>
        <p:spPr>
          <a:xfrm>
            <a:off x="1116000" y="0"/>
            <a:ext cx="69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dc2300"/>
                </a:solidFill>
                <a:latin typeface="Times New Roman"/>
              </a:rPr>
              <a:t>Алгоритм рассказ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1.Название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2.Вопросы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3.Суффиксы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4.Член предложения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1"/>
          <p:cNvSpPr/>
          <p:nvPr/>
        </p:nvSpPr>
        <p:spPr>
          <a:xfrm>
            <a:off x="1979640" y="90792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0" y="0"/>
            <a:ext cx="91440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Глагол-это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. часть слова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Б. часть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. член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Глагол отвечает на вопросы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. кто?чт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Б. какой?какая?какое?как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. что делает?что сдела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Глагол обозначает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. предм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Б. действие предм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. признак предм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В предложении глагол чаще всего бывает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. сказуем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Б. подлежащ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. определ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33336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.Изменяется ли глагол по числа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А. 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Б.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В. не зна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.Изменяются ли глаголы по времена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А. 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Б.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В. не зна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.Изменяются ли глаголы по падежа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А. 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Б.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В. не зна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.Глаголы настоящего и будущего времени изменяются по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А. числам и лиц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Б. родам и числ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.Глаголы прошедшего времени изменяются по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А. числам и лиц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Б. родам и числ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18900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0000"/>
                </a:solidFill>
                <a:latin typeface="Times New Roman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.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2.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3.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4.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5.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6.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7.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8.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9.Б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осенние листья2"/>
          <p:cNvPicPr/>
          <p:nvPr/>
        </p:nvPicPr>
        <p:blipFill>
          <a:blip r:embed="rId1"/>
          <a:srcRect l="-348" t="0" r="0" b="79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осенние листья2"/>
          <p:cNvPicPr/>
          <p:nvPr/>
        </p:nvPicPr>
        <p:blipFill>
          <a:blip r:embed="rId1"/>
          <a:srcRect l="-348" t="0" r="0" b="79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0" y="476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[ПАЛ’ИВАТ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’И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Ч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[П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’ИТ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Т</a:t>
            </a: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[ПЛ’ИСТ’И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[Т’ИМН’ЭТ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[ПАЛСТ’И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40464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cc0000"/>
                </a:solidFill>
                <a:latin typeface="Times New Roman"/>
              </a:rPr>
              <a:t>Начальная форм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cc0000"/>
                </a:solidFill>
                <a:latin typeface="Times New Roman"/>
              </a:rPr>
              <a:t>Неопределённая форм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cc0000"/>
                </a:solidFill>
                <a:latin typeface="Times New Roman"/>
              </a:rPr>
              <a:t>Инфинитив-лат.</a:t>
            </a: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 «</a:t>
            </a:r>
            <a:r>
              <a:rPr b="1" lang="en-GB" sz="6600" spc="-1" strike="noStrike">
                <a:solidFill>
                  <a:srgbClr val="cc0000"/>
                </a:solidFill>
                <a:latin typeface="Times New Roman"/>
              </a:rPr>
              <a:t>неопределённый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2852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Н.ф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116000" y="191628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116000" y="371628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867280" y="1557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867280" y="2781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867280" y="407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ч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020000" y="134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020000" y="2349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исл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020000" y="35002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лиц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020000" y="4508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1692360" y="2852280"/>
            <a:ext cx="2158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169236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1692360" y="3429000"/>
            <a:ext cx="2158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1692360" y="342900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5292720" y="2421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5292720" y="3429000"/>
            <a:ext cx="719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6877080" y="1268280"/>
            <a:ext cx="2016000" cy="43214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1"/>
          <p:cNvSpPr/>
          <p:nvPr/>
        </p:nvSpPr>
        <p:spPr>
          <a:xfrm flipV="1">
            <a:off x="6877080" y="1268280"/>
            <a:ext cx="2016000" cy="43214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3"/>
          <p:cNvSpPr/>
          <p:nvPr/>
        </p:nvSpPr>
        <p:spPr>
          <a:xfrm>
            <a:off x="630072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5"/>
          <p:cNvSpPr/>
          <p:nvPr/>
        </p:nvSpPr>
        <p:spPr>
          <a:xfrm flipV="1">
            <a:off x="5832360" y="2889000"/>
            <a:ext cx="540000" cy="314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372360" y="2889360"/>
            <a:ext cx="495000" cy="314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7"/>
          <p:cNvSpPr/>
          <p:nvPr/>
        </p:nvSpPr>
        <p:spPr>
          <a:xfrm flipV="1">
            <a:off x="5832360" y="1672920"/>
            <a:ext cx="540000" cy="3157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8"/>
          <p:cNvSpPr/>
          <p:nvPr/>
        </p:nvSpPr>
        <p:spPr>
          <a:xfrm>
            <a:off x="6372360" y="1673280"/>
            <a:ext cx="449280" cy="3157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2"/>
          <p:cNvSpPr/>
          <p:nvPr/>
        </p:nvSpPr>
        <p:spPr>
          <a:xfrm rot="5400000">
            <a:off x="6304320" y="3901320"/>
            <a:ext cx="179640" cy="1035000"/>
          </a:xfrm>
          <a:custGeom>
            <a:avLst/>
            <a:gdLst>
              <a:gd name="textAreaLeft" fmla="*/ 52560 w 179640"/>
              <a:gd name="textAreaRight" fmla="*/ 180000 w 179640"/>
              <a:gd name="textAreaTop" fmla="*/ 113400 h 1035000"/>
              <a:gd name="textAreaBottom" fmla="*/ 921600 h 103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69"/>
                  <a:pt x="0" y="4737"/>
                </a:cubicBezTo>
                <a:lnTo>
                  <a:pt x="0" y="16863"/>
                </a:lnTo>
                <a:cubicBezTo>
                  <a:pt x="0" y="19232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1983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ЮША</cp:lastModifiedBy>
  <dcterms:modified xsi:type="dcterms:W3CDTF">2013-10-12T15:45:50Z</dcterms:modified>
  <cp:revision>31</cp:revision>
  <dc:subject/>
  <dc:title>PowerPoint Presentation</dc:title>
</cp:coreProperties>
</file>