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EBC-6027-4393-A059-21FB73C9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1A3-6A37-4793-AE7F-C1BDFE05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2A3-6FFB-4100-B322-A1AAFB3F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222-EC66-4F31-B9D6-7DD9C438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1628-7A20-4686-8A7D-A5E0B722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3259-7349-4E98-925D-745973C8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36FD-3E6D-4718-803E-B81C2AD4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7896-E57D-4766-BA76-9FA0D156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FDB0-1AB6-489B-B782-3E137D4A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6B84-1946-41A7-BB05-FD8FA566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8F46-CF18-4F4C-B6A4-4BC7E054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444-D11F-427A-9D3F-3099E0C4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5BBE-6ECE-43A4-B6ED-15307A6B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6FB6-D907-4AA0-927C-2A95A0FD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2AAB-E947-4972-B9C0-144F7D76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56E1-ECB5-43BD-9A12-87555146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6A6A-9FFC-4D1A-9FD0-77D868A6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C9B4C-793F-48A6-9116-EEC6F4B8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6030-A6CD-4544-904B-BAD90A40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11E83-DDE4-4C27-84B5-5842DF92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DDD22-4BEE-4DA5-8DF8-F21336DC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851E-57D9-4348-8201-87C3AED4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024-8D06-46BB-BCC9-BF8788AB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20B2A-EB6C-4ED8-B5EB-77B7FE44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5A48B-0E48-45BE-8D80-4E2E5F07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D4DF-E4FF-4045-9C0C-5641D3BF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A41FC-6B19-42BB-B742-CF950A6C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DF44-EA1E-4F39-8402-BDEA2868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6E8C2-556A-40FE-8A6D-9CA1D8E0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94223-4A68-4046-9A22-56A75356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581F5-40B9-4D44-B0A8-8EF08F4B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A9A76-348E-45A5-88B2-A8BE97C3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664EE-2696-4F4F-BCBD-4BAB8E69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446-CDA1-4044-AD45-F0EDF5BA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65BA3-2911-4873-A1F3-DC72FC97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7C386-162E-4A04-9AF7-37C3AE9D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16ED9-BCE5-4530-99EC-86BD2EC5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A2F91-7050-4768-A607-F766A3C8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B7E16-8899-4B07-88E7-CDE560BC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55238-F2DA-42FA-A9C5-20848914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CB1EE-5F7E-4740-A91A-D4E11312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B0AAC-213E-4BD0-84DD-D40ABB36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13545-02D9-4624-8866-F23D1157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A04-861D-480D-ACC9-BACED577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FAB-C394-4130-868D-82F71231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684-9F54-4057-9796-6F316D40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304-6FFE-4331-8FEF-CDC37C10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233-6BD2-4176-BD82-B38D638D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FDB9-55B6-4189-A091-AE4B3CE15AE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6FFE-978B-47C2-8338-F73E9D2E6B39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DB51-AE29-45A6-AC1D-664C8D82E02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E473-5AA1-475F-AF39-67957CA5F04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т\Desktop\для презентаций\Рисунок5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1258920" y="155736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лок- схема по теме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«Оксид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2556000" y="3933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нова Галина Владими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химии МБОУ «СОШ №4 с углубленным изучением отдельных предметов» г.Уси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Users\т\Desktop\для презентаций\Рисунок5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9" name="Oval 4"/>
          <p:cNvSpPr/>
          <p:nvPr/>
        </p:nvSpPr>
        <p:spPr>
          <a:xfrm>
            <a:off x="3492360" y="2781360"/>
            <a:ext cx="2016360" cy="10810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f3ca"/>
                </a:solidFill>
                <a:latin typeface="Monotype Corsiva"/>
              </a:rPr>
              <a:t>ОКС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 flipH="1">
            <a:off x="1331640" y="328464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0" y="2997360"/>
            <a:ext cx="1258920" cy="50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 flipH="1" flipV="1">
            <a:off x="1692360" y="691920"/>
            <a:ext cx="201600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0" y="260280"/>
            <a:ext cx="2050920" cy="4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асс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V="1">
            <a:off x="5219640" y="907560"/>
            <a:ext cx="201636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5508720" y="3284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6"/>
          <p:cNvSpPr/>
          <p:nvPr/>
        </p:nvSpPr>
        <p:spPr>
          <a:xfrm>
            <a:off x="7236000" y="2997360"/>
            <a:ext cx="176364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H="1">
            <a:off x="1331640" y="3645000"/>
            <a:ext cx="237636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9"/>
          <p:cNvSpPr/>
          <p:nvPr/>
        </p:nvSpPr>
        <p:spPr>
          <a:xfrm>
            <a:off x="179280" y="6021360"/>
            <a:ext cx="29527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1"/>
          <p:cNvSpPr/>
          <p:nvPr/>
        </p:nvSpPr>
        <p:spPr>
          <a:xfrm>
            <a:off x="5219640" y="3716280"/>
            <a:ext cx="223200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2"/>
          <p:cNvSpPr/>
          <p:nvPr/>
        </p:nvSpPr>
        <p:spPr>
          <a:xfrm>
            <a:off x="6227640" y="5950080"/>
            <a:ext cx="291636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1116000" y="285264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6"/>
          <p:cNvSpPr/>
          <p:nvPr/>
        </p:nvSpPr>
        <p:spPr>
          <a:xfrm>
            <a:off x="2476800" y="472356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1332000" y="2924280"/>
            <a:ext cx="2160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ЭхО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 оксид элемента (вал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8"/>
          <p:cNvSpPr/>
          <p:nvPr/>
        </p:nvSpPr>
        <p:spPr>
          <a:xfrm>
            <a:off x="2340000" y="1052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2268360" y="98100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2627280" y="141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фот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2987640" y="177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5"/>
          <p:cNvSpPr/>
          <p:nvPr/>
        </p:nvSpPr>
        <p:spPr>
          <a:xfrm>
            <a:off x="6300720" y="1844640"/>
            <a:ext cx="2592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зложение сложных вещест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6948360" y="1052640"/>
            <a:ext cx="20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ение простых и сложных веще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5940360" y="4149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ы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0"/>
          <p:cNvSpPr/>
          <p:nvPr/>
        </p:nvSpPr>
        <p:spPr>
          <a:xfrm>
            <a:off x="5651640" y="386064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мышл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2"/>
          <p:cNvSpPr/>
          <p:nvPr/>
        </p:nvSpPr>
        <p:spPr>
          <a:xfrm>
            <a:off x="5508720" y="3357720"/>
            <a:ext cx="194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зличного ц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4"/>
          <p:cNvSpPr/>
          <p:nvPr/>
        </p:nvSpPr>
        <p:spPr>
          <a:xfrm>
            <a:off x="5508720" y="2708280"/>
            <a:ext cx="194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вердые, жидкие, газообраз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8"/>
          <p:cNvSpPr/>
          <p:nvPr/>
        </p:nvSpPr>
        <p:spPr>
          <a:xfrm>
            <a:off x="2195640" y="436572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основ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9"/>
          <p:cNvSpPr/>
          <p:nvPr/>
        </p:nvSpPr>
        <p:spPr>
          <a:xfrm>
            <a:off x="1979640" y="4005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кисло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0"/>
          <p:cNvSpPr/>
          <p:nvPr/>
        </p:nvSpPr>
        <p:spPr>
          <a:xfrm>
            <a:off x="2484360" y="465300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во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2"/>
          <p:cNvSpPr/>
          <p:nvPr/>
        </p:nvSpPr>
        <p:spPr>
          <a:xfrm>
            <a:off x="2124000" y="5229360"/>
            <a:ext cx="29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нее летучие кислотные оксиды вытесняют более летучие из их со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4"/>
          <p:cNvSpPr/>
          <p:nvPr/>
        </p:nvSpPr>
        <p:spPr>
          <a:xfrm>
            <a:off x="2195640" y="4941720"/>
            <a:ext cx="30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уг с друг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8"/>
          <p:cNvSpPr/>
          <p:nvPr/>
        </p:nvSpPr>
        <p:spPr>
          <a:xfrm>
            <a:off x="6659640" y="472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6300720" y="4437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и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6264360" y="189000"/>
            <a:ext cx="2879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6"/>
          <p:cNvSpPr/>
          <p:nvPr/>
        </p:nvSpPr>
        <p:spPr>
          <a:xfrm>
            <a:off x="395280" y="1268280"/>
            <a:ext cx="180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олеобразующ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, CO,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7"/>
          <p:cNvSpPr/>
          <p:nvPr/>
        </p:nvSpPr>
        <p:spPr>
          <a:xfrm>
            <a:off x="1835280" y="76500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олеобразующ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TextBox 48" descr=""/>
          <p:cNvPicPr/>
          <p:nvPr/>
        </p:nvPicPr>
        <p:blipFill>
          <a:blip r:embed="rId2"/>
          <a:stretch/>
        </p:blipFill>
        <p:spPr>
          <a:xfrm>
            <a:off x="1352520" y="3492360"/>
            <a:ext cx="2212920" cy="20862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8"/>
          <p:cNvSpPr/>
          <p:nvPr/>
        </p:nvSpPr>
        <p:spPr>
          <a:xfrm>
            <a:off x="6804000" y="50133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троитель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трелка вверх 2"/>
          <p:cNvSpPr/>
          <p:nvPr/>
        </p:nvSpPr>
        <p:spPr>
          <a:xfrm>
            <a:off x="755640" y="620640"/>
            <a:ext cx="431640" cy="465120"/>
          </a:xfrm>
          <a:prstGeom prst="upArrow">
            <a:avLst>
              <a:gd name="adj1" fmla="val 50000"/>
              <a:gd name="adj2" fmla="val 5009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трелка вверх 41"/>
          <p:cNvSpPr/>
          <p:nvPr/>
        </p:nvSpPr>
        <p:spPr>
          <a:xfrm>
            <a:off x="7596360" y="620640"/>
            <a:ext cx="431640" cy="465120"/>
          </a:xfrm>
          <a:prstGeom prst="upArrow">
            <a:avLst>
              <a:gd name="adj1" fmla="val 50000"/>
              <a:gd name="adj2" fmla="val 5009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трелка вверх 42"/>
          <p:cNvSpPr/>
          <p:nvPr/>
        </p:nvSpPr>
        <p:spPr>
          <a:xfrm rot="10800000">
            <a:off x="715680" y="5834160"/>
            <a:ext cx="431640" cy="465120"/>
          </a:xfrm>
          <a:prstGeom prst="upArrow">
            <a:avLst>
              <a:gd name="adj1" fmla="val 43731"/>
              <a:gd name="adj2" fmla="val 5009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трелка вверх 44"/>
          <p:cNvSpPr/>
          <p:nvPr/>
        </p:nvSpPr>
        <p:spPr>
          <a:xfrm>
            <a:off x="395280" y="3357720"/>
            <a:ext cx="431640" cy="463320"/>
          </a:xfrm>
          <a:prstGeom prst="upArrow">
            <a:avLst>
              <a:gd name="adj1" fmla="val 50000"/>
              <a:gd name="adj2" fmla="val 498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5"/>
          <p:cNvSpPr/>
          <p:nvPr/>
        </p:nvSpPr>
        <p:spPr>
          <a:xfrm>
            <a:off x="611280" y="134136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приведенного перечня веществ выберите оксиды, дайте им наз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u(OH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gO, 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HCl, 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gC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468360" y="328464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( оксид алюминия)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SO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(оксид серы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VI))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MgO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(оксид магния)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N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(оксид азот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V))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Fe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(оксид железа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))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P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( оксид фосфора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Управляющая кнопка: возврат 31">
            <a:hlinkClick r:id="" action="ppaction://hlinkshowjump?jump=previousslide"/>
          </p:cNvPr>
          <p:cNvSpPr/>
          <p:nvPr/>
        </p:nvSpPr>
        <p:spPr>
          <a:xfrm>
            <a:off x="7380360" y="5516640"/>
            <a:ext cx="1008000" cy="5763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7493"/>
                </a:moveTo>
                <a:lnTo>
                  <a:pt x="15384" y="7493"/>
                </a:lnTo>
                <a:lnTo>
                  <a:pt x="15384" y="12828"/>
                </a:lnTo>
                <a:cubicBezTo>
                  <a:pt x="15384" y="13751"/>
                  <a:pt x="16185" y="14482"/>
                  <a:pt x="17221" y="14482"/>
                </a:cubicBezTo>
                <a:lnTo>
                  <a:pt x="18883" y="14482"/>
                </a:lnTo>
                <a:cubicBezTo>
                  <a:pt x="19919" y="14482"/>
                  <a:pt x="20720" y="13751"/>
                  <a:pt x="20720" y="12828"/>
                </a:cubicBezTo>
                <a:lnTo>
                  <a:pt x="20720" y="7493"/>
                </a:lnTo>
                <a:lnTo>
                  <a:pt x="18883" y="7493"/>
                </a:lnTo>
                <a:lnTo>
                  <a:pt x="22391" y="3985"/>
                </a:lnTo>
                <a:lnTo>
                  <a:pt x="26064" y="7493"/>
                </a:lnTo>
                <a:lnTo>
                  <a:pt x="24227" y="7493"/>
                </a:lnTo>
                <a:lnTo>
                  <a:pt x="24227" y="12828"/>
                </a:lnTo>
                <a:cubicBezTo>
                  <a:pt x="24227" y="15596"/>
                  <a:pt x="21651" y="18155"/>
                  <a:pt x="18883" y="18155"/>
                </a:cubicBezTo>
                <a:lnTo>
                  <a:pt x="17221" y="18155"/>
                </a:lnTo>
                <a:cubicBezTo>
                  <a:pt x="14453" y="18155"/>
                  <a:pt x="11877" y="15596"/>
                  <a:pt x="11877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324000" y="112536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классифицируйте окси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O, 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eO, Mn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aO, MnO, Be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, 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250920" y="2852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6012000" y="2852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исл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2916360" y="2852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Амфоте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250920" y="350028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uO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FeO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BaO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MnO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K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637236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n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 CO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3419640" y="35002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Al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 BeO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 MnO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Управляющая кнопка: возврат 9">
            <a:hlinkClick r:id="" action="ppaction://hlinkshowjump?jump=previousslide"/>
          </p:cNvPr>
          <p:cNvSpPr/>
          <p:nvPr/>
        </p:nvSpPr>
        <p:spPr>
          <a:xfrm>
            <a:off x="7596360" y="5950080"/>
            <a:ext cx="1223640" cy="647640"/>
          </a:xfrm>
          <a:custGeom>
            <a:avLst/>
            <a:gdLst>
              <a:gd name="textAreaLeft" fmla="*/ 41760 w 1223640"/>
              <a:gd name="textAreaRight" fmla="*/ 1181880 w 122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0800" h="21600">
                <a:moveTo>
                  <a:pt x="0" y="0"/>
                </a:moveTo>
                <a:lnTo>
                  <a:pt x="40800" y="0"/>
                </a:lnTo>
                <a:lnTo>
                  <a:pt x="40800" y="21600"/>
                </a:lnTo>
                <a:lnTo>
                  <a:pt x="0" y="21600"/>
                </a:lnTo>
                <a:close/>
              </a:path>
              <a:path fill="lightenLess" w="40800" h="21600">
                <a:moveTo>
                  <a:pt x="0" y="0"/>
                </a:moveTo>
                <a:lnTo>
                  <a:pt x="40800" y="0"/>
                </a:lnTo>
                <a:lnTo>
                  <a:pt x="39400" y="1400"/>
                </a:lnTo>
                <a:lnTo>
                  <a:pt x="1400" y="1400"/>
                </a:lnTo>
                <a:close/>
              </a:path>
              <a:path fill="darken" w="40800" h="21600">
                <a:moveTo>
                  <a:pt x="40800" y="0"/>
                </a:moveTo>
                <a:lnTo>
                  <a:pt x="40800" y="21600"/>
                </a:lnTo>
                <a:lnTo>
                  <a:pt x="39400" y="20200"/>
                </a:lnTo>
                <a:lnTo>
                  <a:pt x="39400" y="1400"/>
                </a:lnTo>
                <a:close/>
              </a:path>
              <a:path fill="darkenLess" w="40800" h="21600">
                <a:moveTo>
                  <a:pt x="40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0" y="20200"/>
                </a:lnTo>
                <a:close/>
              </a:path>
              <a:path fill="lighten" w="40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00" h="21600">
                <a:moveTo>
                  <a:pt x="13394" y="7493"/>
                </a:moveTo>
                <a:lnTo>
                  <a:pt x="16901" y="7493"/>
                </a:lnTo>
                <a:lnTo>
                  <a:pt x="16901" y="12828"/>
                </a:lnTo>
                <a:cubicBezTo>
                  <a:pt x="16901" y="13751"/>
                  <a:pt x="17702" y="14482"/>
                  <a:pt x="18738" y="14482"/>
                </a:cubicBezTo>
                <a:lnTo>
                  <a:pt x="20400" y="14482"/>
                </a:lnTo>
                <a:cubicBezTo>
                  <a:pt x="21436" y="14482"/>
                  <a:pt x="22236" y="13751"/>
                  <a:pt x="22236" y="12828"/>
                </a:cubicBezTo>
                <a:lnTo>
                  <a:pt x="22236" y="7493"/>
                </a:lnTo>
                <a:lnTo>
                  <a:pt x="20400" y="7493"/>
                </a:lnTo>
                <a:lnTo>
                  <a:pt x="23908" y="3985"/>
                </a:lnTo>
                <a:lnTo>
                  <a:pt x="27581" y="7493"/>
                </a:lnTo>
                <a:lnTo>
                  <a:pt x="25744" y="7493"/>
                </a:lnTo>
                <a:lnTo>
                  <a:pt x="25744" y="12828"/>
                </a:lnTo>
                <a:cubicBezTo>
                  <a:pt x="25744" y="15596"/>
                  <a:pt x="23168" y="18155"/>
                  <a:pt x="20400" y="18155"/>
                </a:cubicBezTo>
                <a:lnTo>
                  <a:pt x="18738" y="18155"/>
                </a:lnTo>
                <a:cubicBezTo>
                  <a:pt x="15970" y="18155"/>
                  <a:pt x="13394" y="15596"/>
                  <a:pt x="13394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324000" y="105264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Допишите  уравне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кций получения окси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684360" y="1844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 +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Прямая со стрелкой 4"/>
          <p:cNvCxnSpPr/>
          <p:nvPr/>
        </p:nvCxnSpPr>
        <p:spPr>
          <a:xfrm>
            <a:off x="2410920" y="2133360"/>
            <a:ext cx="36108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4" name="TextBox 5"/>
          <p:cNvSpPr/>
          <p:nvPr/>
        </p:nvSpPr>
        <p:spPr>
          <a:xfrm>
            <a:off x="826920" y="2492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   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Прямая со стрелкой 7"/>
          <p:cNvCxnSpPr/>
          <p:nvPr/>
        </p:nvCxnSpPr>
        <p:spPr>
          <a:xfrm>
            <a:off x="2555640" y="2707920"/>
            <a:ext cx="43236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6" name="TextBox 8"/>
          <p:cNvSpPr/>
          <p:nvPr/>
        </p:nvSpPr>
        <p:spPr>
          <a:xfrm>
            <a:off x="684360" y="3141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+    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Прямая со стрелкой 10"/>
          <p:cNvCxnSpPr/>
          <p:nvPr/>
        </p:nvCxnSpPr>
        <p:spPr>
          <a:xfrm>
            <a:off x="2484360" y="3357360"/>
            <a:ext cx="50400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8" name="TextBox 11"/>
          <p:cNvSpPr/>
          <p:nvPr/>
        </p:nvSpPr>
        <p:spPr>
          <a:xfrm>
            <a:off x="826920" y="3860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+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Прямая со стрелкой 13"/>
          <p:cNvCxnSpPr/>
          <p:nvPr/>
        </p:nvCxnSpPr>
        <p:spPr>
          <a:xfrm>
            <a:off x="2050560" y="4076280"/>
            <a:ext cx="36108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60" name="TextBox 14"/>
          <p:cNvSpPr/>
          <p:nvPr/>
        </p:nvSpPr>
        <p:spPr>
          <a:xfrm>
            <a:off x="826920" y="4508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Прямая со стрелкой 16"/>
          <p:cNvCxnSpPr/>
          <p:nvPr/>
        </p:nvCxnSpPr>
        <p:spPr>
          <a:xfrm>
            <a:off x="2340000" y="4723920"/>
            <a:ext cx="50400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62" name="TextBox 18"/>
          <p:cNvSpPr/>
          <p:nvPr/>
        </p:nvSpPr>
        <p:spPr>
          <a:xfrm>
            <a:off x="826920" y="5229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Прямая со стрелкой 20"/>
          <p:cNvCxnSpPr/>
          <p:nvPr/>
        </p:nvCxnSpPr>
        <p:spPr>
          <a:xfrm>
            <a:off x="2195280" y="5445000"/>
            <a:ext cx="432360" cy="15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64" name="TextBox 22"/>
          <p:cNvSpPr/>
          <p:nvPr/>
        </p:nvSpPr>
        <p:spPr>
          <a:xfrm>
            <a:off x="3780000" y="191628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4"/>
          <p:cNvSpPr/>
          <p:nvPr/>
        </p:nvSpPr>
        <p:spPr>
          <a:xfrm>
            <a:off x="320364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O + S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5"/>
          <p:cNvSpPr/>
          <p:nvPr/>
        </p:nvSpPr>
        <p:spPr>
          <a:xfrm>
            <a:off x="3780000" y="2492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6"/>
          <p:cNvSpPr/>
          <p:nvPr/>
        </p:nvSpPr>
        <p:spPr>
          <a:xfrm>
            <a:off x="3348000" y="450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7"/>
          <p:cNvSpPr/>
          <p:nvPr/>
        </p:nvSpPr>
        <p:spPr>
          <a:xfrm>
            <a:off x="3059280" y="3789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8"/>
          <p:cNvSpPr/>
          <p:nvPr/>
        </p:nvSpPr>
        <p:spPr>
          <a:xfrm>
            <a:off x="3419640" y="3068640"/>
            <a:ext cx="230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O+   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9"/>
          <p:cNvSpPr/>
          <p:nvPr/>
        </p:nvSpPr>
        <p:spPr>
          <a:xfrm>
            <a:off x="3564000" y="1916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2"/>
          <p:cNvSpPr/>
          <p:nvPr/>
        </p:nvSpPr>
        <p:spPr>
          <a:xfrm>
            <a:off x="4500720" y="249228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3"/>
          <p:cNvSpPr/>
          <p:nvPr/>
        </p:nvSpPr>
        <p:spPr>
          <a:xfrm>
            <a:off x="1619280" y="2492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4"/>
          <p:cNvSpPr/>
          <p:nvPr/>
        </p:nvSpPr>
        <p:spPr>
          <a:xfrm>
            <a:off x="1547640" y="31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5"/>
          <p:cNvSpPr/>
          <p:nvPr/>
        </p:nvSpPr>
        <p:spPr>
          <a:xfrm>
            <a:off x="395280" y="184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6"/>
          <p:cNvSpPr/>
          <p:nvPr/>
        </p:nvSpPr>
        <p:spPr>
          <a:xfrm flipH="1">
            <a:off x="4284720" y="3068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37"/>
          <p:cNvSpPr/>
          <p:nvPr/>
        </p:nvSpPr>
        <p:spPr>
          <a:xfrm>
            <a:off x="468360" y="3141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8"/>
          <p:cNvSpPr/>
          <p:nvPr/>
        </p:nvSpPr>
        <p:spPr>
          <a:xfrm>
            <a:off x="3059280" y="306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9"/>
          <p:cNvSpPr/>
          <p:nvPr/>
        </p:nvSpPr>
        <p:spPr>
          <a:xfrm>
            <a:off x="4284720" y="4508640"/>
            <a:ext cx="35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0"/>
          <p:cNvSpPr/>
          <p:nvPr/>
        </p:nvSpPr>
        <p:spPr>
          <a:xfrm>
            <a:off x="468360" y="4508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Управляющая кнопка: возврат 43">
            <a:hlinkClick r:id="" action="ppaction://hlinkshowjump?jump=previousslide"/>
          </p:cNvPr>
          <p:cNvSpPr/>
          <p:nvPr/>
        </p:nvSpPr>
        <p:spPr>
          <a:xfrm>
            <a:off x="7740720" y="5877000"/>
            <a:ext cx="1152360" cy="576360"/>
          </a:xfrm>
          <a:custGeom>
            <a:avLst/>
            <a:gdLst>
              <a:gd name="textAreaLeft" fmla="*/ 37080 w 1152360"/>
              <a:gd name="textAreaRight" fmla="*/ 1115280 w 115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7493"/>
                </a:moveTo>
                <a:lnTo>
                  <a:pt x="18088" y="7493"/>
                </a:lnTo>
                <a:lnTo>
                  <a:pt x="18088" y="12828"/>
                </a:lnTo>
                <a:cubicBezTo>
                  <a:pt x="18088" y="13751"/>
                  <a:pt x="18888" y="14482"/>
                  <a:pt x="19924" y="14482"/>
                </a:cubicBezTo>
                <a:lnTo>
                  <a:pt x="21587" y="14482"/>
                </a:lnTo>
                <a:cubicBezTo>
                  <a:pt x="22622" y="14482"/>
                  <a:pt x="23423" y="13751"/>
                  <a:pt x="23423" y="12828"/>
                </a:cubicBezTo>
                <a:lnTo>
                  <a:pt x="23423" y="7493"/>
                </a:lnTo>
                <a:lnTo>
                  <a:pt x="21587" y="7493"/>
                </a:lnTo>
                <a:lnTo>
                  <a:pt x="25094" y="3985"/>
                </a:lnTo>
                <a:lnTo>
                  <a:pt x="28767" y="7493"/>
                </a:lnTo>
                <a:lnTo>
                  <a:pt x="26931" y="7493"/>
                </a:lnTo>
                <a:lnTo>
                  <a:pt x="26931" y="12828"/>
                </a:lnTo>
                <a:cubicBezTo>
                  <a:pt x="26931" y="15596"/>
                  <a:pt x="24354" y="18155"/>
                  <a:pt x="21587" y="18155"/>
                </a:cubicBezTo>
                <a:lnTo>
                  <a:pt x="19924" y="18155"/>
                </a:lnTo>
                <a:cubicBezTo>
                  <a:pt x="17156" y="18155"/>
                  <a:pt x="14580" y="15596"/>
                  <a:pt x="14580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1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1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3" dur="1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7" dur="1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1" dur="1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5" dur="1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86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611280" y="7650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несите левые и правые части уравнений реак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468360" y="1628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O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468360" y="21337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 H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395280" y="2781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nO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SO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468360" y="342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(OH)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468360" y="407664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nO +H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539640" y="4724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+ H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4356000" y="162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9"/>
          <p:cNvSpPr/>
          <p:nvPr/>
        </p:nvSpPr>
        <p:spPr>
          <a:xfrm>
            <a:off x="4356000" y="2205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500720" y="292428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 +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4356000" y="3429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4284720" y="4149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4356000" y="4724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Прямая со стрелкой 14"/>
          <p:cNvCxnSpPr/>
          <p:nvPr/>
        </p:nvCxnSpPr>
        <p:spPr>
          <a:xfrm>
            <a:off x="2050920" y="1844640"/>
            <a:ext cx="2377440" cy="50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95" name="Прямая со стрелкой 16"/>
          <p:cNvCxnSpPr/>
          <p:nvPr/>
        </p:nvCxnSpPr>
        <p:spPr>
          <a:xfrm flipV="1">
            <a:off x="2195640" y="1915920"/>
            <a:ext cx="2232720" cy="3024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96" name="Прямая со стрелкой 18"/>
          <p:cNvCxnSpPr/>
          <p:nvPr/>
        </p:nvCxnSpPr>
        <p:spPr>
          <a:xfrm flipV="1">
            <a:off x="2123640" y="3212640"/>
            <a:ext cx="2304360" cy="1008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97" name="Прямая со стрелкой 20"/>
          <p:cNvCxnSpPr>
            <a:endCxn id="291" idx="1"/>
          </p:cNvCxnSpPr>
          <p:nvPr/>
        </p:nvCxnSpPr>
        <p:spPr>
          <a:xfrm>
            <a:off x="1908000" y="2349000"/>
            <a:ext cx="2448720" cy="1280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98" name="Прямая со стрелкой 22"/>
          <p:cNvCxnSpPr>
            <a:endCxn id="292" idx="1"/>
          </p:cNvCxnSpPr>
          <p:nvPr/>
        </p:nvCxnSpPr>
        <p:spPr>
          <a:xfrm>
            <a:off x="2411280" y="3645000"/>
            <a:ext cx="1874160" cy="705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99" name="Прямая со стрелкой 24"/>
          <p:cNvCxnSpPr/>
          <p:nvPr/>
        </p:nvCxnSpPr>
        <p:spPr>
          <a:xfrm>
            <a:off x="2411280" y="2997360"/>
            <a:ext cx="1874160" cy="1800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00" name="Управляющая кнопка: возврат 27">
            <a:hlinkClick r:id="" action="ppaction://hlinkshowjump?jump=previousslide"/>
          </p:cNvPr>
          <p:cNvSpPr/>
          <p:nvPr/>
        </p:nvSpPr>
        <p:spPr>
          <a:xfrm>
            <a:off x="7164360" y="5805360"/>
            <a:ext cx="1224000" cy="57636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5856" h="21600">
                <a:moveTo>
                  <a:pt x="0" y="0"/>
                </a:moveTo>
                <a:lnTo>
                  <a:pt x="45856" y="0"/>
                </a:lnTo>
                <a:lnTo>
                  <a:pt x="45856" y="21600"/>
                </a:lnTo>
                <a:lnTo>
                  <a:pt x="0" y="21600"/>
                </a:lnTo>
                <a:close/>
              </a:path>
              <a:path fill="lightenLess" w="45856" h="21600">
                <a:moveTo>
                  <a:pt x="0" y="0"/>
                </a:moveTo>
                <a:lnTo>
                  <a:pt x="45856" y="0"/>
                </a:lnTo>
                <a:lnTo>
                  <a:pt x="44456" y="1400"/>
                </a:lnTo>
                <a:lnTo>
                  <a:pt x="1400" y="1400"/>
                </a:lnTo>
                <a:close/>
              </a:path>
              <a:path fill="darken" w="45856" h="21600">
                <a:moveTo>
                  <a:pt x="45856" y="0"/>
                </a:moveTo>
                <a:lnTo>
                  <a:pt x="45856" y="21600"/>
                </a:lnTo>
                <a:lnTo>
                  <a:pt x="44456" y="20200"/>
                </a:lnTo>
                <a:lnTo>
                  <a:pt x="44456" y="1400"/>
                </a:lnTo>
                <a:close/>
              </a:path>
              <a:path fill="darkenLess" w="45856" h="21600">
                <a:moveTo>
                  <a:pt x="458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56" y="20200"/>
                </a:lnTo>
                <a:close/>
              </a:path>
              <a:path fill="lighten" w="458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56" h="21600">
                <a:moveTo>
                  <a:pt x="15922" y="7493"/>
                </a:moveTo>
                <a:lnTo>
                  <a:pt x="19429" y="7493"/>
                </a:lnTo>
                <a:lnTo>
                  <a:pt x="19429" y="12828"/>
                </a:lnTo>
                <a:cubicBezTo>
                  <a:pt x="19429" y="13751"/>
                  <a:pt x="20230" y="14482"/>
                  <a:pt x="21266" y="14482"/>
                </a:cubicBezTo>
                <a:lnTo>
                  <a:pt x="22928" y="14482"/>
                </a:lnTo>
                <a:cubicBezTo>
                  <a:pt x="23964" y="14482"/>
                  <a:pt x="24765" y="13751"/>
                  <a:pt x="24765" y="12828"/>
                </a:cubicBezTo>
                <a:lnTo>
                  <a:pt x="24765" y="7493"/>
                </a:lnTo>
                <a:lnTo>
                  <a:pt x="22928" y="7493"/>
                </a:lnTo>
                <a:lnTo>
                  <a:pt x="26436" y="3985"/>
                </a:lnTo>
                <a:lnTo>
                  <a:pt x="30109" y="7493"/>
                </a:lnTo>
                <a:lnTo>
                  <a:pt x="28272" y="7493"/>
                </a:lnTo>
                <a:lnTo>
                  <a:pt x="28272" y="12828"/>
                </a:lnTo>
                <a:cubicBezTo>
                  <a:pt x="28272" y="15596"/>
                  <a:pt x="25696" y="18155"/>
                  <a:pt x="22928" y="18155"/>
                </a:cubicBezTo>
                <a:lnTo>
                  <a:pt x="21266" y="18155"/>
                </a:lnTo>
                <a:cubicBezTo>
                  <a:pt x="18498" y="18155"/>
                  <a:pt x="15922" y="15596"/>
                  <a:pt x="1592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9:54:33Z</dcterms:created>
  <dc:creator>Admin</dc:creator>
  <dc:description/>
  <dc:language>en-US</dc:language>
  <cp:lastModifiedBy>т</cp:lastModifiedBy>
  <dcterms:modified xsi:type="dcterms:W3CDTF">2013-10-08T18:54:36Z</dcterms:modified>
  <cp:revision>39</cp:revision>
  <dc:subject/>
  <dc:title>Слайд 1</dc:title>
</cp:coreProperties>
</file>