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37F-47FF-4729-8A06-D2B75A68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6A8-EC49-48FF-8F14-E4625145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66E-59D6-46FD-A9CA-88AEF567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7FAB-1D13-4301-ADFB-87487E81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C07B-2E08-4990-845D-386074D8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97F4-EFF4-43BD-88D8-2AE75184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0307-A5F0-42F4-8F7E-4BC49679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AC86-264B-438E-99DF-F45919D3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AB52-0ACD-4A76-86F5-B53F3A7B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49E3-4844-4421-A01E-503FF3C9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1F8D-91EE-47F9-B9C6-BB3409ED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AEB-1B44-402E-B18C-BFDEAE5D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BF89-0C31-4D7B-837F-0FC40557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15F3-67A0-4006-B8A9-5FD30BA1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9FD0-5992-4ACB-AA99-4E324903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8000-0057-48A9-B83E-300B0CB7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8DA3-D349-4C79-A855-A88BCB90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201-141B-448D-A2CD-827DA809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DF5-9E83-4D5A-8DE8-25EF025D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3F5-5535-4A2E-9FDE-10825BA8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87F-3BB5-4248-B389-3DBF7E4E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92D-B5B9-4C5D-8CA2-900C2965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966-58D3-4E8D-87EF-44A41BB3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EDA-3BD3-4AD2-B1E6-7FA6AC89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AEA2-6270-482A-B9F5-5B80F60848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90B8-63F1-4536-A5E3-B3B7F71895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52.radikal.ru/i135/0901/53/9685620dd96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upload.wikimedia.org/wikipedia/commons/b/b1/Datura_stramonium_2000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c/Hyoscyamus_niger2_W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3.rybalka.com/userfiles/upload/1165/1229684007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open.az/uploads/posts/2009-09/1253897926_40627814_img09231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2/2006-10-18Aconitum0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1/Dictamnus_albus_230504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Картинка 7 из 9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587680"/>
            <a:ext cx="5867640" cy="4270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32024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Опасные растения </a:t>
            </a:r>
            <a:br>
              <a:rPr sz="4800"/>
            </a:b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Подмосковья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андыш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426708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о всё раст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зывает поражение сердечно-сосудистой системы и одновременно действует на желудочно-кишечный тракт и центральную нервную систему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9" descr="Файл:Land05.jpg"/>
          <p:cNvPicPr/>
          <p:nvPr/>
        </p:nvPicPr>
        <p:blipFill>
          <a:blip r:embed="rId1"/>
          <a:stretch/>
        </p:blipFill>
        <p:spPr>
          <a:xfrm>
            <a:off x="1676520" y="1828800"/>
            <a:ext cx="309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орщевик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4035600" cy="35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о все раст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зывает раздражение и сильные ожог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7" descr="Cow_Parsnip"/>
          <p:cNvPicPr/>
          <p:nvPr/>
        </p:nvPicPr>
        <p:blipFill>
          <a:blip r:embed="rId1"/>
          <a:stretch/>
        </p:blipFill>
        <p:spPr>
          <a:xfrm>
            <a:off x="5105520" y="1752480"/>
            <a:ext cx="357984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Будьте внимательны!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Не рвите растения!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7" descr="Картинка 9 из 8730"/>
          <p:cNvPicPr/>
          <p:nvPr/>
        </p:nvPicPr>
        <p:blipFill>
          <a:blip r:embed="rId1"/>
          <a:stretch/>
        </p:blipFill>
        <p:spPr>
          <a:xfrm>
            <a:off x="3962520" y="3276720"/>
            <a:ext cx="1693800" cy="27432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8"/>
          <p:cNvSpPr/>
          <p:nvPr/>
        </p:nvSpPr>
        <p:spPr>
          <a:xfrm>
            <a:off x="2895480" y="2743200"/>
            <a:ext cx="3733920" cy="3733920"/>
          </a:xfrm>
          <a:prstGeom prst="pi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301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ёх ядовитый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(кошачья петрушка, собачий дягиль, свиная вошь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4343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о всё растение, но особенно корневище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варна своим приятным морковным запахом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зывает тяжелое пищевое отравление вплоть до смер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275px-Cicuta_virosa"/>
          <p:cNvPicPr/>
          <p:nvPr/>
        </p:nvPicPr>
        <p:blipFill>
          <a:blip r:embed="rId1"/>
          <a:stretch/>
        </p:blipFill>
        <p:spPr>
          <a:xfrm>
            <a:off x="609480" y="2133720"/>
            <a:ext cx="44960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урман обыкновенны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4035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о все раст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аще всего встречаются случаи отравления семенами дурман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8" descr="220px-Thorn-apple"/>
          <p:cNvPicPr/>
          <p:nvPr/>
        </p:nvPicPr>
        <p:blipFill>
          <a:blip r:embed="rId1"/>
          <a:stretch/>
        </p:blipFill>
        <p:spPr>
          <a:xfrm>
            <a:off x="5181480" y="4191120"/>
            <a:ext cx="3467160" cy="236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Файл:Datura stramonium 200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1770120"/>
            <a:ext cx="342900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елен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1600" y="182880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8840" y="22093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о все раст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трицательно влияет на нервную систем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и попадании большого количества яда – смерть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8" descr="Файл:Hyoscyamus niger2 W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752480"/>
            <a:ext cx="3614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лчье лык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827000"/>
            <a:ext cx="42642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ы сок и плоды раст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ок вызывает образование ран, язв, раздражение слизистой оболочк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лоды могут вызвать смертельное отравл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9" descr="Картинка 1 из 6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676520"/>
            <a:ext cx="3504960" cy="2838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Картинка 9 из 69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191120"/>
            <a:ext cx="35049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Борец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аконит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71600" y="182880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2514240"/>
            <a:ext cx="4190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ы корень, листья и цветк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зывает воспаление и отравл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7" descr="Файл:2006-10-18Aconitum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752480"/>
            <a:ext cx="3589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Ясенец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4111920" cy="37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ы листья и семена в период созрева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зывает ожоги до 2-й степен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7" descr="Файл:Dictamnus albus 230504.jpg">
            <a:hlinkClick r:id="rId1"/>
          </p:cNvPr>
          <p:cNvPicPr/>
          <p:nvPr/>
        </p:nvPicPr>
        <p:blipFill>
          <a:blip r:embed="rId2"/>
          <a:srcRect l="0" t="4740" r="0" b="14221"/>
          <a:stretch/>
        </p:blipFill>
        <p:spPr>
          <a:xfrm>
            <a:off x="5562720" y="1752480"/>
            <a:ext cx="2819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расавка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белладонна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2362320"/>
            <a:ext cx="4267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о все раст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зывает отравление и сильное возбуждение, доходящее до бешенств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8" descr="Файл:Atropa belladonna 030705.jpg"/>
          <p:cNvPicPr/>
          <p:nvPr/>
        </p:nvPicPr>
        <p:blipFill>
          <a:blip r:embed="rId1"/>
          <a:stretch/>
        </p:blipFill>
        <p:spPr>
          <a:xfrm>
            <a:off x="1650960" y="1828800"/>
            <a:ext cx="332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роний глаз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411192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довито все растение, особенно корневище и ягод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зывает сильное отравл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7" descr="Картинка 1 из 113"/>
          <p:cNvPicPr/>
          <p:nvPr/>
        </p:nvPicPr>
        <p:blipFill>
          <a:blip r:embed="rId1"/>
          <a:stretch/>
        </p:blipFill>
        <p:spPr>
          <a:xfrm>
            <a:off x="5105520" y="1828800"/>
            <a:ext cx="3200400" cy="2179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Картинка 2 из 113"/>
          <p:cNvPicPr/>
          <p:nvPr/>
        </p:nvPicPr>
        <p:blipFill>
          <a:blip r:embed="rId2"/>
          <a:stretch/>
        </p:blipFill>
        <p:spPr>
          <a:xfrm>
            <a:off x="5105520" y="3962520"/>
            <a:ext cx="32004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9:31:08Z</dcterms:created>
  <dc:creator>Лиличка</dc:creator>
  <dc:description/>
  <dc:language>en-US</dc:language>
  <cp:lastModifiedBy>Алексей</cp:lastModifiedBy>
  <dcterms:modified xsi:type="dcterms:W3CDTF">2011-06-02T18:26:5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