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47E-69C0-420B-99C7-A35EE812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427-B486-4FD1-B389-FD421881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EC5-8B37-45F3-9AA2-2435A5E8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6AF-42F5-4576-B635-BE6E22C2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EEF9-1E4C-475B-9F80-59309FFC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6B3B-81EC-4A01-BD1D-BACC4A5D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60AA-D395-438D-90EE-0A622339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D753-9A2F-45D9-AF7C-236E56D0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EAA7-31AA-408C-A418-E769E140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84E0-6531-46C6-86D0-063340C7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E238-26F7-48C5-B05C-DAF03587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83D-08AA-4989-901C-46AB2A80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4D12-83FC-49F2-9A0D-B28F19A3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5331-8E2B-4C7C-AD31-712ADB8F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EE55-2040-456E-8EF6-897D29B5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50F9-0EA6-4E6B-9F43-D371A3A2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E6EE-683A-488F-8A6B-9D7A6533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82E-0B62-49EA-AEB5-56B10D04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E4F-A225-4B18-B8E1-B498CC91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10C-5AC9-49AC-8881-13C50563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62F-7239-4A99-BFDE-1C81C625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968-C00B-47DB-8D88-9F084E65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178-6EF3-4FA3-948E-46A89870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B6E-ABF0-45DE-8926-AAFBFA86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3FAE-672E-4F3E-8F61-FC9809DFC7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A568-6FBB-4480-8BCE-2BE3B85508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52.radikal.ru/i135/0901/53/9685620dd96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upload.wikimedia.org/wikipedia/commons/b/b1/Datura_stramonium_2000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c/Hyoscyamus_niger2_W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3.rybalka.com/userfiles/upload/1165/1229684007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open.az/uploads/posts/2009-09/1253897926_40627814_img09231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2/2006-10-18Aconitum0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1/Dictamnus_albus_230504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Картинка 7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587680"/>
            <a:ext cx="5867640" cy="4270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32024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Опасные растения </a:t>
            </a:r>
            <a:br>
              <a:rPr sz="4800"/>
            </a:b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Подмосковья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андыш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426708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о всё раст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зывает поражение сердечно-сосудистой системы и одновременно действует на желудочно-кишечный тракт и центральную нервную систему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9" descr="Файл:Land05.jpg"/>
          <p:cNvPicPr/>
          <p:nvPr/>
        </p:nvPicPr>
        <p:blipFill>
          <a:blip r:embed="rId1"/>
          <a:stretch/>
        </p:blipFill>
        <p:spPr>
          <a:xfrm>
            <a:off x="1676520" y="1828800"/>
            <a:ext cx="309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орщевик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4035600" cy="35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о все раст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зывает раздражение и сильные ожог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7" descr="Cow_Parsnip"/>
          <p:cNvPicPr/>
          <p:nvPr/>
        </p:nvPicPr>
        <p:blipFill>
          <a:blip r:embed="rId1"/>
          <a:stretch/>
        </p:blipFill>
        <p:spPr>
          <a:xfrm>
            <a:off x="5105520" y="1752480"/>
            <a:ext cx="35798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Будьте внимательны!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Не рвите растения!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7" descr="Картинка 9 из 8730"/>
          <p:cNvPicPr/>
          <p:nvPr/>
        </p:nvPicPr>
        <p:blipFill>
          <a:blip r:embed="rId1"/>
          <a:stretch/>
        </p:blipFill>
        <p:spPr>
          <a:xfrm>
            <a:off x="3962520" y="3276720"/>
            <a:ext cx="1693800" cy="27432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8"/>
          <p:cNvSpPr/>
          <p:nvPr/>
        </p:nvSpPr>
        <p:spPr>
          <a:xfrm>
            <a:off x="2895480" y="2743200"/>
            <a:ext cx="3733920" cy="3733920"/>
          </a:xfrm>
          <a:prstGeom prst="pi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301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ёх ядовитый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(кошачья петрушка, собачий дягиль, свиная вошь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4343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о всё растение, но особенно корневище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варна своим приятным морковным запахом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зывает тяжелое пищевое отравление вплоть до смер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275px-Cicuta_virosa"/>
          <p:cNvPicPr/>
          <p:nvPr/>
        </p:nvPicPr>
        <p:blipFill>
          <a:blip r:embed="rId1"/>
          <a:stretch/>
        </p:blipFill>
        <p:spPr>
          <a:xfrm>
            <a:off x="609480" y="2133720"/>
            <a:ext cx="44960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рман обыкновенны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4035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о все раст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аще всего встречаются случаи отравления семенами дурман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8" descr="220px-Thorn-apple"/>
          <p:cNvPicPr/>
          <p:nvPr/>
        </p:nvPicPr>
        <p:blipFill>
          <a:blip r:embed="rId1"/>
          <a:stretch/>
        </p:blipFill>
        <p:spPr>
          <a:xfrm>
            <a:off x="5181480" y="4191120"/>
            <a:ext cx="3467160" cy="236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Файл:Datura stramonium 200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1770120"/>
            <a:ext cx="342900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елен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1600" y="182880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8840" y="22093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о все раст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трицательно влияет на нервную систем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и попадании большого количества яда – смерть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8" descr="Файл:Hyoscyamus niger2 W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752480"/>
            <a:ext cx="3614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лчье лык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827000"/>
            <a:ext cx="42642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ы сок и плоды раст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ок вызывает образование ран, язв, раздражение слизистой оболочк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лоды могут вызвать смертельное отравл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9" descr="Картинка 1 из 6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676520"/>
            <a:ext cx="3504960" cy="2838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Картинка 9 из 69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191120"/>
            <a:ext cx="35049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Борец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аконит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71600" y="182880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2514240"/>
            <a:ext cx="4190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ы корень, листья и цветк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зывает воспаление и отравл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7" descr="Файл:2006-10-18Aconitum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752480"/>
            <a:ext cx="3589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Ясенец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4111920" cy="37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ы листья и семена в период созрева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зывает ожоги до 2-й степен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7" descr="Файл:Dictamnus albus 230504.jpg">
            <a:hlinkClick r:id="rId1"/>
          </p:cNvPr>
          <p:cNvPicPr/>
          <p:nvPr/>
        </p:nvPicPr>
        <p:blipFill>
          <a:blip r:embed="rId2"/>
          <a:srcRect l="0" t="4740" r="0" b="14221"/>
          <a:stretch/>
        </p:blipFill>
        <p:spPr>
          <a:xfrm>
            <a:off x="5562720" y="1752480"/>
            <a:ext cx="2819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асавка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белладонна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4267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о все раст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зывает отравление и сильное возбуждение, доходящее до бешенств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8" descr="Файл:Atropa belladonna 030705.jpg"/>
          <p:cNvPicPr/>
          <p:nvPr/>
        </p:nvPicPr>
        <p:blipFill>
          <a:blip r:embed="rId1"/>
          <a:stretch/>
        </p:blipFill>
        <p:spPr>
          <a:xfrm>
            <a:off x="1650960" y="1828800"/>
            <a:ext cx="332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роний глаз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411192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о все растение, особенно корневище и ягод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зывает сильное отравл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7" descr="Картинка 1 из 113"/>
          <p:cNvPicPr/>
          <p:nvPr/>
        </p:nvPicPr>
        <p:blipFill>
          <a:blip r:embed="rId1"/>
          <a:stretch/>
        </p:blipFill>
        <p:spPr>
          <a:xfrm>
            <a:off x="5105520" y="1828800"/>
            <a:ext cx="3200400" cy="2179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Картинка 2 из 113"/>
          <p:cNvPicPr/>
          <p:nvPr/>
        </p:nvPicPr>
        <p:blipFill>
          <a:blip r:embed="rId2"/>
          <a:stretch/>
        </p:blipFill>
        <p:spPr>
          <a:xfrm>
            <a:off x="5105520" y="3962520"/>
            <a:ext cx="32004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9:31:08Z</dcterms:created>
  <dc:creator>Лиличка</dc:creator>
  <dc:description/>
  <dc:language>en-US</dc:language>
  <cp:lastModifiedBy>Алексей</cp:lastModifiedBy>
  <dcterms:modified xsi:type="dcterms:W3CDTF">2011-06-02T18:26:5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