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ADB-A5B0-495F-92B2-B2147F3C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DFC-5192-4A27-B003-AD24F745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887-43B0-4FEC-AFBF-3281E035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E37-01EE-4613-91B4-6F4F2889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D475-9D33-4E9B-B404-EF18338B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36D-167E-48E8-BC3E-A74CFF4D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1993-FC7D-414F-973F-B39B3E99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8B92-16EA-4BE2-8CB9-883A1E36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4B8-2D26-4005-A9B3-8DD7CEDC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96DC-6026-4693-9398-8D79776D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7E04-65F7-4F14-A59E-627FC055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B71-F41D-46ED-A492-02328126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D1CC-A1EA-4409-8410-5F35FFB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D46C-5E41-402B-A5E2-6B3DA1E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AF5B-7733-408D-82C9-4FF569D3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680F-7AFD-4C3F-8A8E-964BFE24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89A9-A66D-4879-88DC-AD2CED27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64A-8237-45A3-B996-79E819FA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FDB-CA5D-4F72-B91B-87594EA1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647-4D9A-4BE5-93E9-770E7DB0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8E7-FE86-4C0D-B900-735E8C65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5FB-C04B-4397-BBD1-363D0E4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29C-D0CA-47B8-A90C-7ADDFA2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00F-4BC7-47D1-9A07-8112315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1350-2459-4BE7-AFB5-B4E0C89320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custGeom>
                  <a:avLst/>
                  <a:gdLst>
                    <a:gd name="textAreaLeft" fmla="*/ 0 w 806400"/>
                    <a:gd name="textAreaRight" fmla="*/ 806760 w 8064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custGeom>
                  <a:avLst/>
                  <a:gdLst>
                    <a:gd name="textAreaLeft" fmla="*/ 0 w 1210680"/>
                    <a:gd name="textAreaRight" fmla="*/ 1210680 w 12106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427E-B6F8-4330-82CD-1EBA036467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80920" y="380520"/>
            <a:ext cx="5257800" cy="1295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Азбука вежлив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361960"/>
            <a:ext cx="603252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правильно написать письмо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Содержимое 6" descr="Рисунок1.png"/>
          <p:cNvPicPr/>
          <p:nvPr/>
        </p:nvPicPr>
        <p:blipFill>
          <a:blip r:embed="rId1"/>
          <a:stretch/>
        </p:blipFill>
        <p:spPr>
          <a:xfrm>
            <a:off x="0" y="1905120"/>
            <a:ext cx="2162160" cy="217800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7" descr="Рисунок2.png"/>
          <p:cNvPicPr/>
          <p:nvPr/>
        </p:nvPicPr>
        <p:blipFill>
          <a:blip r:embed="rId2"/>
          <a:stretch/>
        </p:blipFill>
        <p:spPr>
          <a:xfrm>
            <a:off x="7162920" y="1752480"/>
            <a:ext cx="1981080" cy="27115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533520" y="35812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реч. эпистола) – посылаю, отправляю. Написанный текст, посылаемый для сообщения чего-нибудь, кому-нибуд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истолярный жанр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 письм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Колесо истор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rcRect l="5896" t="3938" r="13479" b="2299"/>
          <a:stretch/>
        </p:blipFill>
        <p:spPr>
          <a:xfrm rot="20829000">
            <a:off x="6641640" y="219240"/>
            <a:ext cx="2252880" cy="2496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rcRect l="10330" t="2890" r="5099" b="0"/>
          <a:stretch/>
        </p:blipFill>
        <p:spPr>
          <a:xfrm rot="18201000">
            <a:off x="4128120" y="913680"/>
            <a:ext cx="1247760" cy="198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388620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4"/>
          <a:stretch/>
        </p:blipFill>
        <p:spPr>
          <a:xfrm>
            <a:off x="0" y="4038480"/>
            <a:ext cx="3944880" cy="281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5"/>
          <a:stretch/>
        </p:blipFill>
        <p:spPr>
          <a:xfrm>
            <a:off x="189000" y="1219320"/>
            <a:ext cx="3181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7621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127400" cy="297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0" y="4114800"/>
            <a:ext cx="4762440" cy="2590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Колесо истор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4"/>
          <a:stretch/>
        </p:blipFill>
        <p:spPr>
          <a:xfrm>
            <a:off x="4840200" y="4267080"/>
            <a:ext cx="417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чего пишут пись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общи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здрави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сказать о себ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елиться чувствами, впечатления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благодарить и т.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38080" y="762120"/>
          <a:ext cx="6324840" cy="990360"/>
        </p:xfrm>
        <a:graphic>
          <a:graphicData uri="http://schemas.openxmlformats.org/drawingml/2006/table">
            <a:tbl>
              <a:tblPr/>
              <a:tblGrid>
                <a:gridCol w="1055880"/>
                <a:gridCol w="1050840"/>
                <a:gridCol w="1055880"/>
                <a:gridCol w="1055520"/>
                <a:gridCol w="1050840"/>
                <a:gridCol w="105588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838080" y="1905120"/>
          <a:ext cx="7162920" cy="1066680"/>
        </p:xfrm>
        <a:graphic>
          <a:graphicData uri="http://schemas.openxmlformats.org/drawingml/2006/table">
            <a:tbl>
              <a:tblPr/>
              <a:tblGrid>
                <a:gridCol w="1024200"/>
                <a:gridCol w="1022040"/>
                <a:gridCol w="1024200"/>
                <a:gridCol w="1022400"/>
                <a:gridCol w="1022040"/>
                <a:gridCol w="1024200"/>
                <a:gridCol w="10238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838080" y="3200400"/>
          <a:ext cx="5639040" cy="914400"/>
        </p:xfrm>
        <a:graphic>
          <a:graphicData uri="http://schemas.openxmlformats.org/drawingml/2006/table">
            <a:tbl>
              <a:tblPr/>
              <a:tblGrid>
                <a:gridCol w="1127160"/>
                <a:gridCol w="1128960"/>
                <a:gridCol w="1126800"/>
                <a:gridCol w="1128960"/>
                <a:gridCol w="11271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WordArt 682"/>
          <p:cNvSpPr txBox="1"/>
          <p:nvPr/>
        </p:nvSpPr>
        <p:spPr>
          <a:xfrm>
            <a:off x="914400" y="91440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П И С Ь М 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4267080"/>
          <a:ext cx="6553440" cy="91440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  <a:gridCol w="1092240"/>
                <a:gridCol w="1092240"/>
                <a:gridCol w="10922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WordArt 980"/>
          <p:cNvSpPr txBox="1"/>
          <p:nvPr/>
        </p:nvSpPr>
        <p:spPr>
          <a:xfrm>
            <a:off x="990720" y="2133720"/>
            <a:ext cx="6933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К О Н В Е Р 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984"/>
          <p:cNvSpPr txBox="1"/>
          <p:nvPr/>
        </p:nvSpPr>
        <p:spPr>
          <a:xfrm>
            <a:off x="914400" y="33526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А Д Р Е 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985"/>
          <p:cNvSpPr txBox="1"/>
          <p:nvPr/>
        </p:nvSpPr>
        <p:spPr>
          <a:xfrm>
            <a:off x="990720" y="434340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И Н Д Е К 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76520" y="5410080"/>
          <a:ext cx="7086600" cy="91440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320"/>
                <a:gridCol w="787680"/>
                <a:gridCol w="787320"/>
                <a:gridCol w="787320"/>
                <a:gridCol w="787320"/>
                <a:gridCol w="787320"/>
                <a:gridCol w="7876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WordArt 1039"/>
          <p:cNvSpPr txBox="1"/>
          <p:nvPr/>
        </p:nvSpPr>
        <p:spPr>
          <a:xfrm>
            <a:off x="1828800" y="54864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П О Ч Т А Л Ь О 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исьмо Печкин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828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рогой Печкин. Мы тебя очень любим. Не скучай и приезжай в гости. Твои друзь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мелодия из Простоквашино ремикс (audiopoisk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8871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omic Sans MS"/>
              </a:rPr>
              <a:t>Алгоритм написания письм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880" y="10663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Приветствие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ли 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обращение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– 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мя того, кому предназначено письм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дравствуйте… (Привет…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ступление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 – 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просы, отражающие интерес к жизни адресата, добрые слова в его адрес, пожел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Основная часть 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 изложение информации, интересующей адреса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Заключение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выражение уважения, любви, преданности, слова прощ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одпись. Да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1143000" y="213372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тот, кому ты пишешь, чувствовал, что он тебе интересен, что его дела для тебя важн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можешь написать о своих делах. Излагай то, чем хочешь поделиться, последователь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лавные законы письм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49080" y="1904760"/>
            <a:ext cx="603252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пиши письм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друг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мам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одноклассни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смотри конверт и выясни, на какой адрес будешь отправлять письм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блюдай главные законы письм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3-09-15T13:00:51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