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39C-07C7-4C7F-8665-8DF745E5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E50-D0D3-4C0E-8692-574569BA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F3E-A1DE-400D-BA9B-33184948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A90-A22D-41BE-8D44-24AFAACA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E9F8-6045-4DDD-8476-3923E6CD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7AD9-651B-4F37-B860-3BB9A893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ABD-AC6A-46E1-8CEC-B28234CE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7E3D-766B-4BA6-B1A2-9DDD7C5B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F19C-6EC5-4826-81C7-3D830111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B68E-7D4C-4B55-BAF2-C0CEBB9C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5745-6040-444B-99C0-39345314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F9D-6131-4685-832A-D06F46A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7519-9AF1-462D-B17E-B18E1336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31C2-3C77-4571-BD70-8A1B88F7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E8EF-9645-4908-9B84-0D2C4950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0D84-1B4E-4ADF-893E-CFA84F72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1DBB-FCA4-48F2-A35F-9FD7736C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50D-9F18-4705-B374-2B497A4D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F98-7435-432F-AC3D-5AEE9A09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EBF-1B52-4E47-991B-11F33DF6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C2E-FCE6-408F-ABF2-67F02628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12D-45FF-4979-AB8D-C5AEBA6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417-610B-42F6-AE6B-2C542E96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D54-8620-455C-8578-7AB6DBD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c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A99A-8658-49BD-AEA0-2C3CA57FB01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c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57F0-242F-4723-971B-781FAD15216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8640" y="105228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haroni"/>
              </a:rPr>
              <a:t>Правила поведения</a:t>
            </a:r>
            <a:br>
              <a:rPr sz="5400"/>
            </a:br>
            <a:r>
              <a:rPr b="1" lang="en-US" sz="5400" spc="-1" strike="noStrike">
                <a:solidFill>
                  <a:srgbClr val="eaeaea"/>
                </a:solidFill>
                <a:latin typeface="Aharoni"/>
              </a:rPr>
              <a:t>при пожар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,,01” -  простой  номер  его  всякий  запомнит .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,,01” – короткий  номер , при  пожаре  дорога  каждая  минута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,,01”-  удобный  номер , его  легко  набрать  даже  в  темноте 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60e"/>
                </a:solidFill>
                <a:latin typeface="Arial"/>
              </a:rPr>
              <a:t>Безопасность при лесных пожар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пределите направление ветра и распространения огня, бегите из леса навстреч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етру по возможности параллельно фронту пожа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сли вы в зоне пожара окунитесь в ближайший водоём или хотя бы смочите одежду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ышите через мокрый платок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сли огонь небольшой можно засыпать землёй или залить вод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тушив  пожар, не уходите, не убедившись, что огонь не разгорит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60e"/>
                </a:solidFill>
                <a:latin typeface="Arial"/>
              </a:rPr>
              <a:t>НЕЛЬЗ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льзоваться открытым огнём ( бросать горящие спички ,окурки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тавлять на освещенных солнцем местах  бутылки или осколки стекла, котор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могут стать зажигательными линза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ыжигать тра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Разводить тра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9144000" cy="1844640"/>
          </a:xfrm>
          <a:prstGeom prst="rect">
            <a:avLst/>
          </a:prstGeom>
          <a:noFill/>
          <a:ln w="9360">
            <a:solidFill>
              <a:srgbClr val="65b2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ПРАВИЛА  ПОЖАРНЫЕ   БЕЗ  ЗАПИНКИ  ЗНАЙТЕ!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ПРАВИЛА  ПОЖАРНЫЕ  СТРОГО  СОБЛЮДАЙТЕ!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мните: жизнь – самое дорогое, что есть у человека. Берегите ее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76720" y="57146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жар в квартир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60e"/>
                </a:solidFill>
                <a:latin typeface="Arial"/>
              </a:rPr>
              <a:t>Пожар в квартир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773360"/>
            <a:ext cx="8532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ызовите  пожарную  охрану  по  телефону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моги выйти из помещения младш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сли  очаг  возгорания  невелик,  попробуй  его  потушить самостоятельно ( из  водопровода, стиральным  порошком, плотной  тканью 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8640" y="1179000"/>
            <a:ext cx="822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апрещается  тушить  водой  включённые электроприбор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ообщи  о  пожаре  соседям, позови  их  на помощ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сли не можешь справиться с огнём  немедленно покинь квартиру. Отключи по  возможности электричество, газ, закрой  окн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58920" y="115920"/>
            <a:ext cx="842472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выходе из квартиры защитите глаза и органы дыхания от дыма респиратором, ватно-марлевой повязкой, смоченными водой куском ткани или полотенцем. Двигайтесь пригнувшись или ползком (внизу меньше дыма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сли покинуть квартиру невозможно, постарайся пробраться на балкон, плотно закрой за собой дверь и зови на помощ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и в коем случае не прыгай с балкона, оставайся на месте – пожарные обязательно тебя спасут и кричите : ,, ПОЖАР!”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сли на тебе загорелась одежда, падай на пол и катайся, чтобы сбить пламя,  либо накинь на себя очень плотную ткан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Храните документы и деньги в месте, известном всем членам семьи, на случай внезапной эвакуации при пожар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60e"/>
                </a:solidFill>
                <a:latin typeface="Arial"/>
              </a:rPr>
              <a:t>Если загорелся телевизор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Обесточьте телевизор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Сообщите в пожарную охрану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Во избежание отравления продуктами             горения немедленно удалите                                             из помещения людей, в первую очередь детей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Если после отключения телевизор продолжает гореть, залейте его водой через отверстия задней стенки, находясь при этом сбоку от аппарата, или накройте его плотной тканью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Если горение продолжается выбросьте телевизор в окно, не забыв при этом посмотреть вниз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Если  телевизор  взорвался  и  пожар  усилился, покиньте  помещение закрыв  двери  и  окна 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60e"/>
                </a:solidFill>
                <a:latin typeface="Arial"/>
              </a:rPr>
              <a:t>Пожар в подвал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воните в пожарную охран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и в коем случае не пытайтесь сами проникнуть в подвал, это может закончиться для вас трагичн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сли из-за пожара в подвале появился дым откройте окна (но не дверь на лестничную площадку) и покиньте дом, оповестив сосед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8640" y="1179000"/>
            <a:ext cx="822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ыбирайтесь либо низко пригнувшись либо ползком дыша через мокрую ткань или полотенц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аблудившись, выходите в сторону тяги дым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Е НАЙДЯ ВЫХОДА, ЛЯГТЕ В ПРОХОДЕ, ГДЕ ТЕМПЕРАТУРА НЕ ОЧЕНЬ ВЫСОКА И ПОСТАРАЙТЕСЬ ЧЕМ-НИБУДЬ НАКРЫТЬ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5:38:54Z</dcterms:created>
  <dc:creator>Лёша</dc:creator>
  <dc:description/>
  <dc:language>en-US</dc:language>
  <cp:lastModifiedBy>Вова</cp:lastModifiedBy>
  <dcterms:modified xsi:type="dcterms:W3CDTF">2013-04-26T06:46:16Z</dcterms:modified>
  <cp:revision>10</cp:revision>
  <dc:subject/>
  <dc:title> Безопасность при пожа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50000000000010250300207f7000400038000</vt:lpwstr>
  </property>
</Properties>
</file>