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7B7-66DE-4E03-9861-75536AF1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4A6-F783-4A7A-A461-DC4953EF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82D-3A29-4426-939C-5B2E9555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286-172F-4391-8F71-7345D23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259-C094-44F5-8AC8-736A7BB1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670-D4F0-49C0-A687-E483D70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972-D55D-467C-92E0-8B370C1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61E-2970-4FC6-8EFA-036AD277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7CA-F08B-4E0C-B245-E6DF86B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6E9-E1A7-4066-9D77-171AF53D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41E-68AA-4B1E-86F4-406C158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82A-2A57-4F10-B0BC-6F0C966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CFB-3B60-4B85-AE63-2D10934982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7E1-5B4B-4F22-80E1-1A191B627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../&#1055;&#1088;&#1077;&#1079;&#1077;&#1085;&#1090;&#1072;&#1094;&#1080;&#1103;%20&#1091;&#1095;&#1080;&#1090;&#1077;&#1083;&#1103;/&#1050;&#1085;&#1080;&#1075;&#1072;%20-%20&#1085;&#1077;&#1084;&#1086;&#1081;%20&#1091;&#1095;&#1080;&#1090;&#1077;&#1083;&#1100;.ppt" TargetMode="External"/><Relationship Id="rId3" Type="http://schemas.openxmlformats.org/officeDocument/2006/relationships/hyperlink" Target="file:///../&#1055;&#1088;&#1077;&#1079;&#1077;&#1085;&#1090;&#1072;&#1094;&#1080;&#1103;%20&#1091;&#1095;&#1080;&#1090;&#1077;&#1083;&#1103;/&#1050;&#1085;&#1080;&#1075;&#1072;%20-%20&#1085;&#1077;&#1084;&#1086;&#1081;%20&#1091;&#1095;&#1080;&#1090;&#1077;&#1083;&#1100;.ppt" TargetMode="External"/><Relationship Id="rId4" Type="http://schemas.openxmlformats.org/officeDocument/2006/relationships/hyperlink" Target="file:///../../&#1054;&#1073;&#1088;&#1072;&#1079;&#1094;&#1099;%20%20&#1088;&#1072;&#1073;&#1086;&#1090;%20%20&#1091;&#1095;&#1072;&#1097;&#1080;&#1093;&#1089;&#1103;/&#1047;&#1072;&#1082;&#1083;&#1072;&#1076;&#1082;&#1080;/&#1047;&#1072;&#1082;&#1083;&#1072;&#1076;&#1082;&#1080;.doc" TargetMode="External"/><Relationship Id="rId5" Type="http://schemas.openxmlformats.org/officeDocument/2006/relationships/hyperlink" Target="file:///../../&#1054;&#1073;&#1088;&#1072;&#1079;&#1094;&#1099;%20%20&#1088;&#1072;&#1073;&#1086;&#1090;%20%20&#1091;&#1095;&#1072;&#1097;&#1080;&#1093;&#1089;&#1103;/&#1047;&#1072;&#1082;&#1083;&#1072;&#1076;&#1082;&#1080;/&#1047;&#1072;&#1082;&#1083;&#1072;&#1076;&#1082;&#1080;.doc" TargetMode="External"/><Relationship Id="rId6" Type="http://schemas.openxmlformats.org/officeDocument/2006/relationships/hyperlink" Target="file:///../../&#1054;&#1073;&#1088;&#1072;&#1079;&#1094;&#1099;%20%20&#1088;&#1072;&#1073;&#1086;&#1090;%20%20&#1091;&#1095;&#1072;&#1097;&#1080;&#1093;&#1089;&#1103;/&#1047;&#1072;&#1082;&#1083;&#1072;&#1076;&#1082;&#1080;/&#1047;&#1072;&#1082;&#1083;&#1072;&#1076;&#1082;&#1080;.doc" TargetMode="External"/><Relationship Id="rId7" Type="http://schemas.openxmlformats.org/officeDocument/2006/relationships/hyperlink" Target="file:///../../&#1054;&#1073;&#1088;&#1072;&#1079;&#1094;&#1099;%20%20&#1088;&#1072;&#1073;&#1086;&#1090;%20%20&#1091;&#1095;&#1072;&#1097;&#1080;&#1093;&#1089;&#1103;/&#1054;&#1090;&#1082;&#1088;&#1099;&#1090;&#1082;&#1080;/&#1050;&#1088;&#1072;&#1090;&#1082;&#1072;&#1103;%20&#1089;&#1087;&#1088;&#1072;&#1074;&#1082;&#1072;%20&#1086;%20&#1073;&#1080;&#1073;&#1083;&#1080;&#1086;&#1090;1.pub" TargetMode="External"/><Relationship Id="rId8" Type="http://schemas.openxmlformats.org/officeDocument/2006/relationships/hyperlink" Target="file:///../../&#1054;&#1073;&#1088;&#1072;&#1079;&#1094;&#1099;%20%20&#1088;&#1072;&#1073;&#1086;&#1090;%20%20&#1091;&#1095;&#1072;&#1097;&#1080;&#1093;&#1089;&#1103;/&#1054;&#1090;&#1082;&#1088;&#1099;&#1090;&#1082;&#1080;/&#1050;&#1088;&#1072;&#1090;&#1082;&#1072;&#1103;%20&#1089;&#1087;&#1088;&#1072;&#1074;&#1082;&#1072;%20&#1086;%20&#1073;&#1080;&#1073;&#1083;&#1080;&#1086;&#1090;1.pub" TargetMode="External"/><Relationship Id="rId9" Type="http://schemas.openxmlformats.org/officeDocument/2006/relationships/hyperlink" Target="file:///../../&#1054;&#1073;&#1088;&#1072;&#1079;&#1094;&#1099;%20%20&#1088;&#1072;&#1073;&#1086;&#1090;%20%20&#1091;&#1095;&#1072;&#1097;&#1080;&#1093;&#1089;&#1103;/&#1055;&#1091;&#1073;&#1083;&#1080;&#1082;&#1072;&#1094;&#1080;&#1103;1.pub" TargetMode="External"/><Relationship Id="rId10" Type="http://schemas.openxmlformats.org/officeDocument/2006/relationships/hyperlink" Target="file:///../../&#1054;&#1073;&#1088;&#1072;&#1079;&#1094;&#1099;%20%20&#1088;&#1072;&#1073;&#1086;&#1090;%20%20&#1091;&#1095;&#1072;&#1097;&#1080;&#1093;&#1089;&#1103;/&#1055;&#1091;&#1073;&#1083;&#1080;&#1082;&#1072;&#1094;&#1080;&#1103;1.pub" TargetMode="External"/><Relationship Id="rId11" Type="http://schemas.openxmlformats.org/officeDocument/2006/relationships/hyperlink" Target="file:///../../&#1054;&#1073;&#1088;&#1072;&#1079;&#1094;&#1099;%20%20&#1088;&#1072;&#1073;&#1086;&#1090;%20%20&#1091;&#1095;&#1072;&#1097;&#1080;&#1093;&#1089;&#1103;/&#1057;%20&#1082;&#1085;&#1080;&#1075;&#1086;&#1081;%20&#1087;&#1086;%20&#1078;&#1080;&#1079;&#1085;&#1080;.ppt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1285920" y="1500120"/>
            <a:ext cx="6500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Тема проекта: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С книгой по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Творческое название: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«Книга  - немой уч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втор: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Новоселова В.П.,  библиотекарь         МОСШ п.Лых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ABAD-AC3B-42E7-9C55-39DBB95EF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Содержимое 2"/>
          <p:cNvSpPr/>
          <p:nvPr/>
        </p:nvSpPr>
        <p:spPr>
          <a:xfrm>
            <a:off x="1428840" y="1357200"/>
            <a:ext cx="65721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Основной вопрос: 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Значима ли роль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книги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в жизни человека и в  становлении личности  современного школьни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Вопрос учебной темы: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Возможно ли становление личности  современного школьника без книги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чебные предметы: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Литература (чтени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частники: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актив библиотеки: 1 группа (2-4кл.,краткосрочн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2 группа(5-6кл., краткосрочн.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3 группа(7-8кл.,краткосрочн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Информационные ресурсы: </a:t>
            </a:r>
            <a:r>
              <a:rPr b="0" lang="ru-RU" sz="1900" spc="-1" strike="noStrike">
                <a:solidFill>
                  <a:srgbClr val="1f497d"/>
                </a:solidFill>
                <a:latin typeface="Calibri"/>
              </a:rPr>
              <a:t>ссылки на мультимедиа: Интернет ресурсы.:</a:t>
            </a:r>
            <a:r>
              <a:rPr b="0" lang="ru-RU" sz="1900" spc="-1" strike="noStrike">
                <a:solidFill>
                  <a:srgbClr val="f79646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f79646"/>
                </a:solidFill>
                <a:latin typeface="Arial"/>
              </a:rPr>
              <a:t>http.</a:t>
            </a:r>
            <a:r>
              <a:rPr b="0" lang="ru-RU" sz="1900" spc="-1" strike="noStrike">
                <a:solidFill>
                  <a:srgbClr val="f79646"/>
                </a:solidFill>
                <a:latin typeface="Arial"/>
              </a:rPr>
              <a:t>//</a:t>
            </a:r>
            <a:r>
              <a:rPr b="0" lang="en-US" sz="1900" spc="-1" strike="noStrike">
                <a:solidFill>
                  <a:srgbClr val="f79646"/>
                </a:solidFill>
                <a:latin typeface="Arial"/>
              </a:rPr>
              <a:t>www.goog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416B-CBF4-4A53-AAD5-EFD11A9F1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Содержимое 2"/>
          <p:cNvSpPr/>
          <p:nvPr/>
        </p:nvSpPr>
        <p:spPr>
          <a:xfrm>
            <a:off x="1357200" y="1428840"/>
            <a:ext cx="65725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идактические  цели проекта: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формирование компетентности в  сфере самостоятельной деятельности, критического мышления, навыков работы  в команде, приобретение  навыков  самостоятельной  работы с большим объёмом информации, умений увидеть проблему и наметить  пути их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етодические задачи: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своить представление о книге , освоить  понятие «книга», научить пользоваться 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wer Point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для оформления результатов, научить кратко излагать свои мысли устно и пись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550-4F2D-4A86-A0B8-E3BAC78E4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Содержимое 2"/>
          <p:cNvSpPr/>
          <p:nvPr/>
        </p:nvSpPr>
        <p:spPr>
          <a:xfrm>
            <a:off x="1785960" y="1357200"/>
            <a:ext cx="614376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е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Учитель: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«Книга-немой учи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ети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«Библиотека – храм, а чтение путь  к не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.«Книга- к мудрости  ступень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I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«С книгой по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зультаты представления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Учитель: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ет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Закладки - рекламки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I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ткрытки-реклам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III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Бук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IV.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V.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Интер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B85-086A-4BCB-A023-B22F46803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1357200" y="1285920"/>
            <a:ext cx="6286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апы и сроки проведения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«Мозговой штурм»(формулирование тем и выбор форм работ учащихся),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нояб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Формирование групп (нояб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I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Выбор творческого проекта (совместно с учащими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V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бсуждение плана работы учащихся индивидуально или  в группе(нояб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бсуждение со школьниками возможных источников  информации, вопросов защиты авторских прав(декаб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а заседании совета библиотеки, 1ый понедельник м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A9F-ECFA-4D88-BD79-C64A48998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62" name="Содержимое 2"/>
          <p:cNvSpPr/>
          <p:nvPr/>
        </p:nvSpPr>
        <p:spPr>
          <a:xfrm>
            <a:off x="1357200" y="1428840"/>
            <a:ext cx="65008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апы и сроки проведения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Самостоятельная работа учащихся по обсуждению задания  в каждой группе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(Ноябрь ,1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я неделя ме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Самостоятельная работа  групп по выполнению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(Декабрь, 1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я неделя ме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Подготовка школьниками презентаций по отчету  о проделанной работе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(Январь,3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ья неделя ме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V.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Защита полученных результатов и выводов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( Февраль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я неделя ме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CAF2-8154-47F2-B892-2F592793F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DD01018_.WMF"/>
          <p:cNvPicPr/>
          <p:nvPr/>
        </p:nvPicPr>
        <p:blipFill>
          <a:blip r:embed="rId1"/>
          <a:stretch/>
        </p:blipFill>
        <p:spPr>
          <a:xfrm>
            <a:off x="214200" y="-19080"/>
            <a:ext cx="8715600" cy="6877080"/>
          </a:xfrm>
          <a:prstGeom prst="rect">
            <a:avLst/>
          </a:prstGeom>
          <a:ln w="0">
            <a:noFill/>
          </a:ln>
        </p:spPr>
      </p:pic>
      <p:sp>
        <p:nvSpPr>
          <p:cNvPr id="66" name="Содержимое 2"/>
          <p:cNvSpPr/>
          <p:nvPr/>
        </p:nvSpPr>
        <p:spPr>
          <a:xfrm>
            <a:off x="1214280" y="1500120"/>
            <a:ext cx="68580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пользованные материалы и благодар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8443-FBD5-40C8-8934-10B8D6FAD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овоселова В.П.,МОСШ п.Лых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9"/>
          <p:cNvSpPr/>
          <p:nvPr/>
        </p:nvSpPr>
        <p:spPr>
          <a:xfrm>
            <a:off x="1143000" y="2214720"/>
            <a:ext cx="6786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еликие мысли  великих людей. Мудрость тысячелетий./ Сост. , А.П. Кондрашов, И.И.Комарова.- М.: «РИПОЛ КЛАССИК»,2003.-1216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усские народные загадки, пословицы, поговорки. / Сост., авт. вступ. ст.,  коммент.  и слов Ю.Г. Круглов. - М.: Просвещение,1990.-335с.:ил.-(Б-ка словесника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усские  пословицы ,поговорки от А до Я: Словарь-игра./Сост., В.Степанов.-М., АСТ-ПРЕСС,1999.-240.с.: ил.-(«Занимательные уроки»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ловарь понятий и терминов по образованию и педагогике. Преподавателю, руководителю образовательных  учреждений, студенту и аспиранту. /Сост., В.М.Полонский.-М.,2000.-368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тернет, ресурс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ttp:www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//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g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2-14T09:36:34Z</dcterms:modified>
  <cp:revision>38</cp:revision>
  <dc:subject/>
  <dc:title>Слайд 1</dc:title>
</cp:coreProperties>
</file>