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E03-66B4-4FAC-A004-6FF668F2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141-6B68-4798-9F28-4A6063D2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DE5-E7C6-41A6-B769-75D3275A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DAE-6E9B-4C30-9F52-0E0EFA14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9BA4-B2A6-41EE-9A03-934DC14D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6EF4-1B31-4860-80FF-B52DEBC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38F6-9C48-43D7-A0A6-B9D42A14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F5CE-7AEE-4CF8-A80A-17323E9C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52F7-4847-4CBE-88F0-5E325501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728F-3ADE-454F-B755-6C74AA0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0956-BCA9-40E6-8C4B-99924EC7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707-A2EF-446F-AA11-BA266619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F1E5-DA8A-4CEF-8ACA-EF1800F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6597-994A-4BFD-9BBD-D74DB801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69F2-3CB6-4703-8DA3-B07332A3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485E-3746-4169-9BC9-01348D65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ABFA-0325-40F0-953F-1BC5E119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7DF-DB4F-4F89-9EAE-52ECA1F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689-EC9C-4328-9670-44EF9F7D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A16-64DE-47B7-AC84-40915885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DA1-0865-48E0-BE95-5F522422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CF7-E285-461D-9049-30412153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DE3-9331-4288-824F-A4D032CC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B4F-533C-4B88-87D4-49843B4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8F33-4237-44B6-BC5A-796052014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0AAE-A073-4FFF-86DE-7B6A6491D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021440" y="-168444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79640" y="404640"/>
            <a:ext cx="5545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ауч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241848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ель  урока:  опираясь  на  понятия  о  диеновых  углеводородах, ознакоми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 историей, составом,  строением  и  свойствами  натура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учука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ассмотреть  причинно-следственную  зависимость  между  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троением  и  свойств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ать  понятие  каучука  со  стереорегулярным  строе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казать  сущность  процесса  вулканизации  каучука,  рассмо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еть  области  применения  каучу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Monotype Corsiva"/>
              </a:rPr>
              <a:t>Процесс вулканизаци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181080" y="1916280"/>
            <a:ext cx="11124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916280"/>
            <a:ext cx="6912000" cy="4465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улканизация – это смесь каучука с не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личеством серы. Макромолекулы натура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учука, построенные линейно, под действи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еры подвергаются «сшивке». В результа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разуется резина, имеющая трёхмер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странственную структуру , более прочная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вёрдая, чем невулканизованный кауч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улканизация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дна из самых важных стадий получения люб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зделия из рез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236000" y="1628640"/>
            <a:ext cx="1261800" cy="49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Monotype Corsiva"/>
              </a:rPr>
              <a:t>Синтетический каучу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33360"/>
            <a:ext cx="4572000" cy="53276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9480" y="2081160"/>
            <a:ext cx="44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19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5148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981000"/>
            <a:ext cx="36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 дерево бразильской гевеи в среднем, до недавнего времени, было способно  давать  лишь 2-3 кг каучука в год; годовая производительность одного гектара гевеи до Второй Мировой войны составляла 300—400 кг технического каучука. Такие объёмы натурального каучука не удовлетворяли растущие потребности промышлен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396108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68360" y="4005360"/>
            <a:ext cx="3527280" cy="237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443700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 течение  долгого  времени  использовали только натуральный  каучук, которым  располагают немногие  стра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2648160" cy="367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79280" y="1268280"/>
            <a:ext cx="5184720" cy="4969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100000">
                <a:srgbClr val="b2b2b2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1844640"/>
            <a:ext cx="33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результате  многолетней  напряженной  работы  профессору  Военно-медицинско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и  в  Ленинграде  Сергею  Васильевичу  Лебедеву  удалось  разработать  синте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кий  способ  получения  каучука, и  с  1932  г.  Советский  Союз  был  первой  в  ми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ой  организовавшей  крупное  производство  каучу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19480" y="136440"/>
            <a:ext cx="45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19480" y="423720"/>
            <a:ext cx="26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6028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i="1" lang="en-US" sz="4800" spc="-1" strike="noStrike">
                <a:solidFill>
                  <a:srgbClr val="800000"/>
                </a:solidFill>
                <a:latin typeface="Monotype Corsiva"/>
              </a:rPr>
              <a:t>Синтетический  каучу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00000"/>
                </a:solidFill>
                <a:latin typeface="Monotype Corsiva"/>
              </a:rPr>
              <a:t>Групповая  работ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знакомьтесь со 2 абзацем в разделе «Синтетический каучук» и ответьте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  чем  суть  работы  С.В. Лебедев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Из  какого  в-ва  был  изготовлен  первый  синтетический  каучук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чему  он  уступал  по  свойствам  натуральному  каучук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Запишите схему цис- полибутадие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Monotype Corsiva"/>
              </a:rPr>
              <a:t>Свойства каучука зависят от вида мономер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9280" y="1916280"/>
            <a:ext cx="8712000" cy="4127400"/>
            <a:chOff x="179280" y="1916280"/>
            <a:chExt cx="8712000" cy="4127400"/>
          </a:xfrm>
        </p:grpSpPr>
        <p:cxnSp>
          <p:nvCxnSpPr>
            <p:cNvPr id="144" name="_s207877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46600" y="2454480"/>
              <a:ext cx="826200" cy="3049920"/>
            </a:xfrm>
            <a:prstGeom prst="bentConnector3">
              <a:avLst>
                <a:gd name="adj1" fmla="val 13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7878"/>
            <p:cNvCxnSpPr>
              <a:stCxn id="148" idx="0"/>
              <a:endCxn id="146" idx="2"/>
            </p:cNvCxnSpPr>
            <p:nvPr/>
          </p:nvCxnSpPr>
          <p:spPr>
            <a:xfrm flipV="1">
              <a:off x="4534920" y="3566520"/>
              <a:ext cx="3960" cy="8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207879"/>
            <p:cNvCxnSpPr>
              <a:stCxn id="150" idx="0"/>
              <a:endCxn id="146" idx="2"/>
            </p:cNvCxnSpPr>
            <p:nvPr/>
          </p:nvCxnSpPr>
          <p:spPr>
            <a:xfrm flipH="1" flipV="1" rot="5400000">
              <a:off x="2597760" y="2454840"/>
              <a:ext cx="826200" cy="3049920"/>
            </a:xfrm>
            <a:prstGeom prst="bentConnector3">
              <a:avLst>
                <a:gd name="adj1" fmla="val 13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207880"/>
            <p:cNvSpPr/>
            <p:nvPr/>
          </p:nvSpPr>
          <p:spPr>
            <a:xfrm>
              <a:off x="3228480" y="1916280"/>
              <a:ext cx="2613600" cy="165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Виды каучуко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207881"/>
            <p:cNvSpPr/>
            <p:nvPr/>
          </p:nvSpPr>
          <p:spPr>
            <a:xfrm>
              <a:off x="179280" y="4392720"/>
              <a:ext cx="2613600" cy="165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ahoma"/>
                </a:rPr>
                <a:t>Изопреновый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Эластичный,износостойк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207882"/>
            <p:cNvSpPr/>
            <p:nvPr/>
          </p:nvSpPr>
          <p:spPr>
            <a:xfrm>
              <a:off x="3228480" y="4392720"/>
              <a:ext cx="2613600" cy="165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ahoma"/>
                </a:rPr>
                <a:t>Бутодиеновый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одо-, газо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непроницаемость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износостойкость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207883"/>
            <p:cNvSpPr/>
            <p:nvPr/>
          </p:nvSpPr>
          <p:spPr>
            <a:xfrm>
              <a:off x="6277680" y="4392720"/>
              <a:ext cx="2613600" cy="165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ahoma"/>
                </a:rPr>
                <a:t>Хлорпреновый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бензо-,масло-,тепло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стойк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Monotype Corsiva"/>
              </a:rPr>
              <a:t>Закрепление  материал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867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Каким  стоением  должен  обладать  изопреновый  каучук, чтобы  свойства  его  были  близки  к  натурально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Почему  натуральный  и синтетически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каучуки  неустойчивы  к действию  бро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Какая  особенность  строения  обуславливает  эластичность каучу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Почему  каучук и резина имеют разные свой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Приведите формулы мономеров, из которых могут быть получены синтетическ. каучуки?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258920" y="1484280"/>
          <a:ext cx="7246800" cy="3240000"/>
        </p:xfrm>
        <a:graphic>
          <a:graphicData uri="http://schemas.openxmlformats.org/drawingml/2006/table">
            <a:tbl>
              <a:tblPr/>
              <a:tblGrid>
                <a:gridCol w="1582560"/>
                <a:gridCol w="833760"/>
                <a:gridCol w="1207800"/>
                <a:gridCol w="1206720"/>
                <a:gridCol w="1207800"/>
                <a:gridCol w="1208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755640" y="18900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Monotype Corsiva"/>
              </a:rPr>
              <a:t>Ответы  для  самоконтроля:</a:t>
            </a:r>
            <a:r>
              <a:rPr b="1" i="1" lang="en-US" sz="4400" spc="-1" strike="noStrike">
                <a:solidFill>
                  <a:srgbClr val="8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Monotype Corsiva"/>
              </a:rPr>
              <a:t>Натуральный кауч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612720" y="3886200"/>
            <a:ext cx="36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907920"/>
            <a:ext cx="5435640" cy="4969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fcc66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учук существует столько л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колько сама прир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каменелые остатки каучуконос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ревьев, которые были найде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меют возраст около трех милл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т. Каучук на языке индейц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значает «слезы дерева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учуковые шары из сырой рез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йдены среди руин цивилиз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нков и майя в Централь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жной Америке, возраст эт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шаров не менее 90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2857320" cy="479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6121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Monotype Corsiva"/>
              </a:rPr>
              <a:t>Натуральный каучу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757080" y="1981080"/>
            <a:ext cx="7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68280"/>
            <a:ext cx="5040360" cy="518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родный каучук стал извес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Европе еще в конце 15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выми из европейцев 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видели участники втор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утешествия Христофора Колум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Амери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огда они узнали, что индей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учают «слезы дерева» 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лечного сока троп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стения гевея и используют 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ля изготовления обуви, мяч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бьющейся посу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105440" cy="33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Monotype Corsiva"/>
              </a:rPr>
              <a:t>Натуральный кауч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24000" y="1981080"/>
            <a:ext cx="14292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1125360"/>
            <a:ext cx="6012000" cy="5329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2b5481"/>
              </a:gs>
              <a:gs pos="50000">
                <a:srgbClr val="ffcc66"/>
              </a:gs>
              <a:gs pos="100000">
                <a:srgbClr val="2b5481"/>
              </a:gs>
            </a:gsLst>
            <a:lin ang="10800000"/>
          </a:gra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ного лет испанцы пытались повтор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донепроницаемые вещи (обув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дежду, головные уборы) индейце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 все попытки были неудач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Англии британский химик и изобрет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арльз Макинтош предложил кла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онкий слой каучука между дву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лоями ткани и из этого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шить водонепроницаемые пла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промокаемый плащ из прорезин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кани до сих пор носит его имя. 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эти плащи зимой становились тверд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 холода, а летом расползались от жа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16872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Monotype Corsiva"/>
              </a:rPr>
              <a:t>Схема  полимеризации  изопрен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806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Monotype Corsiva"/>
              </a:rPr>
              <a:t>Групповая  работ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Ваша  задача, ознакомиться  с 3 и 4-ым  абзацами   параграфа «Натуральный  и   искусственный  каучук»  и  определить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какая  конфигурация  характерна  для  натурального  каучука и  как  она  влияет  на  свойства  каучу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какое  строение  называется  «стереорегулярным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Каковы   важнейшие физические      свойства  каучу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584172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70600" y="692280"/>
            <a:ext cx="4402080" cy="4609440"/>
            <a:chOff x="2370600" y="692280"/>
            <a:chExt cx="4402080" cy="4609440"/>
          </a:xfrm>
        </p:grpSpPr>
        <p:sp>
          <p:nvSpPr>
            <p:cNvPr id="105" name="_s165905"/>
            <p:cNvSpPr/>
            <p:nvPr/>
          </p:nvSpPr>
          <p:spPr>
            <a:xfrm flipH="1" flipV="1">
              <a:off x="3486960" y="2792880"/>
              <a:ext cx="541440" cy="1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65904"/>
            <p:cNvSpPr/>
            <p:nvPr/>
          </p:nvSpPr>
          <p:spPr>
            <a:xfrm>
              <a:off x="2370600" y="1978560"/>
              <a:ext cx="1142640" cy="1241640"/>
            </a:xfrm>
            <a:prstGeom prst="ellipse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17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одонепрони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цаемост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65907"/>
            <p:cNvSpPr/>
            <p:nvPr/>
          </p:nvSpPr>
          <p:spPr>
            <a:xfrm flipH="1">
              <a:off x="3900960" y="3678480"/>
              <a:ext cx="33516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65906"/>
            <p:cNvSpPr/>
            <p:nvPr/>
          </p:nvSpPr>
          <p:spPr>
            <a:xfrm>
              <a:off x="2993040" y="4060080"/>
              <a:ext cx="1143000" cy="1241640"/>
            </a:xfrm>
            <a:prstGeom prst="ellips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Газонепрони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цаемост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65901"/>
            <p:cNvSpPr/>
            <p:nvPr/>
          </p:nvSpPr>
          <p:spPr>
            <a:xfrm>
              <a:off x="4908600" y="3676680"/>
              <a:ext cx="335160" cy="50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65900"/>
            <p:cNvSpPr/>
            <p:nvPr/>
          </p:nvSpPr>
          <p:spPr>
            <a:xfrm>
              <a:off x="5007240" y="4060080"/>
              <a:ext cx="1143000" cy="1241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Электроизо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лятор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65899"/>
            <p:cNvSpPr/>
            <p:nvPr/>
          </p:nvSpPr>
          <p:spPr>
            <a:xfrm flipV="1">
              <a:off x="5114880" y="2791440"/>
              <a:ext cx="542880" cy="1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65898"/>
            <p:cNvSpPr/>
            <p:nvPr/>
          </p:nvSpPr>
          <p:spPr>
            <a:xfrm>
              <a:off x="5630040" y="1978560"/>
              <a:ext cx="1142640" cy="1241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стойчив к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зносу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65897"/>
            <p:cNvSpPr/>
            <p:nvPr/>
          </p:nvSpPr>
          <p:spPr>
            <a:xfrm flipV="1">
              <a:off x="4571640" y="1933560"/>
              <a:ext cx="0" cy="62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65896"/>
            <p:cNvSpPr/>
            <p:nvPr/>
          </p:nvSpPr>
          <p:spPr>
            <a:xfrm>
              <a:off x="4000320" y="692280"/>
              <a:ext cx="1143000" cy="12416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эластичност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65895"/>
            <p:cNvSpPr/>
            <p:nvPr/>
          </p:nvSpPr>
          <p:spPr>
            <a:xfrm>
              <a:off x="4000320" y="2555280"/>
              <a:ext cx="1143000" cy="1242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войств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199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Monotype Corsiva"/>
              </a:rPr>
              <a:t>История создания рези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-360360" y="148392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1197000"/>
            <a:ext cx="6192720" cy="554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мериканский изобретатель Чарльз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удьир с 1834 г. упорно пытался «спасти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аучук. Но только с 1839 г. ем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везло. В этом году он обнаружи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что нагревание  каучука с сер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страняет его неблагоприятные свой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н положил на печь кусок покрыт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аучуком ткани, на которую бы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несён слой серы. Через некоторое время Гудь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бнаружил кожеподобный материал – резин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Этот процесс был назван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улканизацией. Открытие резин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ивело к широкому её применению: к 1919 го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ыло предложено уже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0 000 различных издел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з рези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0200" y="6391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2316240" cy="36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5:06:46Z</dcterms:created>
  <dc:creator>1</dc:creator>
  <dc:description/>
  <dc:language>en-US</dc:language>
  <cp:lastModifiedBy>хозяин</cp:lastModifiedBy>
  <dcterms:modified xsi:type="dcterms:W3CDTF">2008-11-11T19:00:5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