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7BC-4EB3-4C72-82A5-B1C5FC3E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12B-AC7D-4A82-B6BF-3B27E788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9C5-8B11-43E8-8952-81D1F586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B51-2F45-47D3-A021-FA886173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1CC-B757-4CC1-BFA2-551FDB27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2BC-8950-46CF-82CD-C38088C6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1D0-37F7-4F2E-BE83-4A804092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109-CA2E-4AA5-A2B3-8EE7010A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9DF-2FFB-46C2-A6FC-5A1D29A4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009-C848-40FA-8CF8-5308986F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E69-0470-483C-BB53-0264B853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264-2B67-42B0-96A4-EEBD784C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4882-2C06-47DF-A73D-01BA963B6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Пермь, вид с самоле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74016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Социально – значимый проект  </a:t>
            </a: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Уголок земли любим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Пермь, вид с самоле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438120"/>
            <a:ext cx="8353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ктуа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13год.  Городу Перми исполняется 290 лет. Солидный возраст, но наш город с каждым годом становится всё краше и краше. Появляются новые современные комплексы, жилые дома, реконструируются старые здания, скверы, парки. Мы, ученики 3 «б» класса СОШ №24 и  наши родители тоже не захотели оставаться в стороне.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У каждого человека есть своя малая Родина. Данный проект будет иметь большое значение в воспитании и формировании личности, воспитания гражданина и патриота. Проект позволит привлечь к поиску информации о родном крае, заинтересовать в пропаганде культурно-исторических наследий малой Родины, вовлечению семьи в совмест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Пермь, вид с самоле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560520"/>
            <a:ext cx="86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обл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опрос духовно-нравственного воспитания детей является одной из ключевых проблем, стоящих перед каждым родителем, обществом, школой.  Дети чутки и восприимчивы ко всему, что их окружает. Обсуждая тему проекта, я выяснила, что многие дети не знают достопримечательностей Гайвы. Так возникла идея создать путеводитель по Гай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Пермь, вид с самоле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412920"/>
            <a:ext cx="85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ипоте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Если мы создадим данный проект, ученики включатся в поисковую работу, то каждый ребенок «раскроется» по-своему; сначала документально, а затем визуально познакомятся с «главными» местами своей малой Родины, что поможет формированию активной гражданской позиции и чувству ответственности, и гордости за свою малую Род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Пермь, вид с самоле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-5400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Цель: формирование активной гражданской позиции и чувства ответственности за настоящее и будущее города у детей и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Пермь, вид с самоле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477720"/>
            <a:ext cx="849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Изучение истории  малой Родины с активным использованием группов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   Создание перечня «главных» мест малой Ро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Оформление фотогалереи, передвижной выставки для учащихся, родителей и жителей микрорай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Воспитание нравственных чувств через приобретенный материал, через отношение к малой Род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Установление связей с Пермским Краеведческим музеем(познакомиться с прошлым и настоящим города Перми), туристическими фирмами для посещения экскурсий, проводимых  по го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. Поиск спонсоров для оказания помощи в распечатке созданного  фотокаленда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Пермь, вид с самоле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79280" y="808200"/>
          <a:ext cx="8713800" cy="2396880"/>
        </p:xfrm>
        <a:graphic>
          <a:graphicData uri="http://schemas.openxmlformats.org/drawingml/2006/table">
            <a:tbl>
              <a:tblPr/>
              <a:tblGrid>
                <a:gridCol w="3025800"/>
                <a:gridCol w="582840"/>
                <a:gridCol w="857160"/>
                <a:gridCol w="987480"/>
                <a:gridCol w="1003320"/>
                <a:gridCol w="1066680"/>
                <a:gridCol w="11905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на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не зна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 рассказа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такое «малая роди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м нужно изучать историю малой родин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достопримечательности  «м.р.» вы знаете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0" y="335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3860640"/>
          <a:ext cx="8713800" cy="2846520"/>
        </p:xfrm>
        <a:graphic>
          <a:graphicData uri="http://schemas.openxmlformats.org/drawingml/2006/table">
            <a:tbl>
              <a:tblPr/>
              <a:tblGrid>
                <a:gridCol w="1679760"/>
                <a:gridCol w="2124000"/>
                <a:gridCol w="2268360"/>
                <a:gridCol w="2641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ил учитель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рано частично – самостояте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рана самостояте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съём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ответствует тем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 соответству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ует тем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информаци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ил учи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ена частично самостоя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  фото и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ответству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 соответству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ует данной тем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Пермь, вид с самоле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60552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ланируемые результа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. Изучить  историю малой Родины с активным использованием группов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.  Выделить и посетить «главные» места малой Род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. Оформить фотогалерею, передвижную выставку для учеников школы, родителей, жителей микро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. Установить связь с Пермским Краеведческим музеем для  изучения истории родного города, с турфирмами для посещения экскурсий по городу Перми, с районными и городскими библиотеками, с местными старожилами для «добычи»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5. Выпустить фотокалендарь «главных» мест малой Ро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5:25:50Z</dcterms:created>
  <dc:creator>user</dc:creator>
  <dc:description/>
  <dc:language>en-US</dc:language>
  <cp:lastModifiedBy>user</cp:lastModifiedBy>
  <dcterms:modified xsi:type="dcterms:W3CDTF">2013-10-12T11:38:22Z</dcterms:modified>
  <cp:revision>3</cp:revision>
  <dc:subject/>
  <dc:title>Слайд 1</dc:title>
</cp:coreProperties>
</file>