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DF21-4CC5-45EF-8452-8883D8E6F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7DEB-D69B-4632-9466-A7C7D908F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E166-0DC2-47B0-985D-535C7D2D8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32C4-E9F8-4B20-8230-557358265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7FCA6-EAB6-4660-BE46-D23202397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1B857-6D0E-4C03-998A-899B922C5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B7730-A084-4649-BE7E-AB64A9C5B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4A516-4BB1-4DAE-9466-E1DB27CDE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112F3-E179-4275-B84B-68900AE00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69704-2ED5-441B-B6BE-672E1EB41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94B99-B011-4586-8212-E28A3F43F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978C-282F-4A18-99E3-4D9B20EEA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4A62F-82E6-4280-A994-5955EF18E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B8A19-3C5F-4BC6-B2C1-DF92DAC3D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302E0-354D-4C4C-8C0A-EEA787596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85093-DD8F-4739-84A1-FCAAABC2B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F2765-6106-4D9F-8D9E-F4801210A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7801-F58E-4763-B12C-EFD6521D6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2A92-539F-48F1-92ED-DD8C86DCC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435F-843F-40C9-85E9-274797CDB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09B5-CF6D-404A-96CA-B5EFAADB1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703D-61F9-46D2-89BD-AC9942F71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078B-F755-41A6-8156-6EBD968D8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77D1-0174-4F8D-B7C1-926FDA1F0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4B37F-220F-462F-82AD-A6CD719188C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DB6AD-022F-4D1A-BC0E-3DF2F347525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611280" y="836640"/>
            <a:ext cx="792144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66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«Это русское раздолье –это Родина моя»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6600"/>
                </a:solidFill>
                <a:uFillTx/>
                <a:latin typeface="Times New Roman"/>
              </a:rPr>
              <a:t>ЦЕЛИ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4160" y="1609560"/>
            <a:ext cx="7629480" cy="35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66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Garamond"/>
              </a:rPr>
              <a:t>Прививать интерес к   </a:t>
            </a:r>
            <a:r>
              <a:rPr b="1" i="1" lang="en-US" sz="3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Garamond"/>
              </a:rPr>
              <a:t>окружающему мир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66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Garamond"/>
              </a:rPr>
              <a:t>Воспитывать любовь и </a:t>
            </a:r>
            <a:r>
              <a:rPr b="1" i="1" lang="en-US" sz="3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Garamond"/>
              </a:rPr>
              <a:t>уважение к своей стране 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1" i="1" lang="en-US" sz="3600" spc="-1" strike="noStrike">
                <a:solidFill>
                  <a:srgbClr val="000000"/>
                </a:solidFill>
                <a:latin typeface="Garamond"/>
              </a:rPr>
              <a:t>к своему родному краю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200"/>
                            </p:stCondLst>
                            <p:childTnLst>
                              <p:par>
                                <p:cTn id="2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ТО –ЧУДНОЕ ПРИВОЛЬЕ,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ТО –НИВЫ И ПОЛЯ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932360" y="2421000"/>
            <a:ext cx="3168720" cy="28796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1042920" y="2421000"/>
            <a:ext cx="3024360" cy="28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ЭТО – РУССКОЕ РАЗДОЛЬЕ,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ЭТО –РУССКАЯ ЗЕМЛЯ!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124000" y="2060640"/>
            <a:ext cx="4896000" cy="33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ЭТО –ГОРЫ –ИСПОЛИНЫ,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971640" y="2781360"/>
            <a:ext cx="3024000" cy="30240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4716360" y="2781360"/>
            <a:ext cx="3311640" cy="29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ЭТО –РЕКИ И БАЙКАЛ: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835280" y="2205000"/>
            <a:ext cx="5184720" cy="34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3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ЭТО –РУССКИЕ КАРТИНЫ ,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ЭТО –РОДИНА МОЯ!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908000" y="2421000"/>
            <a:ext cx="5400720" cy="33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600"/>
                            </p:stCondLst>
                            <p:childTnLst>
                              <p:par>
                                <p:cTn id="9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4643280" y="1600200"/>
            <a:ext cx="4043520" cy="45259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1619280" y="2852640"/>
            <a:ext cx="4608360" cy="302436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-360" y="476280"/>
            <a:ext cx="7667640" cy="54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ОТ МОРЕЙ ,ДО ГОР ВЫСОКИХ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ОСРЕДИ РОДНЫХ ШИРОТ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СЕ БЕГУТ,БЕГУТ ДОРОГ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И ЗОВУТ ОНИ ВПЕРЕД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10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10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10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2484360" y="2133720"/>
            <a:ext cx="4175280" cy="3527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8T12:40:24Z</dcterms:created>
  <dc:creator>user</dc:creator>
  <dc:description/>
  <dc:language>en-US</dc:language>
  <cp:lastModifiedBy>Asus</cp:lastModifiedBy>
  <dcterms:modified xsi:type="dcterms:W3CDTF">2013-10-12T01:58:37Z</dcterms:modified>
  <cp:revision>15</cp:revision>
  <dc:subject/>
  <dc:title>«Это русское раздолье- это Родина моя» .</dc:title>
</cp:coreProperties>
</file>