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5076-CACC-4FBD-9CC8-01FAB37EA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D8FF-C4BF-4FE9-997F-2FFC2F1E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E5E5-F0D4-4864-A2A2-D016ED2FB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89E3-7615-404A-9D24-87162486A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12A0-D629-4E8F-8893-2E4F4023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1CCB-F73A-48D3-A5A5-5CD3831F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C824-EDCB-46CA-97D3-80B65472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057B-899C-4AF7-8BD2-97631AF7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1208-4617-451B-B01D-F7BDF53D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4737-9F70-40EF-8D2A-E17AA8D0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BA37-426B-4269-96AA-E072F790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5A85-2020-4D39-B910-CD3B7EF4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69c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F5C3-E5E4-40EC-815D-C839504FFC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571680" y="214200"/>
            <a:ext cx="79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ть учебно – воспитательный процесс, сохраняя здоровье шк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3"/>
          <p:cNvSpPr/>
          <p:nvPr/>
        </p:nvSpPr>
        <p:spPr>
          <a:xfrm>
            <a:off x="1785960" y="1214280"/>
            <a:ext cx="54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e75a3"/>
                </a:solidFill>
                <a:latin typeface="Times New Roman"/>
                <a:ea typeface="Times New Roman"/>
              </a:rPr>
              <a:t>Проект по тем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3571920" y="3714840"/>
            <a:ext cx="4714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 проектом работа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и 8а класса МБОУ гимназ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Мичуринска Тамб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ов Андрей, Попов Макс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Прямоугольник 5" descr=""/>
          <p:cNvPicPr/>
          <p:nvPr/>
        </p:nvPicPr>
        <p:blipFill>
          <a:blip r:embed="rId1"/>
          <a:stretch/>
        </p:blipFill>
        <p:spPr>
          <a:xfrm>
            <a:off x="480960" y="1725480"/>
            <a:ext cx="809640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142920" y="142920"/>
            <a:ext cx="6000840" cy="1008720"/>
          </a:xfrm>
          <a:prstGeom prst="rect">
            <a:avLst/>
          </a:prstGeom>
          <a:solidFill>
            <a:srgbClr val="fefac9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ровень шума не должен превышать 50 дБ. Шум от приборов не должен превышать уровень фонового шума более чем на 5 д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"/>
          <p:cNvSpPr/>
          <p:nvPr/>
        </p:nvSpPr>
        <p:spPr>
          <a:xfrm>
            <a:off x="214200" y="1214280"/>
            <a:ext cx="6000840" cy="1923480"/>
          </a:xfrm>
          <a:prstGeom prst="rect">
            <a:avLst/>
          </a:prstGeom>
          <a:solidFill>
            <a:srgbClr val="fdf69c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Мебель светлых тонов (светло – зелёный, серовато – голубой, зеленовато – жёлтый и др.). Блестящая поверхность рабочих столов оказывает слепящее действие на глаза, утомляет, вызывает снижение остроты зрения, падение работоспособ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"/>
          <p:cNvSpPr/>
          <p:nvPr/>
        </p:nvSpPr>
        <p:spPr>
          <a:xfrm>
            <a:off x="2928960" y="2928960"/>
            <a:ext cx="6072120" cy="1313640"/>
          </a:xfrm>
          <a:prstGeom prst="rect">
            <a:avLst/>
          </a:prstGeom>
          <a:solidFill>
            <a:srgbClr val="fcf059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 Освещённость не менее 500 люкс. При снижении освещённости до 240 люкс отмечается ухудшение работоспособности. Необходимо равномерное распределение светового пот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4"/>
          <p:cNvSpPr/>
          <p:nvPr/>
        </p:nvSpPr>
        <p:spPr>
          <a:xfrm>
            <a:off x="2928960" y="4357800"/>
            <a:ext cx="6072120" cy="1313640"/>
          </a:xfrm>
          <a:prstGeom prst="rect">
            <a:avLst/>
          </a:prstGeom>
          <a:solidFill>
            <a:srgbClr val="f5e4a9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воевременно (до развития утомления ) делать перерыв для отдыха 10 мин. Общая длительность отдыха должна составлять не менее 10 – 15 % от длительности работы на компьюте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5"/>
          <p:cNvSpPr/>
          <p:nvPr/>
        </p:nvSpPr>
        <p:spPr>
          <a:xfrm>
            <a:off x="2928960" y="5786280"/>
            <a:ext cx="6072120" cy="703800"/>
          </a:xfrm>
          <a:prstGeom prst="rect">
            <a:avLst/>
          </a:prstGeom>
          <a:solidFill>
            <a:srgbClr val="f1d77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6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 Для предупреждения утомления необходимо отводить время на специальную гимнаст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571680" y="214200"/>
            <a:ext cx="807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пражнения, снижающие вредное воздействие компьютера на орган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785880" y="2071800"/>
            <a:ext cx="3357360" cy="201420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д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рно – двигательной систем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4714920" y="2000160"/>
            <a:ext cx="3500280" cy="25012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для гл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571680" y="214200"/>
            <a:ext cx="785808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сточники информа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school5-kalin.narod.ru/elektiv/sa1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ourcoolclass.narod.ru/teachers_advise.files/22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есов Д.В., Леонова Л.А., СавватееваС.С. Гигиенические рекомендации к работе с электронно – вычислительной техникой. Биология в школе №5, 19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3506760" y="428760"/>
            <a:ext cx="239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блем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2"/>
          <p:cNvSpPr/>
          <p:nvPr/>
        </p:nvSpPr>
        <p:spPr>
          <a:xfrm>
            <a:off x="714240" y="1571760"/>
            <a:ext cx="7786800" cy="1556280"/>
          </a:xfrm>
          <a:prstGeom prst="rect">
            <a:avLst/>
          </a:prstGeom>
          <a:solidFill>
            <a:srgbClr val="f5e4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уменьшить вредное воздействие компьюте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рганизм при работе с н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Схема 1" descr=""/>
          <p:cNvPicPr/>
          <p:nvPr/>
        </p:nvPicPr>
        <p:blipFill>
          <a:blip r:embed="rId1"/>
          <a:stretch/>
        </p:blipFill>
        <p:spPr>
          <a:xfrm>
            <a:off x="1268280" y="749160"/>
            <a:ext cx="675972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1000080" y="285840"/>
            <a:ext cx="735804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Цель рабо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физиолого - гигиенические требования к рабочему месту обучающихся при работе с компьюте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рекомендации к организации рабочего места обучаю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ь важность соблюдения условий труда при работе с компьюте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добрать упражнения, снижающие вредное воздействие компьютера на организ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Прямоугольник 1" descr=""/>
          <p:cNvPicPr/>
          <p:nvPr/>
        </p:nvPicPr>
        <p:blipFill>
          <a:blip r:embed="rId1"/>
          <a:stretch/>
        </p:blipFill>
        <p:spPr>
          <a:xfrm>
            <a:off x="1109520" y="1152360"/>
            <a:ext cx="7444080" cy="12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285840" y="142920"/>
            <a:ext cx="8501040" cy="63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редные факторы при работе за компьютер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дячее положение в течение длительного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Воздействие электромагнитного изл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узка на органы з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 в работе опорно – двигательной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Психические расстрой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571680" y="1428840"/>
            <a:ext cx="7858080" cy="100872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одит к сдавливанию межпозвоночных дисков, изменению положения диафрагмы, что приводит к нарушению дыхания и кровообращ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571680" y="3357720"/>
            <a:ext cx="7858080" cy="3988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никает головная боль, головокружение, снижается острота з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5"/>
          <p:cNvSpPr/>
          <p:nvPr/>
        </p:nvSpPr>
        <p:spPr>
          <a:xfrm>
            <a:off x="571680" y="4429080"/>
            <a:ext cx="7858080" cy="3988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ждение суставного и связочного аппар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357120" y="142920"/>
            <a:ext cx="8429760" cy="35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екомендации к организации рабочего места обучающего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мебели в соответствии с ростом уча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ая рабочая поза и угол наклона туловищ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ение дисплея так, что верхний край экрана был примерно на 50  ниже уровня глаз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ояние от глаз до экрана не менее 50 см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2643120" y="3214800"/>
            <a:ext cx="37148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142920" y="214200"/>
            <a:ext cx="90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должительность  работы за компьютер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"/>
          <p:cNvSpPr/>
          <p:nvPr/>
        </p:nvSpPr>
        <p:spPr>
          <a:xfrm>
            <a:off x="1214280" y="1285920"/>
            <a:ext cx="6929640" cy="37530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ля учащихся 1 класс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0 мину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5 классов - 15 мину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7 классов - 20 мину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-9 классов - 25 минут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11 классов - 30 мину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бщая продолжительность общения с компьютером в течение дня должна быть:</a:t>
            </a:r>
            <a:br>
              <a:rPr sz="2000"/>
            </a:b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ля детей дошкольного возраст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более 7-10 мин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-10 лет - 45 минут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1-13 лет - 1 час 30 минут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4-16 лет - 2 часа 15 мин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714240" y="14292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словия труда при работе с компьюте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2"/>
          <p:cNvSpPr/>
          <p:nvPr/>
        </p:nvSpPr>
        <p:spPr>
          <a:xfrm>
            <a:off x="428760" y="1071720"/>
            <a:ext cx="4071960" cy="1739880"/>
          </a:xfrm>
          <a:prstGeom prst="rect">
            <a:avLst/>
          </a:prstGeom>
          <a:solidFill>
            <a:srgbClr val="fcf059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оисходит ионизация воздуха с образованием положительных ионов, которые считаются вредными. Осаждаясь на пылинках они попадают вместе с воздухом в дыхательные пу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571680" y="3429000"/>
            <a:ext cx="3571560" cy="1008720"/>
          </a:xfrm>
          <a:prstGeom prst="rect">
            <a:avLst/>
          </a:prstGeom>
          <a:solidFill>
            <a:srgbClr val="f5e4a9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едневно влажная уборка и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ое проветривание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ение д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5786280" y="3000240"/>
            <a:ext cx="2214720" cy="32148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5"/>
          <p:cNvSpPr/>
          <p:nvPr/>
        </p:nvSpPr>
        <p:spPr>
          <a:xfrm>
            <a:off x="4929120" y="1071720"/>
            <a:ext cx="3786120" cy="1618560"/>
          </a:xfrm>
          <a:prstGeom prst="rect">
            <a:avLst/>
          </a:prstGeom>
          <a:solidFill>
            <a:srgbClr val="f1d77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яет поглощённые компьютером отрицательные ионы, делая воздух свежим и лёгким для дых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7"/>
          <p:cNvSpPr/>
          <p:nvPr/>
        </p:nvSpPr>
        <p:spPr>
          <a:xfrm>
            <a:off x="5899320" y="614376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аук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Прямая со стрелкой 9"/>
          <p:cNvCxnSpPr/>
          <p:nvPr/>
        </p:nvCxnSpPr>
        <p:spPr>
          <a:xfrm flipV="1">
            <a:off x="6858000" y="2785680"/>
            <a:ext cx="2160" cy="286560"/>
          </a:xfrm>
          <a:prstGeom prst="straightConnector1">
            <a:avLst/>
          </a:prstGeom>
          <a:ln w="9360">
            <a:solidFill>
              <a:srgbClr val="a1b28e"/>
            </a:solidFill>
            <a:miter/>
            <a:tailEnd len="med" type="arrow" w="med"/>
          </a:ln>
        </p:spPr>
      </p:cxnSp>
      <p:cxnSp>
        <p:nvCxnSpPr>
          <p:cNvPr id="65" name="Прямая со стрелкой 14"/>
          <p:cNvCxnSpPr/>
          <p:nvPr/>
        </p:nvCxnSpPr>
        <p:spPr>
          <a:xfrm flipH="1">
            <a:off x="2356560" y="2857320"/>
            <a:ext cx="2520" cy="500760"/>
          </a:xfrm>
          <a:prstGeom prst="straightConnector1">
            <a:avLst/>
          </a:prstGeom>
          <a:ln w="9360">
            <a:solidFill>
              <a:srgbClr val="a1b28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6T12:09:32Z</dcterms:created>
  <dc:creator>Alexxx</dc:creator>
  <dc:description/>
  <dc:language>en-US</dc:language>
  <cp:lastModifiedBy>alex</cp:lastModifiedBy>
  <dcterms:modified xsi:type="dcterms:W3CDTF">2013-10-12T17:52:53Z</dcterms:modified>
  <cp:revision>42</cp:revision>
  <dc:subject/>
  <dc:title>Слайд 1</dc:title>
</cp:coreProperties>
</file>