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2F0-B635-43A4-9AA7-DFAECABA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811-9931-4D6E-AE4D-28B3752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A76-AD00-4618-B932-FE6E7D06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C63-A07E-4893-9EB4-CBA1815F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DDA-201E-444D-AA11-E6D21B5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EA5-436C-4633-9C9A-FE7C0D3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F03-E667-434A-BA7F-C46FDD8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0DC-48AC-4DBB-A0AF-1CEBE21D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2A9-1779-4021-901C-5BF5A46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679-D0FE-4B63-9FEE-00B4AF4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26B-E381-467D-AE2A-0A57415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4E1-7080-434C-B8D3-A091FB7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8DC-1606-4CDE-AB3F-30260D8A1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652320" y="615960"/>
            <a:ext cx="8021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Структура проектной деятельности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ельный (исследовательский)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итель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752720" cy="316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927320" cy="32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Usre\Downloads\IMG_1693.JPG"/>
          <p:cNvPicPr/>
          <p:nvPr/>
        </p:nvPicPr>
        <p:blipFill>
          <a:blip r:embed="rId1"/>
          <a:stretch/>
        </p:blipFill>
        <p:spPr>
          <a:xfrm>
            <a:off x="3635280" y="3068640"/>
            <a:ext cx="5221440" cy="347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576760" cy="3716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727440" cy="496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089440" cy="5089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921200" cy="36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1" name="Прямоугольник 2"/>
          <p:cNvSpPr/>
          <p:nvPr/>
        </p:nvSpPr>
        <p:spPr>
          <a:xfrm>
            <a:off x="3276720" y="1341360"/>
            <a:ext cx="1655640" cy="129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817880" cy="361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re\Desktop\SDC13837.JPG"/>
          <p:cNvPicPr/>
          <p:nvPr/>
        </p:nvPicPr>
        <p:blipFill>
          <a:blip r:embed="rId1"/>
          <a:stretch/>
        </p:blipFill>
        <p:spPr>
          <a:xfrm>
            <a:off x="468360" y="333360"/>
            <a:ext cx="3840120" cy="2879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Picture 3" descr="C:\Users\Usre\Desktop\SDC13839.JPG"/>
          <p:cNvPicPr/>
          <p:nvPr/>
        </p:nvPicPr>
        <p:blipFill>
          <a:blip r:embed="rId2"/>
          <a:stretch/>
        </p:blipFill>
        <p:spPr>
          <a:xfrm>
            <a:off x="4788000" y="404640"/>
            <a:ext cx="3744720" cy="280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Picture 4" descr="C:\Users\Usre\Desktop\SDC13838.JPG"/>
          <p:cNvPicPr/>
          <p:nvPr/>
        </p:nvPicPr>
        <p:blipFill>
          <a:blip r:embed="rId3"/>
          <a:stretch/>
        </p:blipFill>
        <p:spPr>
          <a:xfrm>
            <a:off x="468360" y="3716280"/>
            <a:ext cx="3840120" cy="288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5" descr="C:\Users\Usre\Desktop\SDC13842.JPG"/>
          <p:cNvPicPr/>
          <p:nvPr/>
        </p:nvPicPr>
        <p:blipFill>
          <a:blip r:embed="rId4"/>
          <a:stretch/>
        </p:blipFill>
        <p:spPr>
          <a:xfrm>
            <a:off x="4716360" y="3716280"/>
            <a:ext cx="3888000" cy="291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Monotype Corsiva"/>
              </a:rPr>
              <a:t>«Если в конце исследования 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Monotype Corsiva"/>
              </a:rPr>
              <a:t>не видно начала следующего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Monotype Corsiva"/>
              </a:rPr>
              <a:t>- значит исследование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Monotype Corsiva"/>
              </a:rPr>
              <a:t>не доведено до конца»</a:t>
            </a:r>
            <a:br>
              <a:rPr sz="48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Monotype Corsiva"/>
              </a:rPr>
              <a:t>                                           Дмитрий Лихач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4346640" y="658800"/>
            <a:ext cx="4992480" cy="252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059000" cy="3743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4370400"/>
            <a:ext cx="91569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1463760"/>
            <a:ext cx="9375840" cy="25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Проектно-исследовательск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по проектированию собственного исследования, предполагающая выделение целей и задач, принципов отбора методик, планирование хода исследования, определение ожидаемых результатов, оценка реализуемости исследования, определение необходимых ресурсов. Она является организационной рамкой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cc"/>
                </a:solidFill>
                <a:latin typeface="Arial"/>
              </a:rPr>
              <a:t>Цели проектов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формирование системы интеллектуальных, общетрудовых и специальных знаний, умений и  навыков учащих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развитие личности младшего школьник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воспитание коммуникативности, инициативности, самостоятельности и предприимчив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18900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Типология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количеству участ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ные  и  пар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продолжи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ые, средней продолжительности и долгоср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типу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й, исследовательский,  ролево-игровой, практико-ориентированный,  информа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количеству предме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опроект и межпредметный проек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чебный проект позволяет уч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тизации, целеполаганию и планированию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(самопредъявлению) хода своей деятельности и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ю готовить материал для проведения презентации в наглядной форме, используя для  этого специально подготовленный продукт проек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у нужной информации, вычленению и усвоению необходимого знания информационного п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ому применению знаний, умений и навыков в различных, в том и нетиповых, ситуа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у, освоению и использованию адекватной технологии изготовления продукта проек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ю исследования (анализу, синтезу, выдвижению гипотезы, детализации и обобщен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0бщеучебные умения и навыки, формирующиеся в процессе проектно-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флексивны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исковые (исследовательские)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выки оценочной самосто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Умения и навыки работы в сотруднич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Менеджерские умения и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Коммуникативные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Презентационные умения и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Функции творческих про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­ развитие творческих способностей (восприятия, внимания, воображания, памяти, мышления, ре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ширение кругозора учащихся, познавательных интересов, формирование мировоз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спитывающ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тановление положительных морально-волевых качеств личности ребёнка: инициативность, коммуникативность, самостоятельность, широта интересов, предприимч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13:23Z</dcterms:created>
  <dc:creator>морозовы</dc:creator>
  <dc:description/>
  <dc:language>en-US</dc:language>
  <cp:lastModifiedBy>Usre</cp:lastModifiedBy>
  <dcterms:modified xsi:type="dcterms:W3CDTF">2013-10-12T16:53:27Z</dcterms:modified>
  <cp:revision>15</cp:revision>
  <dc:subject/>
  <dc:title>Проектно – исследовательская   деятельность   в начальной школе</dc:title>
</cp:coreProperties>
</file>